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19C-3695-4827-B22C-A721E570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EED-5C7D-4C2F-A42C-511AB0C3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6E4-5CE6-406B-ACD6-0C259243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C05-EC15-4CA9-B663-05F42B71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3B1-D011-4A46-8EE1-357E8AA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43D-1AB3-4438-BB62-57B29EFA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A71-EBD2-4614-9344-82D278F9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A36-BDB0-4721-B26D-CA7901DB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EA7-FB5D-4225-B141-113FAE56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F04-368E-4C62-8754-D042952F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2C4-15D9-40EA-A2F6-ED37EDF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9CC-0B59-48EF-9B36-1029FE4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328-996E-4E4D-9C2A-068B11D72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9120" y="70930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413000" y="2195640"/>
            <a:ext cx="4024080" cy="2915640"/>
            <a:chOff x="1413000" y="2195640"/>
            <a:chExt cx="4024080" cy="2915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413000" y="2244240"/>
              <a:ext cx="4024080" cy="28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3459600" y="2195640"/>
              <a:ext cx="1842840" cy="1315800"/>
              <a:chOff x="3459600" y="2195640"/>
              <a:chExt cx="1842840" cy="1315800"/>
            </a:xfrm>
          </p:grpSpPr>
          <p:sp>
            <p:nvSpPr>
              <p:cNvPr id="45" name=""/>
              <p:cNvSpPr/>
              <p:nvPr/>
            </p:nvSpPr>
            <p:spPr>
              <a:xfrm>
                <a:off x="4944960" y="26618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944960" y="31287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44960" y="2195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3459600" y="2840760"/>
                <a:ext cx="35712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3741840" y="3216240"/>
                <a:ext cx="35604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4351320" y="3170520"/>
                <a:ext cx="385920" cy="1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4354200" y="3374280"/>
                <a:ext cx="38016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29120" y="81010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93840" y="609480"/>
            <a:ext cx="4270320" cy="3070440"/>
            <a:chOff x="1293840" y="609480"/>
            <a:chExt cx="4270320" cy="3070440"/>
          </a:xfrm>
        </p:grpSpPr>
        <p:grpSp>
          <p:nvGrpSpPr>
            <p:cNvPr id="54" name=""/>
            <p:cNvGrpSpPr/>
            <p:nvPr/>
          </p:nvGrpSpPr>
          <p:grpSpPr>
            <a:xfrm>
              <a:off x="1293840" y="609480"/>
              <a:ext cx="4270320" cy="3070440"/>
              <a:chOff x="1293840" y="609480"/>
              <a:chExt cx="4270320" cy="307044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293840" y="693720"/>
                <a:ext cx="4270320" cy="2986200"/>
                <a:chOff x="1293840" y="693720"/>
                <a:chExt cx="4270320" cy="2986200"/>
              </a:xfrm>
            </p:grpSpPr>
            <p:pic>
              <p:nvPicPr>
                <p:cNvPr id="5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3840" y="693720"/>
                  <a:ext cx="4270320" cy="29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>
                  <a:off x="4374000" y="114444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361760" y="1976400"/>
                  <a:ext cx="40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4940280" y="609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816440" y="97164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219320" y="4311720"/>
            <a:ext cx="4418640" cy="3067920"/>
            <a:chOff x="1219320" y="4311720"/>
            <a:chExt cx="4418640" cy="3067920"/>
          </a:xfrm>
        </p:grpSpPr>
        <p:grpSp>
          <p:nvGrpSpPr>
            <p:cNvPr id="62" name=""/>
            <p:cNvGrpSpPr/>
            <p:nvPr/>
          </p:nvGrpSpPr>
          <p:grpSpPr>
            <a:xfrm>
              <a:off x="1219320" y="4311720"/>
              <a:ext cx="4418640" cy="3067920"/>
              <a:chOff x="1219320" y="4311720"/>
              <a:chExt cx="4418640" cy="30679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219320" y="4439520"/>
                <a:ext cx="4418640" cy="2940120"/>
                <a:chOff x="1219320" y="4439520"/>
                <a:chExt cx="4418640" cy="2940120"/>
              </a:xfrm>
            </p:grpSpPr>
            <p:pic>
              <p:nvPicPr>
                <p:cNvPr id="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19320" y="4439520"/>
                  <a:ext cx="4418640" cy="29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>
                  <a:off x="4973400" y="531468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959720" y="6262560"/>
                  <a:ext cx="40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4997160" y="43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754440" y="471636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9120" y="817236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386000" y="825480"/>
            <a:ext cx="4083840" cy="2928240"/>
            <a:chOff x="1386000" y="825480"/>
            <a:chExt cx="4083840" cy="2928240"/>
          </a:xfrm>
        </p:grpSpPr>
        <p:grpSp>
          <p:nvGrpSpPr>
            <p:cNvPr id="71" name=""/>
            <p:cNvGrpSpPr/>
            <p:nvPr/>
          </p:nvGrpSpPr>
          <p:grpSpPr>
            <a:xfrm>
              <a:off x="1386000" y="862560"/>
              <a:ext cx="4083840" cy="2891160"/>
              <a:chOff x="1386000" y="862560"/>
              <a:chExt cx="4083840" cy="2891160"/>
            </a:xfrm>
          </p:grpSpPr>
          <p:pic>
            <p:nvPicPr>
              <p:cNvPr id="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6000" y="862560"/>
                <a:ext cx="4083840" cy="289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031280" y="1242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018320" y="2133360"/>
                <a:ext cx="40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755960" y="825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165320" y="4192560"/>
            <a:ext cx="4525920" cy="2965320"/>
            <a:chOff x="1165320" y="4192560"/>
            <a:chExt cx="4525920" cy="29653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165320" y="4245120"/>
              <a:ext cx="45259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659040" y="4336920"/>
              <a:ext cx="0" cy="22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40640" y="46260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29840" y="505620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5280" y="4192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52920" y="1187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208160" y="538200"/>
            <a:ext cx="4478400" cy="7068960"/>
            <a:chOff x="1208160" y="538200"/>
            <a:chExt cx="4478400" cy="7068960"/>
          </a:xfrm>
        </p:grpSpPr>
        <p:grpSp>
          <p:nvGrpSpPr>
            <p:cNvPr id="84" name=""/>
            <p:cNvGrpSpPr/>
            <p:nvPr/>
          </p:nvGrpSpPr>
          <p:grpSpPr>
            <a:xfrm>
              <a:off x="1208160" y="4356000"/>
              <a:ext cx="4478400" cy="3251160"/>
              <a:chOff x="1208160" y="4356000"/>
              <a:chExt cx="4478400" cy="3251160"/>
            </a:xfrm>
          </p:grpSpPr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8160" y="4356000"/>
                <a:ext cx="429912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4820040" y="4365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377800" y="4856040"/>
                <a:ext cx="3308760" cy="1721160"/>
                <a:chOff x="2377800" y="4856040"/>
                <a:chExt cx="3308760" cy="1721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870440" y="6224400"/>
                  <a:ext cx="81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0.5 wt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870440" y="4856040"/>
                  <a:ext cx="81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6.7 wt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870440" y="5432400"/>
                  <a:ext cx="81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4.0 wt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870440" y="5792760"/>
                  <a:ext cx="81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2.0 wt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2385360" y="5158080"/>
                  <a:ext cx="372960" cy="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2377800" y="5376240"/>
                  <a:ext cx="372240" cy="6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2837880" y="5586480"/>
                  <a:ext cx="372960" cy="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3191760" y="5646240"/>
                  <a:ext cx="371520" cy="5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2750400" y="6325560"/>
                  <a:ext cx="368640" cy="7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3201840" y="6536520"/>
                  <a:ext cx="375480" cy="4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3384360" y="5987160"/>
                  <a:ext cx="375120" cy="42840"/>
                </a:xfrm>
                <a:prstGeom prst="line">
                  <a:avLst/>
                </a:prstGeom>
                <a:ln w="9360">
                  <a:solidFill>
                    <a:srgbClr val="4d4d4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1255680" y="538200"/>
              <a:ext cx="4346640" cy="3252600"/>
              <a:chOff x="1255680" y="538200"/>
              <a:chExt cx="4346640" cy="3252600"/>
            </a:xfrm>
          </p:grpSpPr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5680" y="561960"/>
                <a:ext cx="4346640" cy="322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" name=""/>
              <p:cNvGrpSpPr/>
              <p:nvPr/>
            </p:nvGrpSpPr>
            <p:grpSpPr>
              <a:xfrm>
                <a:off x="2245680" y="538200"/>
                <a:ext cx="3301560" cy="1955160"/>
                <a:chOff x="2245680" y="538200"/>
                <a:chExt cx="3301560" cy="1955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165280" y="2122560"/>
                  <a:ext cx="38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s-E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165280" y="1474920"/>
                  <a:ext cx="38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s-E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65280" y="1833480"/>
                  <a:ext cx="38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s-E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2245680" y="1572120"/>
                  <a:ext cx="372960" cy="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3325320" y="2222280"/>
                  <a:ext cx="376200" cy="32760"/>
                </a:xfrm>
                <a:prstGeom prst="line">
                  <a:avLst/>
                </a:prstGeom>
                <a:ln w="9360">
                  <a:solidFill>
                    <a:srgbClr val="4d4d4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4509360" y="1622160"/>
                  <a:ext cx="371520" cy="5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509560" y="2217960"/>
                  <a:ext cx="37404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3324600" y="2442240"/>
                  <a:ext cx="376920" cy="24120"/>
                </a:xfrm>
                <a:prstGeom prst="line">
                  <a:avLst/>
                </a:prstGeom>
                <a:ln w="9360">
                  <a:solidFill>
                    <a:srgbClr val="4d4d4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4686480" y="1837080"/>
                  <a:ext cx="37728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838760" y="53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2" name=""/>
          <p:cNvSpPr/>
          <p:nvPr/>
        </p:nvSpPr>
        <p:spPr>
          <a:xfrm>
            <a:off x="3129120" y="82440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46280" y="812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9120" y="80280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98680" y="826920"/>
            <a:ext cx="4306680" cy="3097440"/>
            <a:chOff x="1498680" y="826920"/>
            <a:chExt cx="4306680" cy="30974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498680" y="835200"/>
              <a:ext cx="4306680" cy="30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827240" y="18352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27240" y="1243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49320" y="147636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02080" y="826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18440" y="9000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4.0 wt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41360" y="4211640"/>
            <a:ext cx="4651560" cy="2975040"/>
            <a:chOff x="1341360" y="4211640"/>
            <a:chExt cx="4651560" cy="297504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341360" y="4211640"/>
              <a:ext cx="465156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560040" y="6831000"/>
              <a:ext cx="1012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Time / 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41720" y="78850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07920" y="1979640"/>
            <a:ext cx="4534200" cy="3040200"/>
            <a:chOff x="907920" y="1979640"/>
            <a:chExt cx="4534200" cy="30402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907920" y="1979640"/>
              <a:ext cx="4534200" cy="30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918880" y="320760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.7 wt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20120" y="282060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.0 wt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9120" y="845964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79480" y="538200"/>
            <a:ext cx="3281760" cy="2170800"/>
            <a:chOff x="1779480" y="538200"/>
            <a:chExt cx="3281760" cy="21708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rcRect l="0" t="0" r="0" b="12304"/>
            <a:stretch/>
          </p:blipFill>
          <p:spPr>
            <a:xfrm>
              <a:off x="1779480" y="539640"/>
              <a:ext cx="327816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764240" y="538200"/>
              <a:ext cx="293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286160" y="2401920"/>
              <a:ext cx="775080" cy="307080"/>
              <a:chOff x="4286160" y="2401920"/>
              <a:chExt cx="775080" cy="307080"/>
            </a:xfrm>
          </p:grpSpPr>
          <p:sp>
            <p:nvSpPr>
              <p:cNvPr id="135" name=""/>
              <p:cNvSpPr/>
              <p:nvPr/>
            </p:nvSpPr>
            <p:spPr>
              <a:xfrm>
                <a:off x="4286160" y="2401920"/>
                <a:ext cx="775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22760" y="2448000"/>
                <a:ext cx="1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773360" y="5148360"/>
            <a:ext cx="3287880" cy="2233440"/>
            <a:chOff x="1773360" y="5148360"/>
            <a:chExt cx="3287880" cy="223344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rcRect l="0" t="0" r="0" b="10174"/>
            <a:stretch/>
          </p:blipFill>
          <p:spPr>
            <a:xfrm>
              <a:off x="1773360" y="5153040"/>
              <a:ext cx="328284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773240" y="5148360"/>
              <a:ext cx="282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286160" y="7074000"/>
              <a:ext cx="775080" cy="307080"/>
              <a:chOff x="4286160" y="7074000"/>
              <a:chExt cx="775080" cy="3070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86160" y="7074000"/>
                <a:ext cx="775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22760" y="7119720"/>
                <a:ext cx="1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773360" y="2835360"/>
            <a:ext cx="3204720" cy="2168280"/>
            <a:chOff x="1773360" y="2835360"/>
            <a:chExt cx="3204720" cy="21682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rcRect l="0" t="0" r="0" b="10697"/>
            <a:stretch/>
          </p:blipFill>
          <p:spPr>
            <a:xfrm>
              <a:off x="1773360" y="2843280"/>
              <a:ext cx="319860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684680" y="2835360"/>
              <a:ext cx="293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197240" y="4691160"/>
              <a:ext cx="775080" cy="307080"/>
              <a:chOff x="4197240" y="4691160"/>
              <a:chExt cx="775080" cy="307080"/>
            </a:xfrm>
          </p:grpSpPr>
          <p:sp>
            <p:nvSpPr>
              <p:cNvPr id="147" name=""/>
              <p:cNvSpPr/>
              <p:nvPr/>
            </p:nvSpPr>
            <p:spPr>
              <a:xfrm>
                <a:off x="4197240" y="4691160"/>
                <a:ext cx="775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33840" y="4736880"/>
                <a:ext cx="1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9120" y="83170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2304"/>
          <a:stretch/>
        </p:blipFill>
        <p:spPr>
          <a:xfrm>
            <a:off x="1797120" y="324000"/>
            <a:ext cx="3278160" cy="21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3320" y="32220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95320" y="2987640"/>
            <a:ext cx="3283200" cy="2169360"/>
            <a:chOff x="1795320" y="2987640"/>
            <a:chExt cx="3283200" cy="2169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rcRect l="0" t="0" r="0" b="13044"/>
            <a:stretch/>
          </p:blipFill>
          <p:spPr>
            <a:xfrm>
              <a:off x="1795320" y="2989440"/>
              <a:ext cx="328320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4760" y="2987640"/>
              <a:ext cx="293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302000" y="4849920"/>
              <a:ext cx="775080" cy="307080"/>
              <a:chOff x="4302000" y="4849920"/>
              <a:chExt cx="775080" cy="307080"/>
            </a:xfrm>
          </p:grpSpPr>
          <p:sp>
            <p:nvSpPr>
              <p:cNvPr id="156" name=""/>
              <p:cNvSpPr/>
              <p:nvPr/>
            </p:nvSpPr>
            <p:spPr>
              <a:xfrm>
                <a:off x="4302000" y="4849920"/>
                <a:ext cx="775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38600" y="4895640"/>
                <a:ext cx="1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1779480" y="5651640"/>
            <a:ext cx="3288240" cy="2164320"/>
            <a:chOff x="1779480" y="5651640"/>
            <a:chExt cx="3288240" cy="216432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0" t="0" r="0" b="12933"/>
            <a:stretch/>
          </p:blipFill>
          <p:spPr>
            <a:xfrm>
              <a:off x="1779480" y="5653080"/>
              <a:ext cx="328320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779720" y="5651640"/>
              <a:ext cx="282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292640" y="7508880"/>
              <a:ext cx="775080" cy="307080"/>
              <a:chOff x="4292640" y="7508880"/>
              <a:chExt cx="775080" cy="307080"/>
            </a:xfrm>
          </p:grpSpPr>
          <p:sp>
            <p:nvSpPr>
              <p:cNvPr id="162" name=""/>
              <p:cNvSpPr/>
              <p:nvPr/>
            </p:nvSpPr>
            <p:spPr>
              <a:xfrm>
                <a:off x="4292640" y="7508880"/>
                <a:ext cx="775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9240" y="7554960"/>
                <a:ext cx="1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4302000" y="2179800"/>
            <a:ext cx="775080" cy="307080"/>
            <a:chOff x="4302000" y="2179800"/>
            <a:chExt cx="775080" cy="307080"/>
          </a:xfrm>
        </p:grpSpPr>
        <p:sp>
          <p:nvSpPr>
            <p:cNvPr id="165" name=""/>
            <p:cNvSpPr/>
            <p:nvPr/>
          </p:nvSpPr>
          <p:spPr>
            <a:xfrm>
              <a:off x="4302000" y="2179800"/>
              <a:ext cx="775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00 n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38600" y="222552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84480" y="82440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9440" y="2057400"/>
            <a:ext cx="6634440" cy="4756680"/>
            <a:chOff x="109440" y="2057400"/>
            <a:chExt cx="6634440" cy="4756680"/>
          </a:xfrm>
        </p:grpSpPr>
        <p:grpSp>
          <p:nvGrpSpPr>
            <p:cNvPr id="169" name=""/>
            <p:cNvGrpSpPr/>
            <p:nvPr/>
          </p:nvGrpSpPr>
          <p:grpSpPr>
            <a:xfrm>
              <a:off x="109440" y="2066760"/>
              <a:ext cx="3276720" cy="2145600"/>
              <a:chOff x="109440" y="2066760"/>
              <a:chExt cx="3276720" cy="2145600"/>
            </a:xfrm>
          </p:grpSpPr>
          <p:pic>
            <p:nvPicPr>
              <p:cNvPr id="170" name="" descr=""/>
              <p:cNvPicPr/>
              <p:nvPr/>
            </p:nvPicPr>
            <p:blipFill>
              <a:blip r:embed="rId1"/>
              <a:srcRect l="0" t="0" r="0" b="12791"/>
              <a:stretch/>
            </p:blipFill>
            <p:spPr>
              <a:xfrm>
                <a:off x="109440" y="2068560"/>
                <a:ext cx="3276720" cy="21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083040" y="2066760"/>
                <a:ext cx="2934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2801520" y="3905280"/>
                <a:ext cx="580320" cy="307080"/>
                <a:chOff x="2801520" y="3905280"/>
                <a:chExt cx="580320" cy="307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801520" y="3905280"/>
                  <a:ext cx="580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1 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971800" y="39542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109440" y="4616280"/>
              <a:ext cx="3281760" cy="2197800"/>
              <a:chOff x="109440" y="4616280"/>
              <a:chExt cx="3281760" cy="21978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2"/>
              <a:srcRect l="0" t="0" r="0" b="11327"/>
              <a:stretch/>
            </p:blipFill>
            <p:spPr>
              <a:xfrm>
                <a:off x="109440" y="4616280"/>
                <a:ext cx="3276720" cy="218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3101760" y="4621320"/>
                <a:ext cx="2829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2810880" y="6507000"/>
                <a:ext cx="580320" cy="307080"/>
                <a:chOff x="2810880" y="6507000"/>
                <a:chExt cx="580320" cy="307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810880" y="6507000"/>
                  <a:ext cx="580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1 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981160" y="655596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3467160" y="4606920"/>
              <a:ext cx="3276720" cy="2207160"/>
              <a:chOff x="3467160" y="4606920"/>
              <a:chExt cx="3276720" cy="22071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3"/>
              <a:srcRect l="0" t="0" r="0" b="11282"/>
              <a:stretch/>
            </p:blipFill>
            <p:spPr>
              <a:xfrm>
                <a:off x="3467160" y="4606920"/>
                <a:ext cx="3276720" cy="21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6443640" y="4608360"/>
                <a:ext cx="2934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160680" y="6507000"/>
                <a:ext cx="580320" cy="307080"/>
                <a:chOff x="6160680" y="6507000"/>
                <a:chExt cx="580320" cy="307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160680" y="6507000"/>
                  <a:ext cx="580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1 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30960" y="655596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3467160" y="2057400"/>
              <a:ext cx="3267000" cy="2158200"/>
              <a:chOff x="3467160" y="2057400"/>
              <a:chExt cx="3267000" cy="2158200"/>
            </a:xfrm>
          </p:grpSpPr>
          <p:pic>
            <p:nvPicPr>
              <p:cNvPr id="188" name="" descr=""/>
              <p:cNvPicPr/>
              <p:nvPr/>
            </p:nvPicPr>
            <p:blipFill>
              <a:blip r:embed="rId4"/>
              <a:srcRect l="0" t="0" r="0" b="12743"/>
              <a:stretch/>
            </p:blipFill>
            <p:spPr>
              <a:xfrm>
                <a:off x="3467160" y="2058840"/>
                <a:ext cx="3267000" cy="21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6429600" y="2057400"/>
                <a:ext cx="2934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6138360" y="3908520"/>
                <a:ext cx="580320" cy="307080"/>
                <a:chOff x="6138360" y="3908520"/>
                <a:chExt cx="580320" cy="307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138360" y="3908520"/>
                  <a:ext cx="580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1 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308640" y="395748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bke</cp:lastModifiedBy>
  <dcterms:modified xsi:type="dcterms:W3CDTF">2008-01-30T16:31:49Z</dcterms:modified>
  <cp:revision>80</cp:revision>
  <dc:subject/>
  <dc:title>PowerPoint Presentation</dc:title>
</cp:coreProperties>
</file>