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7B42-45EB-40F0-953C-9781D61C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7366-7401-44F6-9E0C-9A09F386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CF44-B1D2-4B24-A843-BA2F6AA1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F328-4F3C-48FF-92B8-537CBF58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9D81-42DF-4280-B3E2-D90B241E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2BC1-37D1-4570-82F3-834DD32D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4628-4B40-4494-A395-84BCDB50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3600-F8D2-4E54-8C4E-A5CE9BF0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F1AC-FC9D-4FED-B3C6-3B7A5444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6154-569A-458C-AC8E-577830DB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0F13-2350-4FCC-A106-04BB1558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8C3A-CCC5-42E8-9264-5C082C48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BF01-C8D1-46B8-AD69-F21304F7B4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332080" y="1641600"/>
            <a:ext cx="4492440" cy="3562200"/>
            <a:chOff x="2332080" y="1641600"/>
            <a:chExt cx="4492440" cy="3562200"/>
          </a:xfrm>
        </p:grpSpPr>
        <p:sp>
          <p:nvSpPr>
            <p:cNvPr id="42" name=""/>
            <p:cNvSpPr/>
            <p:nvPr/>
          </p:nvSpPr>
          <p:spPr>
            <a:xfrm>
              <a:off x="3219480" y="1743120"/>
              <a:ext cx="3430440" cy="268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219480" y="4427640"/>
              <a:ext cx="3430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219480" y="3981600"/>
              <a:ext cx="3430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219480" y="3535200"/>
              <a:ext cx="3430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219480" y="3090960"/>
              <a:ext cx="3430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19480" y="2635200"/>
              <a:ext cx="3430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19480" y="2189160"/>
              <a:ext cx="3430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19480" y="1743120"/>
              <a:ext cx="3430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46640" y="1743120"/>
              <a:ext cx="0" cy="268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73440" y="1743120"/>
              <a:ext cx="0" cy="268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09960" y="1743120"/>
              <a:ext cx="0" cy="268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37120" y="1743120"/>
              <a:ext cx="0" cy="268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89640" y="1743120"/>
              <a:ext cx="0" cy="268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16440" y="1743120"/>
              <a:ext cx="0" cy="268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052960" y="1743120"/>
              <a:ext cx="0" cy="268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80120" y="1743120"/>
              <a:ext cx="0" cy="268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32640" y="1743120"/>
              <a:ext cx="0" cy="268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59440" y="1743120"/>
              <a:ext cx="0" cy="268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95960" y="1743120"/>
              <a:ext cx="0" cy="268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23120" y="1743120"/>
              <a:ext cx="0" cy="268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363920" y="1743120"/>
              <a:ext cx="0" cy="268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506920" y="1743120"/>
              <a:ext cx="0" cy="268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49920" y="1743120"/>
              <a:ext cx="0" cy="268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19480" y="1743120"/>
              <a:ext cx="3430440" cy="26845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19480" y="1743120"/>
              <a:ext cx="0" cy="268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54320" y="4427640"/>
              <a:ext cx="651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54320" y="3981600"/>
              <a:ext cx="651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154320" y="3535200"/>
              <a:ext cx="651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154320" y="3090960"/>
              <a:ext cx="651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154320" y="2635200"/>
              <a:ext cx="651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54320" y="2189160"/>
              <a:ext cx="651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54320" y="1743120"/>
              <a:ext cx="651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19480" y="4381560"/>
              <a:ext cx="3430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3219480" y="4381200"/>
              <a:ext cx="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4363920" y="4381200"/>
              <a:ext cx="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5506920" y="4381200"/>
              <a:ext cx="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6649920" y="4381200"/>
              <a:ext cx="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267000" y="2792520"/>
              <a:ext cx="10476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71760" y="2644920"/>
              <a:ext cx="103320" cy="147600"/>
            </a:xfrm>
            <a:custGeom>
              <a:avLst/>
              <a:gdLst/>
              <a:ahLst/>
              <a:rect l="l" t="t" r="r" b="b"/>
              <a:pathLst>
                <a:path w="65" h="93">
                  <a:moveTo>
                    <a:pt x="0" y="93"/>
                  </a:moveTo>
                  <a:lnTo>
                    <a:pt x="29" y="47"/>
                  </a:lnTo>
                  <a:lnTo>
                    <a:pt x="6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3475080" y="2514600"/>
              <a:ext cx="104760" cy="1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3579840" y="2393640"/>
              <a:ext cx="9360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73440" y="2282760"/>
              <a:ext cx="104760" cy="111240"/>
            </a:xfrm>
            <a:custGeom>
              <a:avLst/>
              <a:gdLst/>
              <a:ahLst/>
              <a:rect l="l" t="t" r="r" b="b"/>
              <a:pathLst>
                <a:path w="66" h="70">
                  <a:moveTo>
                    <a:pt x="0" y="70"/>
                  </a:moveTo>
                  <a:lnTo>
                    <a:pt x="30" y="35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78200" y="2208240"/>
              <a:ext cx="103320" cy="74520"/>
            </a:xfrm>
            <a:custGeom>
              <a:avLst/>
              <a:gdLst/>
              <a:ahLst/>
              <a:rect l="l" t="t" r="r" b="b"/>
              <a:pathLst>
                <a:path w="65" h="47">
                  <a:moveTo>
                    <a:pt x="0" y="47"/>
                  </a:moveTo>
                  <a:lnTo>
                    <a:pt x="35" y="23"/>
                  </a:lnTo>
                  <a:lnTo>
                    <a:pt x="6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81520" y="2143080"/>
              <a:ext cx="95040" cy="65160"/>
            </a:xfrm>
            <a:custGeom>
              <a:avLst/>
              <a:gdLst/>
              <a:ahLst/>
              <a:rect l="l" t="t" r="r" b="b"/>
              <a:pathLst>
                <a:path w="60" h="41">
                  <a:moveTo>
                    <a:pt x="0" y="41"/>
                  </a:moveTo>
                  <a:lnTo>
                    <a:pt x="30" y="17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76560" y="2114640"/>
              <a:ext cx="103320" cy="28440"/>
            </a:xfrm>
            <a:custGeom>
              <a:avLst/>
              <a:gdLst/>
              <a:ahLst/>
              <a:rect l="l" t="t" r="r" b="b"/>
              <a:pathLst>
                <a:path w="65" h="18">
                  <a:moveTo>
                    <a:pt x="0" y="18"/>
                  </a:moveTo>
                  <a:lnTo>
                    <a:pt x="29" y="6"/>
                  </a:lnTo>
                  <a:lnTo>
                    <a:pt x="6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79880" y="2104920"/>
              <a:ext cx="103320" cy="9720"/>
            </a:xfrm>
            <a:custGeom>
              <a:avLst/>
              <a:gdLst/>
              <a:ahLst/>
              <a:rect l="l" t="t" r="r" b="b"/>
              <a:pathLst>
                <a:path w="65" h="6">
                  <a:moveTo>
                    <a:pt x="0" y="6"/>
                  </a:moveTo>
                  <a:lnTo>
                    <a:pt x="36" y="0"/>
                  </a:lnTo>
                  <a:lnTo>
                    <a:pt x="6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83200" y="2104920"/>
              <a:ext cx="95040" cy="28800"/>
            </a:xfrm>
            <a:custGeom>
              <a:avLst/>
              <a:gdLst/>
              <a:ahLst/>
              <a:rect l="l" t="t" r="r" b="b"/>
              <a:pathLst>
                <a:path w="60" h="18">
                  <a:moveTo>
                    <a:pt x="0" y="0"/>
                  </a:moveTo>
                  <a:lnTo>
                    <a:pt x="30" y="6"/>
                  </a:lnTo>
                  <a:lnTo>
                    <a:pt x="60" y="1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78240" y="2133720"/>
              <a:ext cx="103320" cy="46080"/>
            </a:xfrm>
            <a:custGeom>
              <a:avLst/>
              <a:gdLst/>
              <a:ahLst/>
              <a:rect l="l" t="t" r="r" b="b"/>
              <a:pathLst>
                <a:path w="65" h="29">
                  <a:moveTo>
                    <a:pt x="0" y="0"/>
                  </a:moveTo>
                  <a:lnTo>
                    <a:pt x="30" y="12"/>
                  </a:lnTo>
                  <a:lnTo>
                    <a:pt x="65" y="2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81560" y="2179800"/>
              <a:ext cx="104760" cy="838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0" y="0"/>
                  </a:moveTo>
                  <a:lnTo>
                    <a:pt x="36" y="24"/>
                  </a:lnTo>
                  <a:lnTo>
                    <a:pt x="66" y="5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86320" y="2263680"/>
              <a:ext cx="93600" cy="9216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0" y="0"/>
                  </a:moveTo>
                  <a:lnTo>
                    <a:pt x="30" y="29"/>
                  </a:lnTo>
                  <a:lnTo>
                    <a:pt x="59" y="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9920" y="2355840"/>
              <a:ext cx="104760" cy="120600"/>
            </a:xfrm>
            <a:custGeom>
              <a:avLst/>
              <a:gdLst/>
              <a:ahLst/>
              <a:rect l="l" t="t" r="r" b="b"/>
              <a:pathLst>
                <a:path w="66" h="76">
                  <a:moveTo>
                    <a:pt x="0" y="0"/>
                  </a:moveTo>
                  <a:lnTo>
                    <a:pt x="30" y="36"/>
                  </a:lnTo>
                  <a:lnTo>
                    <a:pt x="66" y="7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84680" y="2476440"/>
              <a:ext cx="103320" cy="1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88000" y="2606760"/>
              <a:ext cx="9504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83040" y="2746440"/>
              <a:ext cx="103320" cy="158760"/>
            </a:xfrm>
            <a:custGeom>
              <a:avLst/>
              <a:gdLst/>
              <a:ahLst/>
              <a:rect l="l" t="t" r="r" b="b"/>
              <a:pathLst>
                <a:path w="65" h="100">
                  <a:moveTo>
                    <a:pt x="0" y="0"/>
                  </a:moveTo>
                  <a:lnTo>
                    <a:pt x="30" y="47"/>
                  </a:lnTo>
                  <a:lnTo>
                    <a:pt x="65" y="1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86360" y="2905200"/>
              <a:ext cx="10476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91120" y="3052800"/>
              <a:ext cx="9360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84720" y="3201840"/>
              <a:ext cx="10476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89480" y="3349800"/>
              <a:ext cx="103320" cy="149040"/>
            </a:xfrm>
            <a:custGeom>
              <a:avLst/>
              <a:gdLst/>
              <a:ahLst/>
              <a:rect l="l" t="t" r="r" b="b"/>
              <a:pathLst>
                <a:path w="65" h="94">
                  <a:moveTo>
                    <a:pt x="0" y="0"/>
                  </a:moveTo>
                  <a:lnTo>
                    <a:pt x="35" y="47"/>
                  </a:lnTo>
                  <a:lnTo>
                    <a:pt x="65" y="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92800" y="3498840"/>
              <a:ext cx="95040" cy="1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7840" y="3629160"/>
              <a:ext cx="10332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91160" y="3749760"/>
              <a:ext cx="104760" cy="1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95920" y="3860640"/>
              <a:ext cx="93600" cy="103320"/>
            </a:xfrm>
            <a:custGeom>
              <a:avLst/>
              <a:gdLst/>
              <a:ahLst/>
              <a:rect l="l" t="t" r="r" b="b"/>
              <a:pathLst>
                <a:path w="59" h="65">
                  <a:moveTo>
                    <a:pt x="0" y="0"/>
                  </a:moveTo>
                  <a:lnTo>
                    <a:pt x="29" y="35"/>
                  </a:lnTo>
                  <a:lnTo>
                    <a:pt x="59" y="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89520" y="3963960"/>
              <a:ext cx="10476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94280" y="4046400"/>
              <a:ext cx="103320" cy="74880"/>
            </a:xfrm>
            <a:custGeom>
              <a:avLst/>
              <a:gdLst/>
              <a:ahLst/>
              <a:rect l="l" t="t" r="r" b="b"/>
              <a:pathLst>
                <a:path w="65" h="47">
                  <a:moveTo>
                    <a:pt x="0" y="0"/>
                  </a:moveTo>
                  <a:lnTo>
                    <a:pt x="35" y="24"/>
                  </a:lnTo>
                  <a:lnTo>
                    <a:pt x="65" y="4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97600" y="4121280"/>
              <a:ext cx="95400" cy="5544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0"/>
                  </a:moveTo>
                  <a:lnTo>
                    <a:pt x="30" y="18"/>
                  </a:lnTo>
                  <a:lnTo>
                    <a:pt x="60" y="3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93000" y="4176720"/>
              <a:ext cx="10296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95960" y="4232160"/>
              <a:ext cx="10476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38560" y="291312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43320" y="2765520"/>
              <a:ext cx="57240" cy="55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8" y="0"/>
                  </a:moveTo>
                  <a:lnTo>
                    <a:pt x="36" y="17"/>
                  </a:lnTo>
                  <a:lnTo>
                    <a:pt x="18" y="35"/>
                  </a:lnTo>
                  <a:lnTo>
                    <a:pt x="0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46640" y="2616120"/>
              <a:ext cx="56880" cy="558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8" y="0"/>
                  </a:moveTo>
                  <a:lnTo>
                    <a:pt x="36" y="18"/>
                  </a:lnTo>
                  <a:lnTo>
                    <a:pt x="18" y="35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51400" y="248616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8" y="0"/>
                  </a:moveTo>
                  <a:lnTo>
                    <a:pt x="35" y="18"/>
                  </a:lnTo>
                  <a:lnTo>
                    <a:pt x="18" y="35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45000" y="2365200"/>
              <a:ext cx="56880" cy="558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8" y="0"/>
                  </a:moveTo>
                  <a:lnTo>
                    <a:pt x="36" y="18"/>
                  </a:lnTo>
                  <a:lnTo>
                    <a:pt x="18" y="35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49760" y="225432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8" y="0"/>
                  </a:moveTo>
                  <a:lnTo>
                    <a:pt x="35" y="18"/>
                  </a:lnTo>
                  <a:lnTo>
                    <a:pt x="18" y="35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52720" y="2179800"/>
              <a:ext cx="57240" cy="55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8" y="0"/>
                  </a:moveTo>
                  <a:lnTo>
                    <a:pt x="36" y="18"/>
                  </a:lnTo>
                  <a:lnTo>
                    <a:pt x="18" y="35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48120" y="211464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8" y="0"/>
                  </a:moveTo>
                  <a:lnTo>
                    <a:pt x="35" y="18"/>
                  </a:lnTo>
                  <a:lnTo>
                    <a:pt x="18" y="35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51440" y="2087640"/>
              <a:ext cx="56880" cy="55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8" y="0"/>
                  </a:moveTo>
                  <a:lnTo>
                    <a:pt x="36" y="17"/>
                  </a:lnTo>
                  <a:lnTo>
                    <a:pt x="18" y="35"/>
                  </a:lnTo>
                  <a:lnTo>
                    <a:pt x="0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56200" y="2077920"/>
              <a:ext cx="55440" cy="558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7" y="0"/>
                  </a:moveTo>
                  <a:lnTo>
                    <a:pt x="35" y="17"/>
                  </a:lnTo>
                  <a:lnTo>
                    <a:pt x="17" y="35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49800" y="210492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54560" y="215280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7" y="0"/>
                  </a:moveTo>
                  <a:lnTo>
                    <a:pt x="35" y="17"/>
                  </a:lnTo>
                  <a:lnTo>
                    <a:pt x="17" y="35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57880" y="2235240"/>
              <a:ext cx="56880" cy="55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8" y="0"/>
                  </a:moveTo>
                  <a:lnTo>
                    <a:pt x="36" y="18"/>
                  </a:lnTo>
                  <a:lnTo>
                    <a:pt x="18" y="35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52920" y="232884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7" y="0"/>
                  </a:moveTo>
                  <a:lnTo>
                    <a:pt x="35" y="17"/>
                  </a:lnTo>
                  <a:lnTo>
                    <a:pt x="17" y="35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56240" y="2449440"/>
              <a:ext cx="56880" cy="558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8" y="0"/>
                  </a:moveTo>
                  <a:lnTo>
                    <a:pt x="36" y="17"/>
                  </a:lnTo>
                  <a:lnTo>
                    <a:pt x="18" y="35"/>
                  </a:lnTo>
                  <a:lnTo>
                    <a:pt x="0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59200" y="2579760"/>
              <a:ext cx="57240" cy="55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8" y="0"/>
                  </a:moveTo>
                  <a:lnTo>
                    <a:pt x="36" y="17"/>
                  </a:lnTo>
                  <a:lnTo>
                    <a:pt x="18" y="35"/>
                  </a:lnTo>
                  <a:lnTo>
                    <a:pt x="0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54600" y="2719440"/>
              <a:ext cx="57240" cy="55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8" y="0"/>
                  </a:moveTo>
                  <a:lnTo>
                    <a:pt x="36" y="17"/>
                  </a:lnTo>
                  <a:lnTo>
                    <a:pt x="18" y="35"/>
                  </a:lnTo>
                  <a:lnTo>
                    <a:pt x="0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57920" y="2876400"/>
              <a:ext cx="56880" cy="558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8" y="0"/>
                  </a:moveTo>
                  <a:lnTo>
                    <a:pt x="36" y="18"/>
                  </a:lnTo>
                  <a:lnTo>
                    <a:pt x="18" y="35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62680" y="3025800"/>
              <a:ext cx="56880" cy="55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8" y="0"/>
                  </a:moveTo>
                  <a:lnTo>
                    <a:pt x="36" y="17"/>
                  </a:lnTo>
                  <a:lnTo>
                    <a:pt x="18" y="35"/>
                  </a:lnTo>
                  <a:lnTo>
                    <a:pt x="0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56280" y="3173400"/>
              <a:ext cx="57240" cy="55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8" y="0"/>
                  </a:moveTo>
                  <a:lnTo>
                    <a:pt x="36" y="18"/>
                  </a:lnTo>
                  <a:lnTo>
                    <a:pt x="18" y="35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61040" y="3322800"/>
              <a:ext cx="57240" cy="55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8" y="0"/>
                  </a:moveTo>
                  <a:lnTo>
                    <a:pt x="36" y="17"/>
                  </a:lnTo>
                  <a:lnTo>
                    <a:pt x="18" y="35"/>
                  </a:lnTo>
                  <a:lnTo>
                    <a:pt x="0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64000" y="3471840"/>
              <a:ext cx="57240" cy="55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8" y="0"/>
                  </a:moveTo>
                  <a:lnTo>
                    <a:pt x="36" y="17"/>
                  </a:lnTo>
                  <a:lnTo>
                    <a:pt x="18" y="35"/>
                  </a:lnTo>
                  <a:lnTo>
                    <a:pt x="0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59400" y="360036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62720" y="3720960"/>
              <a:ext cx="5688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67480" y="3833640"/>
              <a:ext cx="56880" cy="558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8" y="0"/>
                  </a:moveTo>
                  <a:lnTo>
                    <a:pt x="36" y="17"/>
                  </a:lnTo>
                  <a:lnTo>
                    <a:pt x="18" y="35"/>
                  </a:lnTo>
                  <a:lnTo>
                    <a:pt x="0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61080" y="3935520"/>
              <a:ext cx="57240" cy="55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8" y="0"/>
                  </a:moveTo>
                  <a:lnTo>
                    <a:pt x="36" y="18"/>
                  </a:lnTo>
                  <a:lnTo>
                    <a:pt x="18" y="35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65840" y="4019400"/>
              <a:ext cx="55440" cy="558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8" y="0"/>
                  </a:moveTo>
                  <a:lnTo>
                    <a:pt x="35" y="17"/>
                  </a:lnTo>
                  <a:lnTo>
                    <a:pt x="18" y="35"/>
                  </a:lnTo>
                  <a:lnTo>
                    <a:pt x="0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69160" y="4094280"/>
              <a:ext cx="56880" cy="55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8" y="0"/>
                  </a:moveTo>
                  <a:lnTo>
                    <a:pt x="36" y="17"/>
                  </a:lnTo>
                  <a:lnTo>
                    <a:pt x="18" y="35"/>
                  </a:lnTo>
                  <a:lnTo>
                    <a:pt x="0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4200" y="414972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8" y="0"/>
                  </a:moveTo>
                  <a:lnTo>
                    <a:pt x="35" y="17"/>
                  </a:lnTo>
                  <a:lnTo>
                    <a:pt x="18" y="35"/>
                  </a:lnTo>
                  <a:lnTo>
                    <a:pt x="0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67520" y="4205160"/>
              <a:ext cx="57240" cy="558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8" y="0"/>
                  </a:moveTo>
                  <a:lnTo>
                    <a:pt x="36" y="17"/>
                  </a:lnTo>
                  <a:lnTo>
                    <a:pt x="18" y="35"/>
                  </a:lnTo>
                  <a:lnTo>
                    <a:pt x="0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72280" y="4251240"/>
              <a:ext cx="55440" cy="558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8" y="0"/>
                  </a:moveTo>
                  <a:lnTo>
                    <a:pt x="35" y="18"/>
                  </a:lnTo>
                  <a:lnTo>
                    <a:pt x="18" y="35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45880" y="43257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1120" y="387972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61120" y="34336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.0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61120" y="29876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.0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61120" y="25336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.0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61120" y="20876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61120" y="16416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.0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20040" y="46227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64480" y="46227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.0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07480" y="46227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.0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50480" y="46227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.0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76080" y="4975200"/>
              <a:ext cx="97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iameter /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98840" y="494820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1520" y="4975200"/>
              <a:ext cx="22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6200000">
              <a:off x="1272600" y="2994480"/>
              <a:ext cx="234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ean Differential Frac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854640" y="579600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079640" y="1146240"/>
            <a:ext cx="6984720" cy="3948120"/>
            <a:chOff x="1079640" y="1146240"/>
            <a:chExt cx="6984720" cy="3948120"/>
          </a:xfrm>
        </p:grpSpPr>
        <p:sp>
          <p:nvSpPr>
            <p:cNvPr id="157" name=""/>
            <p:cNvSpPr/>
            <p:nvPr/>
          </p:nvSpPr>
          <p:spPr>
            <a:xfrm>
              <a:off x="1079640" y="1146240"/>
              <a:ext cx="6984720" cy="394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2190600" y="1690560"/>
              <a:ext cx="5729040" cy="2856240"/>
              <a:chOff x="2190600" y="1690560"/>
              <a:chExt cx="5729040" cy="2856240"/>
            </a:xfrm>
          </p:grpSpPr>
          <p:sp>
            <p:nvSpPr>
              <p:cNvPr id="159" name=""/>
              <p:cNvSpPr/>
              <p:nvPr/>
            </p:nvSpPr>
            <p:spPr>
              <a:xfrm flipV="1">
                <a:off x="2190600" y="1690560"/>
                <a:ext cx="0" cy="285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90600" y="4546800"/>
                <a:ext cx="5729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 rot="16200000">
              <a:off x="117000" y="2931840"/>
              <a:ext cx="280332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empera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81480" y="4600800"/>
              <a:ext cx="9885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66880" y="2286000"/>
              <a:ext cx="52668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66880" y="1928880"/>
              <a:ext cx="52668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3533760" y="2149560"/>
              <a:ext cx="2640960" cy="2357640"/>
              <a:chOff x="3533760" y="2149560"/>
              <a:chExt cx="2640960" cy="2357640"/>
            </a:xfrm>
          </p:grpSpPr>
          <p:sp>
            <p:nvSpPr>
              <p:cNvPr id="166" name=""/>
              <p:cNvSpPr/>
              <p:nvPr/>
            </p:nvSpPr>
            <p:spPr>
              <a:xfrm>
                <a:off x="3533760" y="2149560"/>
                <a:ext cx="102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54720" y="2151360"/>
                <a:ext cx="1620000" cy="2355840"/>
              </a:xfrm>
              <a:custGeom>
                <a:avLst/>
                <a:gdLst/>
                <a:ahLst/>
                <a:rect l="l" t="t" r="r" b="b"/>
                <a:pathLst>
                  <a:path w="2924" h="2443">
                    <a:moveTo>
                      <a:pt x="5" y="0"/>
                    </a:moveTo>
                    <a:cubicBezTo>
                      <a:pt x="2" y="141"/>
                      <a:pt x="0" y="283"/>
                      <a:pt x="56" y="476"/>
                    </a:cubicBezTo>
                    <a:cubicBezTo>
                      <a:pt x="112" y="669"/>
                      <a:pt x="200" y="959"/>
                      <a:pt x="339" y="1158"/>
                    </a:cubicBezTo>
                    <a:cubicBezTo>
                      <a:pt x="478" y="1357"/>
                      <a:pt x="658" y="1509"/>
                      <a:pt x="892" y="1672"/>
                    </a:cubicBezTo>
                    <a:cubicBezTo>
                      <a:pt x="1126" y="1835"/>
                      <a:pt x="1473" y="2022"/>
                      <a:pt x="1741" y="2135"/>
                    </a:cubicBezTo>
                    <a:cubicBezTo>
                      <a:pt x="2009" y="2248"/>
                      <a:pt x="2302" y="2302"/>
                      <a:pt x="2499" y="2353"/>
                    </a:cubicBezTo>
                    <a:cubicBezTo>
                      <a:pt x="2696" y="2404"/>
                      <a:pt x="2810" y="2423"/>
                      <a:pt x="2924" y="2443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4762440" y="1211400"/>
              <a:ext cx="158220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gle stage sinter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4313160" y="1584360"/>
              <a:ext cx="483840" cy="4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3530520" y="2151360"/>
              <a:ext cx="3897720" cy="2360520"/>
              <a:chOff x="3530520" y="2151360"/>
              <a:chExt cx="3897720" cy="2360520"/>
            </a:xfrm>
          </p:grpSpPr>
          <p:sp>
            <p:nvSpPr>
              <p:cNvPr id="171" name=""/>
              <p:cNvSpPr/>
              <p:nvPr/>
            </p:nvSpPr>
            <p:spPr>
              <a:xfrm>
                <a:off x="3530520" y="2151360"/>
                <a:ext cx="0" cy="37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3536280" y="2516400"/>
                <a:ext cx="3891960" cy="1995480"/>
                <a:chOff x="3536280" y="2516400"/>
                <a:chExt cx="3891960" cy="19954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536280" y="2527560"/>
                  <a:ext cx="1725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258520" y="2516400"/>
                  <a:ext cx="2169720" cy="1995480"/>
                </a:xfrm>
                <a:custGeom>
                  <a:avLst/>
                  <a:gdLst/>
                  <a:ahLst/>
                  <a:rect l="l" t="t" r="r" b="b"/>
                  <a:pathLst>
                    <a:path w="2924" h="2443">
                      <a:moveTo>
                        <a:pt x="5" y="0"/>
                      </a:moveTo>
                      <a:cubicBezTo>
                        <a:pt x="2" y="141"/>
                        <a:pt x="0" y="283"/>
                        <a:pt x="56" y="476"/>
                      </a:cubicBezTo>
                      <a:cubicBezTo>
                        <a:pt x="112" y="669"/>
                        <a:pt x="200" y="959"/>
                        <a:pt x="339" y="1158"/>
                      </a:cubicBezTo>
                      <a:cubicBezTo>
                        <a:pt x="478" y="1357"/>
                        <a:pt x="658" y="1509"/>
                        <a:pt x="892" y="1672"/>
                      </a:cubicBezTo>
                      <a:cubicBezTo>
                        <a:pt x="1126" y="1835"/>
                        <a:pt x="1473" y="2022"/>
                        <a:pt x="1741" y="2135"/>
                      </a:cubicBezTo>
                      <a:cubicBezTo>
                        <a:pt x="2009" y="2248"/>
                        <a:pt x="2302" y="2302"/>
                        <a:pt x="2499" y="2353"/>
                      </a:cubicBezTo>
                      <a:cubicBezTo>
                        <a:pt x="2696" y="2404"/>
                        <a:pt x="2810" y="2423"/>
                        <a:pt x="2924" y="2443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5" name=""/>
            <p:cNvSpPr/>
            <p:nvPr/>
          </p:nvSpPr>
          <p:spPr>
            <a:xfrm>
              <a:off x="1136520" y="4780080"/>
              <a:ext cx="116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to sc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88040" y="2837160"/>
              <a:ext cx="1766520" cy="10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onventional two stage sinter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452920" y="3183120"/>
              <a:ext cx="747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2192040" y="2149560"/>
              <a:ext cx="571320" cy="23781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763720" y="2151360"/>
              <a:ext cx="2343960" cy="2372760"/>
              <a:chOff x="2763720" y="2151360"/>
              <a:chExt cx="2343960" cy="2372760"/>
            </a:xfrm>
          </p:grpSpPr>
          <p:sp>
            <p:nvSpPr>
              <p:cNvPr id="180" name=""/>
              <p:cNvSpPr/>
              <p:nvPr/>
            </p:nvSpPr>
            <p:spPr>
              <a:xfrm>
                <a:off x="2763720" y="2151360"/>
                <a:ext cx="0" cy="37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2767320" y="2527200"/>
                <a:ext cx="2340360" cy="1996920"/>
                <a:chOff x="2767320" y="2527200"/>
                <a:chExt cx="2340360" cy="19969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2767320" y="2527200"/>
                  <a:ext cx="907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673080" y="2529000"/>
                  <a:ext cx="1434600" cy="1995120"/>
                </a:xfrm>
                <a:custGeom>
                  <a:avLst/>
                  <a:gdLst/>
                  <a:ahLst/>
                  <a:rect l="l" t="t" r="r" b="b"/>
                  <a:pathLst>
                    <a:path w="2924" h="2443">
                      <a:moveTo>
                        <a:pt x="5" y="0"/>
                      </a:moveTo>
                      <a:cubicBezTo>
                        <a:pt x="2" y="141"/>
                        <a:pt x="0" y="283"/>
                        <a:pt x="56" y="476"/>
                      </a:cubicBezTo>
                      <a:cubicBezTo>
                        <a:pt x="112" y="669"/>
                        <a:pt x="200" y="959"/>
                        <a:pt x="339" y="1158"/>
                      </a:cubicBezTo>
                      <a:cubicBezTo>
                        <a:pt x="478" y="1357"/>
                        <a:pt x="658" y="1509"/>
                        <a:pt x="892" y="1672"/>
                      </a:cubicBezTo>
                      <a:cubicBezTo>
                        <a:pt x="1126" y="1835"/>
                        <a:pt x="1473" y="2022"/>
                        <a:pt x="1741" y="2135"/>
                      </a:cubicBezTo>
                      <a:cubicBezTo>
                        <a:pt x="2009" y="2248"/>
                        <a:pt x="2302" y="2302"/>
                        <a:pt x="2499" y="2353"/>
                      </a:cubicBezTo>
                      <a:cubicBezTo>
                        <a:pt x="2696" y="2404"/>
                        <a:pt x="2810" y="2423"/>
                        <a:pt x="2924" y="2443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" name=""/>
            <p:cNvSpPr/>
            <p:nvPr/>
          </p:nvSpPr>
          <p:spPr>
            <a:xfrm>
              <a:off x="2858760" y="3784680"/>
              <a:ext cx="13824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 m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2541600" y="3346560"/>
              <a:ext cx="39312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54400" y="1863720"/>
              <a:ext cx="209844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ybrid two stage sinter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785760" y="2219400"/>
              <a:ext cx="212364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2191680" y="2148120"/>
              <a:ext cx="1323720" cy="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2184120" y="2524320"/>
              <a:ext cx="1342800" cy="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192040" y="2138040"/>
              <a:ext cx="1325160" cy="2397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2988720" y="3213000"/>
              <a:ext cx="16956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00320" y="3214800"/>
              <a:ext cx="136944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 m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2192040" y="2144520"/>
              <a:ext cx="1336320" cy="238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854640" y="579600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1933560" y="1628640"/>
            <a:ext cx="5276880" cy="3193920"/>
            <a:chOff x="1933560" y="1628640"/>
            <a:chExt cx="5276880" cy="3193920"/>
          </a:xfrm>
        </p:grpSpPr>
        <p:grpSp>
          <p:nvGrpSpPr>
            <p:cNvPr id="196" name=""/>
            <p:cNvGrpSpPr/>
            <p:nvPr/>
          </p:nvGrpSpPr>
          <p:grpSpPr>
            <a:xfrm>
              <a:off x="1933560" y="1628640"/>
              <a:ext cx="5162400" cy="3193920"/>
              <a:chOff x="1933560" y="1628640"/>
              <a:chExt cx="5162400" cy="3193920"/>
            </a:xfrm>
          </p:grpSpPr>
          <p:sp>
            <p:nvSpPr>
              <p:cNvPr id="197" name=""/>
              <p:cNvSpPr/>
              <p:nvPr/>
            </p:nvSpPr>
            <p:spPr>
              <a:xfrm>
                <a:off x="1933560" y="1628640"/>
                <a:ext cx="5162400" cy="3193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1946160" y="1647720"/>
                <a:ext cx="4573440" cy="3139200"/>
                <a:chOff x="1946160" y="1647720"/>
                <a:chExt cx="4573440" cy="3139200"/>
              </a:xfrm>
            </p:grpSpPr>
            <p:sp>
              <p:nvSpPr>
                <p:cNvPr id="199" name=""/>
                <p:cNvSpPr/>
                <p:nvPr/>
              </p:nvSpPr>
              <p:spPr>
                <a:xfrm rot="16200000">
                  <a:off x="1401120" y="2871360"/>
                  <a:ext cx="1396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Viscosity / Pa 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2196720" y="1647720"/>
                  <a:ext cx="4322880" cy="2859840"/>
                  <a:chOff x="2196720" y="1647720"/>
                  <a:chExt cx="4322880" cy="2859840"/>
                </a:xfrm>
              </p:grpSpPr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2196720" y="1647720"/>
                    <a:ext cx="4061160" cy="2612160"/>
                    <a:chOff x="2196720" y="1647720"/>
                    <a:chExt cx="4061160" cy="2612160"/>
                  </a:xfrm>
                </p:grpSpPr>
                <p:grpSp>
                  <p:nvGrpSpPr>
                    <p:cNvPr id="202" name=""/>
                    <p:cNvGrpSpPr/>
                    <p:nvPr/>
                  </p:nvGrpSpPr>
                  <p:grpSpPr>
                    <a:xfrm>
                      <a:off x="2600280" y="1793880"/>
                      <a:ext cx="3657600" cy="2367000"/>
                      <a:chOff x="2600280" y="1793880"/>
                      <a:chExt cx="3657600" cy="2367000"/>
                    </a:xfrm>
                  </p:grpSpPr>
                  <p:grpSp>
                    <p:nvGrpSpPr>
                      <p:cNvPr id="203" name=""/>
                      <p:cNvGrpSpPr/>
                      <p:nvPr/>
                    </p:nvGrpSpPr>
                    <p:grpSpPr>
                      <a:xfrm>
                        <a:off x="2600280" y="1793880"/>
                        <a:ext cx="3657600" cy="2361960"/>
                        <a:chOff x="2600280" y="1793880"/>
                        <a:chExt cx="3657600" cy="2361960"/>
                      </a:xfrm>
                    </p:grpSpPr>
                    <p:grpSp>
                      <p:nvGrpSpPr>
                        <p:cNvPr id="204" name=""/>
                        <p:cNvGrpSpPr/>
                        <p:nvPr/>
                      </p:nvGrpSpPr>
                      <p:grpSpPr>
                        <a:xfrm>
                          <a:off x="2600280" y="1800000"/>
                          <a:ext cx="3657600" cy="2355840"/>
                          <a:chOff x="2600280" y="1800000"/>
                          <a:chExt cx="3657600" cy="2355840"/>
                        </a:xfrm>
                      </p:grpSpPr>
                      <p:sp>
                        <p:nvSpPr>
                          <p:cNvPr id="205" name=""/>
                          <p:cNvSpPr/>
                          <p:nvPr/>
                        </p:nvSpPr>
                        <p:spPr>
                          <a:xfrm>
                            <a:off x="2670120" y="1800000"/>
                            <a:ext cx="0" cy="23558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6" name=""/>
                          <p:cNvSpPr/>
                          <p:nvPr/>
                        </p:nvSpPr>
                        <p:spPr>
                          <a:xfrm>
                            <a:off x="2600280" y="4105080"/>
                            <a:ext cx="36576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619360" y="1793880"/>
                          <a:ext cx="5076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619360" y="2184120"/>
                          <a:ext cx="5076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619360" y="2568600"/>
                          <a:ext cx="5076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619360" y="2948040"/>
                          <a:ext cx="5076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>
                          <a:off x="2619360" y="3343320"/>
                          <a:ext cx="5076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2619360" y="3724200"/>
                          <a:ext cx="5076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3268440" y="4108320"/>
                        <a:ext cx="0" cy="52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760" bIns="5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3863880" y="4108320"/>
                        <a:ext cx="0" cy="52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760" bIns="5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62200" y="4108320"/>
                        <a:ext cx="0" cy="52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760" bIns="5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5067360" y="4108320"/>
                        <a:ext cx="0" cy="52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760" bIns="5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5664240" y="4108320"/>
                        <a:ext cx="0" cy="52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760" bIns="5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6257880" y="4108320"/>
                        <a:ext cx="0" cy="52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760" bIns="5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9" name=""/>
                    <p:cNvGrpSpPr/>
                    <p:nvPr/>
                  </p:nvGrpSpPr>
                  <p:grpSpPr>
                    <a:xfrm>
                      <a:off x="2196720" y="1647720"/>
                      <a:ext cx="432360" cy="2612160"/>
                      <a:chOff x="2196720" y="1647720"/>
                      <a:chExt cx="432360" cy="2612160"/>
                    </a:xfrm>
                  </p:grpSpPr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2196720" y="1647720"/>
                        <a:ext cx="43236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1.2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2196720" y="2035080"/>
                        <a:ext cx="43236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1.0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2" name=""/>
                      <p:cNvSpPr/>
                      <p:nvPr/>
                    </p:nvSpPr>
                    <p:spPr>
                      <a:xfrm>
                        <a:off x="2196720" y="2409840"/>
                        <a:ext cx="43236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0.8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3" name=""/>
                      <p:cNvSpPr/>
                      <p:nvPr/>
                    </p:nvSpPr>
                    <p:spPr>
                      <a:xfrm>
                        <a:off x="2196720" y="2790720"/>
                        <a:ext cx="43236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0.6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2196720" y="3184560"/>
                        <a:ext cx="43236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0.4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5" name=""/>
                      <p:cNvSpPr/>
                      <p:nvPr/>
                    </p:nvSpPr>
                    <p:spPr>
                      <a:xfrm>
                        <a:off x="2196720" y="3565440"/>
                        <a:ext cx="43236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0.2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6" name=""/>
                      <p:cNvSpPr/>
                      <p:nvPr/>
                    </p:nvSpPr>
                    <p:spPr>
                      <a:xfrm>
                        <a:off x="2196720" y="3952800"/>
                        <a:ext cx="43236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0.0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2411280" y="4200480"/>
                    <a:ext cx="4108320" cy="307080"/>
                    <a:chOff x="2411280" y="4200480"/>
                    <a:chExt cx="4108320" cy="30708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2411280" y="4200480"/>
                      <a:ext cx="478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3000600" y="4200480"/>
                      <a:ext cx="53424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3597480" y="4200480"/>
                      <a:ext cx="53424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4188240" y="4200480"/>
                      <a:ext cx="53424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4810320" y="4200480"/>
                      <a:ext cx="53424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5394600" y="4200480"/>
                      <a:ext cx="53424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985360" y="4200480"/>
                      <a:ext cx="53424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35" name=""/>
                <p:cNvSpPr/>
                <p:nvPr/>
              </p:nvSpPr>
              <p:spPr>
                <a:xfrm>
                  <a:off x="3553920" y="4479840"/>
                  <a:ext cx="1898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Tahoma"/>
                    </a:rPr>
                    <a:t>Solids loading / vol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6" name=""/>
            <p:cNvGrpSpPr/>
            <p:nvPr/>
          </p:nvGrpSpPr>
          <p:grpSpPr>
            <a:xfrm>
              <a:off x="2822400" y="1793880"/>
              <a:ext cx="1486080" cy="2336760"/>
              <a:chOff x="2822400" y="1793880"/>
              <a:chExt cx="1486080" cy="2336760"/>
            </a:xfrm>
          </p:grpSpPr>
          <p:sp>
            <p:nvSpPr>
              <p:cNvPr id="237" name=""/>
              <p:cNvSpPr/>
              <p:nvPr/>
            </p:nvSpPr>
            <p:spPr>
              <a:xfrm>
                <a:off x="2867040" y="1793880"/>
                <a:ext cx="1441440" cy="2292120"/>
              </a:xfrm>
              <a:custGeom>
                <a:avLst/>
                <a:gdLst/>
                <a:ahLst/>
                <a:rect l="l" t="t" r="r" b="b"/>
                <a:pathLst>
                  <a:path w="908" h="1444">
                    <a:moveTo>
                      <a:pt x="0" y="1444"/>
                    </a:moveTo>
                    <a:cubicBezTo>
                      <a:pt x="154" y="1370"/>
                      <a:pt x="308" y="1297"/>
                      <a:pt x="404" y="1248"/>
                    </a:cubicBezTo>
                    <a:cubicBezTo>
                      <a:pt x="500" y="1199"/>
                      <a:pt x="530" y="1179"/>
                      <a:pt x="576" y="1152"/>
                    </a:cubicBezTo>
                    <a:cubicBezTo>
                      <a:pt x="622" y="1125"/>
                      <a:pt x="655" y="1108"/>
                      <a:pt x="680" y="1084"/>
                    </a:cubicBezTo>
                    <a:cubicBezTo>
                      <a:pt x="705" y="1060"/>
                      <a:pt x="708" y="1051"/>
                      <a:pt x="724" y="1008"/>
                    </a:cubicBezTo>
                    <a:cubicBezTo>
                      <a:pt x="740" y="965"/>
                      <a:pt x="760" y="900"/>
                      <a:pt x="776" y="824"/>
                    </a:cubicBezTo>
                    <a:cubicBezTo>
                      <a:pt x="792" y="748"/>
                      <a:pt x="798" y="689"/>
                      <a:pt x="820" y="552"/>
                    </a:cubicBezTo>
                    <a:cubicBezTo>
                      <a:pt x="842" y="415"/>
                      <a:pt x="890" y="115"/>
                      <a:pt x="908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137120" y="2523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971880" y="3343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822400" y="4054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2993040" y="2031840"/>
              <a:ext cx="114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s-receiv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96000" y="2495520"/>
              <a:ext cx="1066680" cy="1454040"/>
            </a:xfrm>
            <a:custGeom>
              <a:avLst/>
              <a:gdLst/>
              <a:ahLst/>
              <a:rect l="l" t="t" r="r" b="b"/>
              <a:pathLst>
                <a:path w="672" h="916">
                  <a:moveTo>
                    <a:pt x="0" y="916"/>
                  </a:moveTo>
                  <a:cubicBezTo>
                    <a:pt x="65" y="902"/>
                    <a:pt x="130" y="889"/>
                    <a:pt x="172" y="880"/>
                  </a:cubicBezTo>
                  <a:cubicBezTo>
                    <a:pt x="214" y="871"/>
                    <a:pt x="222" y="875"/>
                    <a:pt x="252" y="864"/>
                  </a:cubicBezTo>
                  <a:cubicBezTo>
                    <a:pt x="282" y="853"/>
                    <a:pt x="321" y="835"/>
                    <a:pt x="352" y="816"/>
                  </a:cubicBezTo>
                  <a:cubicBezTo>
                    <a:pt x="383" y="797"/>
                    <a:pt x="413" y="776"/>
                    <a:pt x="440" y="752"/>
                  </a:cubicBezTo>
                  <a:cubicBezTo>
                    <a:pt x="467" y="728"/>
                    <a:pt x="492" y="702"/>
                    <a:pt x="512" y="672"/>
                  </a:cubicBezTo>
                  <a:cubicBezTo>
                    <a:pt x="532" y="642"/>
                    <a:pt x="543" y="613"/>
                    <a:pt x="560" y="572"/>
                  </a:cubicBezTo>
                  <a:cubicBezTo>
                    <a:pt x="577" y="531"/>
                    <a:pt x="598" y="480"/>
                    <a:pt x="612" y="428"/>
                  </a:cubicBezTo>
                  <a:cubicBezTo>
                    <a:pt x="626" y="376"/>
                    <a:pt x="636" y="311"/>
                    <a:pt x="644" y="260"/>
                  </a:cubicBezTo>
                  <a:cubicBezTo>
                    <a:pt x="652" y="209"/>
                    <a:pt x="655" y="163"/>
                    <a:pt x="660" y="120"/>
                  </a:cubicBezTo>
                  <a:cubicBezTo>
                    <a:pt x="665" y="77"/>
                    <a:pt x="668" y="38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05440" y="2584440"/>
              <a:ext cx="88920" cy="88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118120" y="3841920"/>
              <a:ext cx="88920" cy="88560"/>
            </a:xfrm>
            <a:prstGeom prst="hexagon">
              <a:avLst>
                <a:gd name="adj" fmla="val 2510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44880" y="3898800"/>
              <a:ext cx="88920" cy="88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46440" y="2665440"/>
              <a:ext cx="140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Dispex &amp; multi-ultrasou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22800" y="3610080"/>
              <a:ext cx="88920" cy="88920"/>
            </a:xfrm>
            <a:prstGeom prst="plus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915160" y="302580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AC &amp; multi-ultrasou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854640" y="579600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684440" y="1154160"/>
            <a:ext cx="5775120" cy="40431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854640" y="579600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1427040" y="1190520"/>
            <a:ext cx="6296040" cy="4943520"/>
            <a:chOff x="1427040" y="1190520"/>
            <a:chExt cx="6296040" cy="4943520"/>
          </a:xfrm>
        </p:grpSpPr>
        <p:sp>
          <p:nvSpPr>
            <p:cNvPr id="253" name=""/>
            <p:cNvSpPr/>
            <p:nvPr/>
          </p:nvSpPr>
          <p:spPr>
            <a:xfrm>
              <a:off x="2335320" y="1398600"/>
              <a:ext cx="5387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32080" y="2389320"/>
              <a:ext cx="5387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1427040" y="1222200"/>
              <a:ext cx="886320" cy="4338360"/>
              <a:chOff x="1427040" y="1222200"/>
              <a:chExt cx="886320" cy="4338360"/>
            </a:xfrm>
          </p:grpSpPr>
          <p:sp>
            <p:nvSpPr>
              <p:cNvPr id="256" name=""/>
              <p:cNvSpPr/>
              <p:nvPr/>
            </p:nvSpPr>
            <p:spPr>
              <a:xfrm>
                <a:off x="1809720" y="1222200"/>
                <a:ext cx="5036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0.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809720" y="2216880"/>
                <a:ext cx="5036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0.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809720" y="4199040"/>
                <a:ext cx="5036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0.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10240" y="2660040"/>
                <a:ext cx="242640" cy="1285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809720" y="3209760"/>
                <a:ext cx="5036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0.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809720" y="5192280"/>
                <a:ext cx="5036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0.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6200000">
                <a:off x="338040" y="3118680"/>
                <a:ext cx="25459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Pore volume / cm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Tahoma"/>
                  </a:rPr>
                  <a:t>3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Tahoma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2529720" y="5450040"/>
              <a:ext cx="4810680" cy="684000"/>
              <a:chOff x="2529720" y="5450040"/>
              <a:chExt cx="4810680" cy="684000"/>
            </a:xfrm>
          </p:grpSpPr>
          <p:sp>
            <p:nvSpPr>
              <p:cNvPr id="264" name=""/>
              <p:cNvSpPr/>
              <p:nvPr/>
            </p:nvSpPr>
            <p:spPr>
              <a:xfrm>
                <a:off x="2529720" y="5450040"/>
                <a:ext cx="311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335400" y="5450040"/>
                <a:ext cx="311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807360" y="5450040"/>
                <a:ext cx="311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143600" y="5450040"/>
                <a:ext cx="311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339440" y="5450040"/>
                <a:ext cx="4428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928320" y="5765760"/>
                <a:ext cx="242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Pore Diameter / n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158080" y="5450040"/>
                <a:ext cx="4428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963040" y="5450040"/>
                <a:ext cx="4428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439320" y="5450040"/>
                <a:ext cx="4428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6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780600" y="5450040"/>
                <a:ext cx="4428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8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666320" y="5520240"/>
                <a:ext cx="56628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138080" y="5452560"/>
                <a:ext cx="20232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2332080" y="5367240"/>
              <a:ext cx="5387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2671920" y="5367240"/>
              <a:ext cx="0" cy="85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3479760" y="5367240"/>
              <a:ext cx="0" cy="85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956040" y="5367240"/>
              <a:ext cx="0" cy="85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4289400" y="5367240"/>
              <a:ext cx="0" cy="85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4549680" y="5367240"/>
              <a:ext cx="0" cy="85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365800" y="5367240"/>
              <a:ext cx="0" cy="85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173640" y="5367240"/>
              <a:ext cx="0" cy="85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649920" y="5367240"/>
              <a:ext cx="0" cy="85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983280" y="5367240"/>
              <a:ext cx="0" cy="85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7243920" y="5367240"/>
              <a:ext cx="0" cy="85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33208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67192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293220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13992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332280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347976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61620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374004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385128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395604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404820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413244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421632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428940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436104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442584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449100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454968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502596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536580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562608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83416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01812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17364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31044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643428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54516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664992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674208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82632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691056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8328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705492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712008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718488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724392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7719840" y="5366880"/>
              <a:ext cx="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71920" y="1193760"/>
              <a:ext cx="0" cy="4173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479760" y="1193760"/>
              <a:ext cx="0" cy="4173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56040" y="1193760"/>
              <a:ext cx="0" cy="4173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89400" y="1193760"/>
              <a:ext cx="0" cy="4173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49680" y="1193760"/>
              <a:ext cx="0" cy="4173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65800" y="1193760"/>
              <a:ext cx="0" cy="4173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73640" y="1193760"/>
              <a:ext cx="0" cy="4173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649920" y="1193760"/>
              <a:ext cx="0" cy="4173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83280" y="1193760"/>
              <a:ext cx="0" cy="4173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43920" y="1193760"/>
              <a:ext cx="0" cy="4173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332080" y="1193400"/>
              <a:ext cx="0" cy="4173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79520" y="5367240"/>
              <a:ext cx="52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79520" y="5367240"/>
              <a:ext cx="52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279520" y="4375080"/>
              <a:ext cx="52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279520" y="3382920"/>
              <a:ext cx="52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79520" y="2389320"/>
              <a:ext cx="52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79520" y="1397160"/>
              <a:ext cx="52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05080" y="5367240"/>
              <a:ext cx="27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05080" y="5367240"/>
              <a:ext cx="27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05080" y="5164200"/>
              <a:ext cx="27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05080" y="4971960"/>
              <a:ext cx="27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05080" y="4768920"/>
              <a:ext cx="27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05080" y="4576680"/>
              <a:ext cx="27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05080" y="4375080"/>
              <a:ext cx="27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05080" y="4172040"/>
              <a:ext cx="27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05080" y="3979800"/>
              <a:ext cx="27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05080" y="3776760"/>
              <a:ext cx="27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305080" y="3575160"/>
              <a:ext cx="27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05080" y="3382920"/>
              <a:ext cx="27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305080" y="3179880"/>
              <a:ext cx="27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305080" y="2987640"/>
              <a:ext cx="27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305080" y="2784600"/>
              <a:ext cx="27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305080" y="2581200"/>
              <a:ext cx="27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305080" y="2389320"/>
              <a:ext cx="27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05080" y="2187720"/>
              <a:ext cx="27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05080" y="1984320"/>
              <a:ext cx="27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05080" y="1792440"/>
              <a:ext cx="27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05080" y="1589040"/>
              <a:ext cx="27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05080" y="1397160"/>
              <a:ext cx="27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05080" y="1193760"/>
              <a:ext cx="27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32080" y="4375080"/>
              <a:ext cx="5387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32080" y="3382920"/>
              <a:ext cx="5387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02000" y="2070000"/>
              <a:ext cx="5172120" cy="3297240"/>
            </a:xfrm>
            <a:custGeom>
              <a:avLst/>
              <a:gdLst/>
              <a:ahLst/>
              <a:rect l="l" t="t" r="r" b="b"/>
              <a:pathLst>
                <a:path w="3258" h="2077">
                  <a:moveTo>
                    <a:pt x="0" y="2037"/>
                  </a:moveTo>
                  <a:lnTo>
                    <a:pt x="4" y="2030"/>
                  </a:lnTo>
                  <a:lnTo>
                    <a:pt x="8" y="2030"/>
                  </a:lnTo>
                  <a:lnTo>
                    <a:pt x="12" y="2030"/>
                  </a:lnTo>
                  <a:lnTo>
                    <a:pt x="16" y="2023"/>
                  </a:lnTo>
                  <a:lnTo>
                    <a:pt x="20" y="2023"/>
                  </a:lnTo>
                  <a:lnTo>
                    <a:pt x="24" y="2023"/>
                  </a:lnTo>
                  <a:lnTo>
                    <a:pt x="28" y="2016"/>
                  </a:lnTo>
                  <a:lnTo>
                    <a:pt x="33" y="2016"/>
                  </a:lnTo>
                  <a:lnTo>
                    <a:pt x="37" y="2016"/>
                  </a:lnTo>
                  <a:lnTo>
                    <a:pt x="41" y="2010"/>
                  </a:lnTo>
                  <a:lnTo>
                    <a:pt x="45" y="2010"/>
                  </a:lnTo>
                  <a:lnTo>
                    <a:pt x="49" y="2010"/>
                  </a:lnTo>
                  <a:lnTo>
                    <a:pt x="53" y="2003"/>
                  </a:lnTo>
                  <a:lnTo>
                    <a:pt x="57" y="2003"/>
                  </a:lnTo>
                  <a:lnTo>
                    <a:pt x="61" y="1996"/>
                  </a:lnTo>
                  <a:lnTo>
                    <a:pt x="65" y="1996"/>
                  </a:lnTo>
                  <a:lnTo>
                    <a:pt x="70" y="1996"/>
                  </a:lnTo>
                  <a:lnTo>
                    <a:pt x="74" y="1990"/>
                  </a:lnTo>
                  <a:lnTo>
                    <a:pt x="78" y="1990"/>
                  </a:lnTo>
                  <a:lnTo>
                    <a:pt x="82" y="1990"/>
                  </a:lnTo>
                  <a:lnTo>
                    <a:pt x="86" y="1983"/>
                  </a:lnTo>
                  <a:lnTo>
                    <a:pt x="90" y="1983"/>
                  </a:lnTo>
                  <a:lnTo>
                    <a:pt x="94" y="1976"/>
                  </a:lnTo>
                  <a:lnTo>
                    <a:pt x="98" y="1976"/>
                  </a:lnTo>
                  <a:lnTo>
                    <a:pt x="102" y="1976"/>
                  </a:lnTo>
                  <a:lnTo>
                    <a:pt x="102" y="1976"/>
                  </a:lnTo>
                  <a:lnTo>
                    <a:pt x="107" y="1969"/>
                  </a:lnTo>
                  <a:lnTo>
                    <a:pt x="111" y="1969"/>
                  </a:lnTo>
                  <a:lnTo>
                    <a:pt x="115" y="1963"/>
                  </a:lnTo>
                  <a:lnTo>
                    <a:pt x="119" y="1963"/>
                  </a:lnTo>
                  <a:lnTo>
                    <a:pt x="123" y="1963"/>
                  </a:lnTo>
                  <a:lnTo>
                    <a:pt x="127" y="1956"/>
                  </a:lnTo>
                  <a:lnTo>
                    <a:pt x="131" y="1956"/>
                  </a:lnTo>
                  <a:lnTo>
                    <a:pt x="135" y="1949"/>
                  </a:lnTo>
                  <a:lnTo>
                    <a:pt x="139" y="1949"/>
                  </a:lnTo>
                  <a:lnTo>
                    <a:pt x="144" y="1949"/>
                  </a:lnTo>
                  <a:lnTo>
                    <a:pt x="148" y="1942"/>
                  </a:lnTo>
                  <a:lnTo>
                    <a:pt x="152" y="1942"/>
                  </a:lnTo>
                  <a:lnTo>
                    <a:pt x="156" y="1936"/>
                  </a:lnTo>
                  <a:lnTo>
                    <a:pt x="160" y="1936"/>
                  </a:lnTo>
                  <a:lnTo>
                    <a:pt x="164" y="1936"/>
                  </a:lnTo>
                  <a:lnTo>
                    <a:pt x="168" y="1929"/>
                  </a:lnTo>
                  <a:lnTo>
                    <a:pt x="172" y="1929"/>
                  </a:lnTo>
                  <a:lnTo>
                    <a:pt x="176" y="1922"/>
                  </a:lnTo>
                  <a:lnTo>
                    <a:pt x="180" y="1922"/>
                  </a:lnTo>
                  <a:lnTo>
                    <a:pt x="185" y="1922"/>
                  </a:lnTo>
                  <a:lnTo>
                    <a:pt x="189" y="1916"/>
                  </a:lnTo>
                  <a:lnTo>
                    <a:pt x="189" y="1916"/>
                  </a:lnTo>
                  <a:lnTo>
                    <a:pt x="193" y="1916"/>
                  </a:lnTo>
                  <a:lnTo>
                    <a:pt x="197" y="1909"/>
                  </a:lnTo>
                  <a:lnTo>
                    <a:pt x="201" y="1909"/>
                  </a:lnTo>
                  <a:lnTo>
                    <a:pt x="205" y="1902"/>
                  </a:lnTo>
                  <a:lnTo>
                    <a:pt x="209" y="1902"/>
                  </a:lnTo>
                  <a:lnTo>
                    <a:pt x="213" y="1895"/>
                  </a:lnTo>
                  <a:lnTo>
                    <a:pt x="217" y="1895"/>
                  </a:lnTo>
                  <a:lnTo>
                    <a:pt x="222" y="1895"/>
                  </a:lnTo>
                  <a:lnTo>
                    <a:pt x="226" y="1889"/>
                  </a:lnTo>
                  <a:lnTo>
                    <a:pt x="230" y="1889"/>
                  </a:lnTo>
                  <a:lnTo>
                    <a:pt x="234" y="1882"/>
                  </a:lnTo>
                  <a:lnTo>
                    <a:pt x="238" y="1882"/>
                  </a:lnTo>
                  <a:lnTo>
                    <a:pt x="242" y="1875"/>
                  </a:lnTo>
                  <a:lnTo>
                    <a:pt x="246" y="1875"/>
                  </a:lnTo>
                  <a:lnTo>
                    <a:pt x="250" y="1869"/>
                  </a:lnTo>
                  <a:lnTo>
                    <a:pt x="254" y="1869"/>
                  </a:lnTo>
                  <a:lnTo>
                    <a:pt x="259" y="1862"/>
                  </a:lnTo>
                  <a:lnTo>
                    <a:pt x="263" y="1862"/>
                  </a:lnTo>
                  <a:lnTo>
                    <a:pt x="267" y="1862"/>
                  </a:lnTo>
                  <a:lnTo>
                    <a:pt x="271" y="1855"/>
                  </a:lnTo>
                  <a:lnTo>
                    <a:pt x="271" y="1855"/>
                  </a:lnTo>
                  <a:lnTo>
                    <a:pt x="275" y="1855"/>
                  </a:lnTo>
                  <a:lnTo>
                    <a:pt x="279" y="1848"/>
                  </a:lnTo>
                  <a:lnTo>
                    <a:pt x="283" y="1848"/>
                  </a:lnTo>
                  <a:lnTo>
                    <a:pt x="287" y="1842"/>
                  </a:lnTo>
                  <a:lnTo>
                    <a:pt x="291" y="1842"/>
                  </a:lnTo>
                  <a:lnTo>
                    <a:pt x="296" y="1842"/>
                  </a:lnTo>
                  <a:lnTo>
                    <a:pt x="300" y="1835"/>
                  </a:lnTo>
                  <a:lnTo>
                    <a:pt x="304" y="1835"/>
                  </a:lnTo>
                  <a:lnTo>
                    <a:pt x="308" y="1828"/>
                  </a:lnTo>
                  <a:lnTo>
                    <a:pt x="312" y="1828"/>
                  </a:lnTo>
                  <a:lnTo>
                    <a:pt x="316" y="1821"/>
                  </a:lnTo>
                  <a:lnTo>
                    <a:pt x="320" y="1821"/>
                  </a:lnTo>
                  <a:lnTo>
                    <a:pt x="324" y="1821"/>
                  </a:lnTo>
                  <a:lnTo>
                    <a:pt x="328" y="1815"/>
                  </a:lnTo>
                  <a:lnTo>
                    <a:pt x="333" y="1815"/>
                  </a:lnTo>
                  <a:lnTo>
                    <a:pt x="337" y="1808"/>
                  </a:lnTo>
                  <a:lnTo>
                    <a:pt x="341" y="1808"/>
                  </a:lnTo>
                  <a:lnTo>
                    <a:pt x="345" y="1808"/>
                  </a:lnTo>
                  <a:lnTo>
                    <a:pt x="349" y="1801"/>
                  </a:lnTo>
                  <a:lnTo>
                    <a:pt x="353" y="1801"/>
                  </a:lnTo>
                  <a:lnTo>
                    <a:pt x="357" y="1795"/>
                  </a:lnTo>
                  <a:lnTo>
                    <a:pt x="357" y="1795"/>
                  </a:lnTo>
                  <a:lnTo>
                    <a:pt x="361" y="1795"/>
                  </a:lnTo>
                  <a:lnTo>
                    <a:pt x="365" y="1788"/>
                  </a:lnTo>
                  <a:lnTo>
                    <a:pt x="370" y="1788"/>
                  </a:lnTo>
                  <a:lnTo>
                    <a:pt x="374" y="1781"/>
                  </a:lnTo>
                  <a:lnTo>
                    <a:pt x="378" y="1781"/>
                  </a:lnTo>
                  <a:lnTo>
                    <a:pt x="382" y="1774"/>
                  </a:lnTo>
                  <a:lnTo>
                    <a:pt x="386" y="1774"/>
                  </a:lnTo>
                  <a:lnTo>
                    <a:pt x="390" y="1768"/>
                  </a:lnTo>
                  <a:lnTo>
                    <a:pt x="394" y="1768"/>
                  </a:lnTo>
                  <a:lnTo>
                    <a:pt x="398" y="1761"/>
                  </a:lnTo>
                  <a:lnTo>
                    <a:pt x="402" y="1761"/>
                  </a:lnTo>
                  <a:lnTo>
                    <a:pt x="406" y="1754"/>
                  </a:lnTo>
                  <a:lnTo>
                    <a:pt x="411" y="1754"/>
                  </a:lnTo>
                  <a:lnTo>
                    <a:pt x="415" y="1748"/>
                  </a:lnTo>
                  <a:lnTo>
                    <a:pt x="419" y="1748"/>
                  </a:lnTo>
                  <a:lnTo>
                    <a:pt x="423" y="1741"/>
                  </a:lnTo>
                  <a:lnTo>
                    <a:pt x="427" y="1741"/>
                  </a:lnTo>
                  <a:lnTo>
                    <a:pt x="431" y="1734"/>
                  </a:lnTo>
                  <a:lnTo>
                    <a:pt x="435" y="1734"/>
                  </a:lnTo>
                  <a:lnTo>
                    <a:pt x="439" y="1727"/>
                  </a:lnTo>
                  <a:lnTo>
                    <a:pt x="443" y="1727"/>
                  </a:lnTo>
                  <a:lnTo>
                    <a:pt x="443" y="1727"/>
                  </a:lnTo>
                  <a:lnTo>
                    <a:pt x="448" y="1721"/>
                  </a:lnTo>
                  <a:lnTo>
                    <a:pt x="452" y="1721"/>
                  </a:lnTo>
                  <a:lnTo>
                    <a:pt x="456" y="1714"/>
                  </a:lnTo>
                  <a:lnTo>
                    <a:pt x="460" y="1707"/>
                  </a:lnTo>
                  <a:lnTo>
                    <a:pt x="464" y="1707"/>
                  </a:lnTo>
                  <a:lnTo>
                    <a:pt x="468" y="1700"/>
                  </a:lnTo>
                  <a:lnTo>
                    <a:pt x="472" y="1700"/>
                  </a:lnTo>
                  <a:lnTo>
                    <a:pt x="476" y="1694"/>
                  </a:lnTo>
                  <a:lnTo>
                    <a:pt x="480" y="1694"/>
                  </a:lnTo>
                  <a:lnTo>
                    <a:pt x="485" y="1687"/>
                  </a:lnTo>
                  <a:lnTo>
                    <a:pt x="489" y="1680"/>
                  </a:lnTo>
                  <a:lnTo>
                    <a:pt x="493" y="1680"/>
                  </a:lnTo>
                  <a:lnTo>
                    <a:pt x="497" y="1674"/>
                  </a:lnTo>
                  <a:lnTo>
                    <a:pt x="501" y="1667"/>
                  </a:lnTo>
                  <a:lnTo>
                    <a:pt x="505" y="1667"/>
                  </a:lnTo>
                  <a:lnTo>
                    <a:pt x="509" y="1660"/>
                  </a:lnTo>
                  <a:lnTo>
                    <a:pt x="513" y="1653"/>
                  </a:lnTo>
                  <a:lnTo>
                    <a:pt x="517" y="1653"/>
                  </a:lnTo>
                  <a:lnTo>
                    <a:pt x="522" y="1647"/>
                  </a:lnTo>
                  <a:lnTo>
                    <a:pt x="526" y="1647"/>
                  </a:lnTo>
                  <a:lnTo>
                    <a:pt x="530" y="1640"/>
                  </a:lnTo>
                  <a:lnTo>
                    <a:pt x="530" y="1640"/>
                  </a:lnTo>
                  <a:lnTo>
                    <a:pt x="534" y="1633"/>
                  </a:lnTo>
                  <a:lnTo>
                    <a:pt x="538" y="1627"/>
                  </a:lnTo>
                  <a:lnTo>
                    <a:pt x="542" y="1627"/>
                  </a:lnTo>
                  <a:lnTo>
                    <a:pt x="546" y="1620"/>
                  </a:lnTo>
                  <a:lnTo>
                    <a:pt x="550" y="1613"/>
                  </a:lnTo>
                  <a:lnTo>
                    <a:pt x="554" y="1613"/>
                  </a:lnTo>
                  <a:lnTo>
                    <a:pt x="559" y="1606"/>
                  </a:lnTo>
                  <a:lnTo>
                    <a:pt x="563" y="1600"/>
                  </a:lnTo>
                  <a:lnTo>
                    <a:pt x="567" y="1593"/>
                  </a:lnTo>
                  <a:lnTo>
                    <a:pt x="571" y="1586"/>
                  </a:lnTo>
                  <a:lnTo>
                    <a:pt x="575" y="1586"/>
                  </a:lnTo>
                  <a:lnTo>
                    <a:pt x="579" y="1579"/>
                  </a:lnTo>
                  <a:lnTo>
                    <a:pt x="583" y="1573"/>
                  </a:lnTo>
                  <a:lnTo>
                    <a:pt x="587" y="1566"/>
                  </a:lnTo>
                  <a:lnTo>
                    <a:pt x="591" y="1559"/>
                  </a:lnTo>
                  <a:lnTo>
                    <a:pt x="596" y="1553"/>
                  </a:lnTo>
                  <a:lnTo>
                    <a:pt x="600" y="1546"/>
                  </a:lnTo>
                  <a:lnTo>
                    <a:pt x="604" y="1539"/>
                  </a:lnTo>
                  <a:lnTo>
                    <a:pt x="608" y="1532"/>
                  </a:lnTo>
                  <a:lnTo>
                    <a:pt x="612" y="1526"/>
                  </a:lnTo>
                  <a:lnTo>
                    <a:pt x="612" y="1526"/>
                  </a:lnTo>
                  <a:lnTo>
                    <a:pt x="616" y="1526"/>
                  </a:lnTo>
                  <a:lnTo>
                    <a:pt x="620" y="1519"/>
                  </a:lnTo>
                  <a:lnTo>
                    <a:pt x="624" y="1512"/>
                  </a:lnTo>
                  <a:lnTo>
                    <a:pt x="628" y="1499"/>
                  </a:lnTo>
                  <a:lnTo>
                    <a:pt x="632" y="1492"/>
                  </a:lnTo>
                  <a:lnTo>
                    <a:pt x="637" y="1485"/>
                  </a:lnTo>
                  <a:lnTo>
                    <a:pt x="641" y="1479"/>
                  </a:lnTo>
                  <a:lnTo>
                    <a:pt x="645" y="1472"/>
                  </a:lnTo>
                  <a:lnTo>
                    <a:pt x="649" y="1465"/>
                  </a:lnTo>
                  <a:lnTo>
                    <a:pt x="653" y="1458"/>
                  </a:lnTo>
                  <a:lnTo>
                    <a:pt x="657" y="1452"/>
                  </a:lnTo>
                  <a:lnTo>
                    <a:pt x="661" y="1438"/>
                  </a:lnTo>
                  <a:lnTo>
                    <a:pt x="665" y="1432"/>
                  </a:lnTo>
                  <a:lnTo>
                    <a:pt x="669" y="1425"/>
                  </a:lnTo>
                  <a:lnTo>
                    <a:pt x="674" y="1418"/>
                  </a:lnTo>
                  <a:lnTo>
                    <a:pt x="678" y="1411"/>
                  </a:lnTo>
                  <a:lnTo>
                    <a:pt x="682" y="1398"/>
                  </a:lnTo>
                  <a:lnTo>
                    <a:pt x="686" y="1391"/>
                  </a:lnTo>
                  <a:lnTo>
                    <a:pt x="690" y="1385"/>
                  </a:lnTo>
                  <a:lnTo>
                    <a:pt x="694" y="1378"/>
                  </a:lnTo>
                  <a:lnTo>
                    <a:pt x="698" y="1364"/>
                  </a:lnTo>
                  <a:lnTo>
                    <a:pt x="702" y="1358"/>
                  </a:lnTo>
                  <a:lnTo>
                    <a:pt x="702" y="1358"/>
                  </a:lnTo>
                  <a:lnTo>
                    <a:pt x="706" y="1351"/>
                  </a:lnTo>
                  <a:lnTo>
                    <a:pt x="711" y="1344"/>
                  </a:lnTo>
                  <a:lnTo>
                    <a:pt x="715" y="1331"/>
                  </a:lnTo>
                  <a:lnTo>
                    <a:pt x="719" y="1324"/>
                  </a:lnTo>
                  <a:lnTo>
                    <a:pt x="723" y="1317"/>
                  </a:lnTo>
                  <a:lnTo>
                    <a:pt x="727" y="1304"/>
                  </a:lnTo>
                  <a:lnTo>
                    <a:pt x="731" y="1297"/>
                  </a:lnTo>
                  <a:lnTo>
                    <a:pt x="735" y="1290"/>
                  </a:lnTo>
                  <a:lnTo>
                    <a:pt x="739" y="1277"/>
                  </a:lnTo>
                  <a:lnTo>
                    <a:pt x="743" y="1270"/>
                  </a:lnTo>
                  <a:lnTo>
                    <a:pt x="748" y="1264"/>
                  </a:lnTo>
                  <a:lnTo>
                    <a:pt x="752" y="1250"/>
                  </a:lnTo>
                  <a:lnTo>
                    <a:pt x="756" y="1243"/>
                  </a:lnTo>
                  <a:lnTo>
                    <a:pt x="760" y="1237"/>
                  </a:lnTo>
                  <a:lnTo>
                    <a:pt x="764" y="1223"/>
                  </a:lnTo>
                  <a:lnTo>
                    <a:pt x="768" y="1216"/>
                  </a:lnTo>
                  <a:lnTo>
                    <a:pt x="772" y="1203"/>
                  </a:lnTo>
                  <a:lnTo>
                    <a:pt x="776" y="1196"/>
                  </a:lnTo>
                  <a:lnTo>
                    <a:pt x="780" y="1190"/>
                  </a:lnTo>
                  <a:lnTo>
                    <a:pt x="785" y="1176"/>
                  </a:lnTo>
                  <a:lnTo>
                    <a:pt x="789" y="1169"/>
                  </a:lnTo>
                  <a:lnTo>
                    <a:pt x="793" y="1156"/>
                  </a:lnTo>
                  <a:lnTo>
                    <a:pt x="797" y="1149"/>
                  </a:lnTo>
                  <a:lnTo>
                    <a:pt x="801" y="1136"/>
                  </a:lnTo>
                  <a:lnTo>
                    <a:pt x="801" y="1136"/>
                  </a:lnTo>
                  <a:lnTo>
                    <a:pt x="805" y="1129"/>
                  </a:lnTo>
                  <a:lnTo>
                    <a:pt x="809" y="1116"/>
                  </a:lnTo>
                  <a:lnTo>
                    <a:pt x="813" y="1102"/>
                  </a:lnTo>
                  <a:lnTo>
                    <a:pt x="817" y="1095"/>
                  </a:lnTo>
                  <a:lnTo>
                    <a:pt x="822" y="1082"/>
                  </a:lnTo>
                  <a:lnTo>
                    <a:pt x="826" y="1069"/>
                  </a:lnTo>
                  <a:lnTo>
                    <a:pt x="830" y="1062"/>
                  </a:lnTo>
                  <a:lnTo>
                    <a:pt x="834" y="1048"/>
                  </a:lnTo>
                  <a:lnTo>
                    <a:pt x="838" y="1035"/>
                  </a:lnTo>
                  <a:lnTo>
                    <a:pt x="842" y="1022"/>
                  </a:lnTo>
                  <a:lnTo>
                    <a:pt x="846" y="1015"/>
                  </a:lnTo>
                  <a:lnTo>
                    <a:pt x="850" y="1001"/>
                  </a:lnTo>
                  <a:lnTo>
                    <a:pt x="854" y="988"/>
                  </a:lnTo>
                  <a:lnTo>
                    <a:pt x="858" y="974"/>
                  </a:lnTo>
                  <a:lnTo>
                    <a:pt x="863" y="961"/>
                  </a:lnTo>
                  <a:lnTo>
                    <a:pt x="867" y="948"/>
                  </a:lnTo>
                  <a:lnTo>
                    <a:pt x="871" y="934"/>
                  </a:lnTo>
                  <a:lnTo>
                    <a:pt x="875" y="921"/>
                  </a:lnTo>
                  <a:lnTo>
                    <a:pt x="879" y="907"/>
                  </a:lnTo>
                  <a:lnTo>
                    <a:pt x="883" y="894"/>
                  </a:lnTo>
                  <a:lnTo>
                    <a:pt x="887" y="880"/>
                  </a:lnTo>
                  <a:lnTo>
                    <a:pt x="891" y="867"/>
                  </a:lnTo>
                  <a:lnTo>
                    <a:pt x="895" y="853"/>
                  </a:lnTo>
                  <a:lnTo>
                    <a:pt x="900" y="840"/>
                  </a:lnTo>
                  <a:lnTo>
                    <a:pt x="904" y="827"/>
                  </a:lnTo>
                  <a:lnTo>
                    <a:pt x="908" y="813"/>
                  </a:lnTo>
                  <a:lnTo>
                    <a:pt x="912" y="800"/>
                  </a:lnTo>
                  <a:lnTo>
                    <a:pt x="916" y="786"/>
                  </a:lnTo>
                  <a:lnTo>
                    <a:pt x="916" y="786"/>
                  </a:lnTo>
                  <a:lnTo>
                    <a:pt x="920" y="773"/>
                  </a:lnTo>
                  <a:lnTo>
                    <a:pt x="924" y="759"/>
                  </a:lnTo>
                  <a:lnTo>
                    <a:pt x="928" y="746"/>
                  </a:lnTo>
                  <a:lnTo>
                    <a:pt x="932" y="726"/>
                  </a:lnTo>
                  <a:lnTo>
                    <a:pt x="937" y="712"/>
                  </a:lnTo>
                  <a:lnTo>
                    <a:pt x="941" y="699"/>
                  </a:lnTo>
                  <a:lnTo>
                    <a:pt x="945" y="685"/>
                  </a:lnTo>
                  <a:lnTo>
                    <a:pt x="949" y="665"/>
                  </a:lnTo>
                  <a:lnTo>
                    <a:pt x="953" y="652"/>
                  </a:lnTo>
                  <a:lnTo>
                    <a:pt x="957" y="638"/>
                  </a:lnTo>
                  <a:lnTo>
                    <a:pt x="961" y="618"/>
                  </a:lnTo>
                  <a:lnTo>
                    <a:pt x="965" y="605"/>
                  </a:lnTo>
                  <a:lnTo>
                    <a:pt x="969" y="591"/>
                  </a:lnTo>
                  <a:lnTo>
                    <a:pt x="974" y="571"/>
                  </a:lnTo>
                  <a:lnTo>
                    <a:pt x="978" y="558"/>
                  </a:lnTo>
                  <a:lnTo>
                    <a:pt x="982" y="544"/>
                  </a:lnTo>
                  <a:lnTo>
                    <a:pt x="986" y="524"/>
                  </a:lnTo>
                  <a:lnTo>
                    <a:pt x="990" y="511"/>
                  </a:lnTo>
                  <a:lnTo>
                    <a:pt x="994" y="490"/>
                  </a:lnTo>
                  <a:lnTo>
                    <a:pt x="998" y="477"/>
                  </a:lnTo>
                  <a:lnTo>
                    <a:pt x="1002" y="464"/>
                  </a:lnTo>
                  <a:lnTo>
                    <a:pt x="1006" y="443"/>
                  </a:lnTo>
                  <a:lnTo>
                    <a:pt x="1011" y="430"/>
                  </a:lnTo>
                  <a:lnTo>
                    <a:pt x="1015" y="410"/>
                  </a:lnTo>
                  <a:lnTo>
                    <a:pt x="1019" y="396"/>
                  </a:lnTo>
                  <a:lnTo>
                    <a:pt x="1023" y="383"/>
                  </a:lnTo>
                  <a:lnTo>
                    <a:pt x="1027" y="363"/>
                  </a:lnTo>
                  <a:lnTo>
                    <a:pt x="1031" y="349"/>
                  </a:lnTo>
                  <a:lnTo>
                    <a:pt x="1035" y="336"/>
                  </a:lnTo>
                  <a:lnTo>
                    <a:pt x="1039" y="316"/>
                  </a:lnTo>
                  <a:lnTo>
                    <a:pt x="1043" y="302"/>
                  </a:lnTo>
                  <a:lnTo>
                    <a:pt x="1048" y="289"/>
                  </a:lnTo>
                  <a:lnTo>
                    <a:pt x="1048" y="289"/>
                  </a:lnTo>
                  <a:lnTo>
                    <a:pt x="1052" y="275"/>
                  </a:lnTo>
                  <a:lnTo>
                    <a:pt x="1056" y="262"/>
                  </a:lnTo>
                  <a:lnTo>
                    <a:pt x="1060" y="248"/>
                  </a:lnTo>
                  <a:lnTo>
                    <a:pt x="1064" y="235"/>
                  </a:lnTo>
                  <a:lnTo>
                    <a:pt x="1068" y="222"/>
                  </a:lnTo>
                  <a:lnTo>
                    <a:pt x="1072" y="208"/>
                  </a:lnTo>
                  <a:lnTo>
                    <a:pt x="1076" y="195"/>
                  </a:lnTo>
                  <a:lnTo>
                    <a:pt x="1080" y="181"/>
                  </a:lnTo>
                  <a:lnTo>
                    <a:pt x="1084" y="168"/>
                  </a:lnTo>
                  <a:lnTo>
                    <a:pt x="1089" y="154"/>
                  </a:lnTo>
                  <a:lnTo>
                    <a:pt x="1093" y="141"/>
                  </a:lnTo>
                  <a:lnTo>
                    <a:pt x="1097" y="127"/>
                  </a:lnTo>
                  <a:lnTo>
                    <a:pt x="1101" y="121"/>
                  </a:lnTo>
                  <a:lnTo>
                    <a:pt x="1105" y="107"/>
                  </a:lnTo>
                  <a:lnTo>
                    <a:pt x="1109" y="94"/>
                  </a:lnTo>
                  <a:lnTo>
                    <a:pt x="1113" y="87"/>
                  </a:lnTo>
                  <a:lnTo>
                    <a:pt x="1117" y="74"/>
                  </a:lnTo>
                  <a:lnTo>
                    <a:pt x="1121" y="60"/>
                  </a:lnTo>
                  <a:lnTo>
                    <a:pt x="1126" y="53"/>
                  </a:lnTo>
                  <a:lnTo>
                    <a:pt x="1130" y="40"/>
                  </a:lnTo>
                  <a:lnTo>
                    <a:pt x="1134" y="27"/>
                  </a:lnTo>
                  <a:lnTo>
                    <a:pt x="1138" y="20"/>
                  </a:lnTo>
                  <a:lnTo>
                    <a:pt x="1142" y="6"/>
                  </a:lnTo>
                  <a:lnTo>
                    <a:pt x="1146" y="0"/>
                  </a:lnTo>
                  <a:lnTo>
                    <a:pt x="1146" y="0"/>
                  </a:lnTo>
                  <a:lnTo>
                    <a:pt x="1150" y="0"/>
                  </a:lnTo>
                  <a:lnTo>
                    <a:pt x="1154" y="0"/>
                  </a:lnTo>
                  <a:lnTo>
                    <a:pt x="1158" y="0"/>
                  </a:lnTo>
                  <a:lnTo>
                    <a:pt x="1163" y="0"/>
                  </a:lnTo>
                  <a:lnTo>
                    <a:pt x="1167" y="0"/>
                  </a:lnTo>
                  <a:lnTo>
                    <a:pt x="1171" y="0"/>
                  </a:lnTo>
                  <a:lnTo>
                    <a:pt x="1175" y="0"/>
                  </a:lnTo>
                  <a:lnTo>
                    <a:pt x="1179" y="0"/>
                  </a:lnTo>
                  <a:lnTo>
                    <a:pt x="1183" y="0"/>
                  </a:lnTo>
                  <a:lnTo>
                    <a:pt x="1187" y="0"/>
                  </a:lnTo>
                  <a:lnTo>
                    <a:pt x="1191" y="0"/>
                  </a:lnTo>
                  <a:lnTo>
                    <a:pt x="1195" y="0"/>
                  </a:lnTo>
                  <a:lnTo>
                    <a:pt x="1200" y="0"/>
                  </a:lnTo>
                  <a:lnTo>
                    <a:pt x="1204" y="0"/>
                  </a:lnTo>
                  <a:lnTo>
                    <a:pt x="1208" y="0"/>
                  </a:lnTo>
                  <a:lnTo>
                    <a:pt x="1212" y="0"/>
                  </a:lnTo>
                  <a:lnTo>
                    <a:pt x="1216" y="0"/>
                  </a:lnTo>
                  <a:lnTo>
                    <a:pt x="1220" y="0"/>
                  </a:lnTo>
                  <a:lnTo>
                    <a:pt x="1224" y="0"/>
                  </a:lnTo>
                  <a:lnTo>
                    <a:pt x="1228" y="13"/>
                  </a:lnTo>
                  <a:lnTo>
                    <a:pt x="1232" y="27"/>
                  </a:lnTo>
                  <a:lnTo>
                    <a:pt x="1237" y="40"/>
                  </a:lnTo>
                  <a:lnTo>
                    <a:pt x="1237" y="40"/>
                  </a:lnTo>
                  <a:lnTo>
                    <a:pt x="1241" y="53"/>
                  </a:lnTo>
                  <a:lnTo>
                    <a:pt x="1245" y="67"/>
                  </a:lnTo>
                  <a:lnTo>
                    <a:pt x="1249" y="87"/>
                  </a:lnTo>
                  <a:lnTo>
                    <a:pt x="1253" y="107"/>
                  </a:lnTo>
                  <a:lnTo>
                    <a:pt x="1257" y="121"/>
                  </a:lnTo>
                  <a:lnTo>
                    <a:pt x="1261" y="141"/>
                  </a:lnTo>
                  <a:lnTo>
                    <a:pt x="1265" y="168"/>
                  </a:lnTo>
                  <a:lnTo>
                    <a:pt x="1269" y="188"/>
                  </a:lnTo>
                  <a:lnTo>
                    <a:pt x="1274" y="208"/>
                  </a:lnTo>
                  <a:lnTo>
                    <a:pt x="1278" y="235"/>
                  </a:lnTo>
                  <a:lnTo>
                    <a:pt x="1282" y="262"/>
                  </a:lnTo>
                  <a:lnTo>
                    <a:pt x="1286" y="282"/>
                  </a:lnTo>
                  <a:lnTo>
                    <a:pt x="1290" y="309"/>
                  </a:lnTo>
                  <a:lnTo>
                    <a:pt x="1294" y="336"/>
                  </a:lnTo>
                  <a:lnTo>
                    <a:pt x="1298" y="369"/>
                  </a:lnTo>
                  <a:lnTo>
                    <a:pt x="1302" y="396"/>
                  </a:lnTo>
                  <a:lnTo>
                    <a:pt x="1306" y="423"/>
                  </a:lnTo>
                  <a:lnTo>
                    <a:pt x="1310" y="457"/>
                  </a:lnTo>
                  <a:lnTo>
                    <a:pt x="1315" y="484"/>
                  </a:lnTo>
                  <a:lnTo>
                    <a:pt x="1319" y="517"/>
                  </a:lnTo>
                  <a:lnTo>
                    <a:pt x="1323" y="544"/>
                  </a:lnTo>
                  <a:lnTo>
                    <a:pt x="1327" y="578"/>
                  </a:lnTo>
                  <a:lnTo>
                    <a:pt x="1331" y="611"/>
                  </a:lnTo>
                  <a:lnTo>
                    <a:pt x="1335" y="638"/>
                  </a:lnTo>
                  <a:lnTo>
                    <a:pt x="1339" y="672"/>
                  </a:lnTo>
                  <a:lnTo>
                    <a:pt x="1339" y="672"/>
                  </a:lnTo>
                  <a:lnTo>
                    <a:pt x="1343" y="706"/>
                  </a:lnTo>
                  <a:lnTo>
                    <a:pt x="1347" y="746"/>
                  </a:lnTo>
                  <a:lnTo>
                    <a:pt x="1352" y="779"/>
                  </a:lnTo>
                  <a:lnTo>
                    <a:pt x="1356" y="820"/>
                  </a:lnTo>
                  <a:lnTo>
                    <a:pt x="1360" y="860"/>
                  </a:lnTo>
                  <a:lnTo>
                    <a:pt x="1364" y="900"/>
                  </a:lnTo>
                  <a:lnTo>
                    <a:pt x="1368" y="941"/>
                  </a:lnTo>
                  <a:lnTo>
                    <a:pt x="1372" y="981"/>
                  </a:lnTo>
                  <a:lnTo>
                    <a:pt x="1376" y="1028"/>
                  </a:lnTo>
                  <a:lnTo>
                    <a:pt x="1380" y="1069"/>
                  </a:lnTo>
                  <a:lnTo>
                    <a:pt x="1384" y="1109"/>
                  </a:lnTo>
                  <a:lnTo>
                    <a:pt x="1389" y="1149"/>
                  </a:lnTo>
                  <a:lnTo>
                    <a:pt x="1393" y="1196"/>
                  </a:lnTo>
                  <a:lnTo>
                    <a:pt x="1397" y="1230"/>
                  </a:lnTo>
                  <a:lnTo>
                    <a:pt x="1401" y="1270"/>
                  </a:lnTo>
                  <a:lnTo>
                    <a:pt x="1405" y="1311"/>
                  </a:lnTo>
                  <a:lnTo>
                    <a:pt x="1409" y="1344"/>
                  </a:lnTo>
                  <a:lnTo>
                    <a:pt x="1413" y="1378"/>
                  </a:lnTo>
                  <a:lnTo>
                    <a:pt x="1417" y="1405"/>
                  </a:lnTo>
                  <a:lnTo>
                    <a:pt x="1417" y="1405"/>
                  </a:lnTo>
                  <a:lnTo>
                    <a:pt x="1421" y="1438"/>
                  </a:lnTo>
                  <a:lnTo>
                    <a:pt x="1426" y="1465"/>
                  </a:lnTo>
                  <a:lnTo>
                    <a:pt x="1430" y="1492"/>
                  </a:lnTo>
                  <a:lnTo>
                    <a:pt x="1434" y="1519"/>
                  </a:lnTo>
                  <a:lnTo>
                    <a:pt x="1438" y="1546"/>
                  </a:lnTo>
                  <a:lnTo>
                    <a:pt x="1442" y="1573"/>
                  </a:lnTo>
                  <a:lnTo>
                    <a:pt x="1446" y="1600"/>
                  </a:lnTo>
                  <a:lnTo>
                    <a:pt x="1450" y="1627"/>
                  </a:lnTo>
                  <a:lnTo>
                    <a:pt x="1454" y="1647"/>
                  </a:lnTo>
                  <a:lnTo>
                    <a:pt x="1458" y="1674"/>
                  </a:lnTo>
                  <a:lnTo>
                    <a:pt x="1463" y="1694"/>
                  </a:lnTo>
                  <a:lnTo>
                    <a:pt x="1467" y="1714"/>
                  </a:lnTo>
                  <a:lnTo>
                    <a:pt x="1471" y="1734"/>
                  </a:lnTo>
                  <a:lnTo>
                    <a:pt x="1475" y="1754"/>
                  </a:lnTo>
                  <a:lnTo>
                    <a:pt x="1479" y="1774"/>
                  </a:lnTo>
                  <a:lnTo>
                    <a:pt x="1483" y="1795"/>
                  </a:lnTo>
                  <a:lnTo>
                    <a:pt x="1487" y="1815"/>
                  </a:lnTo>
                  <a:lnTo>
                    <a:pt x="1491" y="1828"/>
                  </a:lnTo>
                  <a:lnTo>
                    <a:pt x="1495" y="1842"/>
                  </a:lnTo>
                  <a:lnTo>
                    <a:pt x="1500" y="1855"/>
                  </a:lnTo>
                  <a:lnTo>
                    <a:pt x="1504" y="1869"/>
                  </a:lnTo>
                  <a:lnTo>
                    <a:pt x="1508" y="1882"/>
                  </a:lnTo>
                  <a:lnTo>
                    <a:pt x="1512" y="1895"/>
                  </a:lnTo>
                  <a:lnTo>
                    <a:pt x="1516" y="1902"/>
                  </a:lnTo>
                  <a:lnTo>
                    <a:pt x="1520" y="1916"/>
                  </a:lnTo>
                  <a:lnTo>
                    <a:pt x="1524" y="1922"/>
                  </a:lnTo>
                  <a:lnTo>
                    <a:pt x="1528" y="1929"/>
                  </a:lnTo>
                  <a:lnTo>
                    <a:pt x="1532" y="1936"/>
                  </a:lnTo>
                  <a:lnTo>
                    <a:pt x="1532" y="1936"/>
                  </a:lnTo>
                  <a:lnTo>
                    <a:pt x="1536" y="1942"/>
                  </a:lnTo>
                  <a:lnTo>
                    <a:pt x="1541" y="1942"/>
                  </a:lnTo>
                  <a:lnTo>
                    <a:pt x="1545" y="1949"/>
                  </a:lnTo>
                  <a:lnTo>
                    <a:pt x="1549" y="1956"/>
                  </a:lnTo>
                  <a:lnTo>
                    <a:pt x="1553" y="1963"/>
                  </a:lnTo>
                  <a:lnTo>
                    <a:pt x="1557" y="1963"/>
                  </a:lnTo>
                  <a:lnTo>
                    <a:pt x="1561" y="1969"/>
                  </a:lnTo>
                  <a:lnTo>
                    <a:pt x="1565" y="1976"/>
                  </a:lnTo>
                  <a:lnTo>
                    <a:pt x="1569" y="1976"/>
                  </a:lnTo>
                  <a:lnTo>
                    <a:pt x="1573" y="1983"/>
                  </a:lnTo>
                  <a:lnTo>
                    <a:pt x="1578" y="1990"/>
                  </a:lnTo>
                  <a:lnTo>
                    <a:pt x="1582" y="1990"/>
                  </a:lnTo>
                  <a:lnTo>
                    <a:pt x="1586" y="1996"/>
                  </a:lnTo>
                  <a:lnTo>
                    <a:pt x="1590" y="2003"/>
                  </a:lnTo>
                  <a:lnTo>
                    <a:pt x="1594" y="2003"/>
                  </a:lnTo>
                  <a:lnTo>
                    <a:pt x="1598" y="2010"/>
                  </a:lnTo>
                  <a:lnTo>
                    <a:pt x="1602" y="2010"/>
                  </a:lnTo>
                  <a:lnTo>
                    <a:pt x="1606" y="2016"/>
                  </a:lnTo>
                  <a:lnTo>
                    <a:pt x="1610" y="2016"/>
                  </a:lnTo>
                  <a:lnTo>
                    <a:pt x="1615" y="2023"/>
                  </a:lnTo>
                  <a:lnTo>
                    <a:pt x="1619" y="2023"/>
                  </a:lnTo>
                  <a:lnTo>
                    <a:pt x="1623" y="2030"/>
                  </a:lnTo>
                  <a:lnTo>
                    <a:pt x="1627" y="2030"/>
                  </a:lnTo>
                  <a:lnTo>
                    <a:pt x="1631" y="2030"/>
                  </a:lnTo>
                  <a:lnTo>
                    <a:pt x="1635" y="2037"/>
                  </a:lnTo>
                  <a:lnTo>
                    <a:pt x="1639" y="2037"/>
                  </a:lnTo>
                  <a:lnTo>
                    <a:pt x="1643" y="2043"/>
                  </a:lnTo>
                  <a:lnTo>
                    <a:pt x="1647" y="2043"/>
                  </a:lnTo>
                  <a:lnTo>
                    <a:pt x="1652" y="2043"/>
                  </a:lnTo>
                  <a:lnTo>
                    <a:pt x="1656" y="2043"/>
                  </a:lnTo>
                  <a:lnTo>
                    <a:pt x="1660" y="2050"/>
                  </a:lnTo>
                  <a:lnTo>
                    <a:pt x="1664" y="2050"/>
                  </a:lnTo>
                  <a:lnTo>
                    <a:pt x="1668" y="2050"/>
                  </a:lnTo>
                  <a:lnTo>
                    <a:pt x="1672" y="2050"/>
                  </a:lnTo>
                  <a:lnTo>
                    <a:pt x="1676" y="2050"/>
                  </a:lnTo>
                  <a:lnTo>
                    <a:pt x="1680" y="2050"/>
                  </a:lnTo>
                  <a:lnTo>
                    <a:pt x="1684" y="2050"/>
                  </a:lnTo>
                  <a:lnTo>
                    <a:pt x="1684" y="2050"/>
                  </a:lnTo>
                  <a:lnTo>
                    <a:pt x="1689" y="2057"/>
                  </a:lnTo>
                  <a:lnTo>
                    <a:pt x="1693" y="2057"/>
                  </a:lnTo>
                  <a:lnTo>
                    <a:pt x="1697" y="2057"/>
                  </a:lnTo>
                  <a:lnTo>
                    <a:pt x="1701" y="2057"/>
                  </a:lnTo>
                  <a:lnTo>
                    <a:pt x="1705" y="2057"/>
                  </a:lnTo>
                  <a:lnTo>
                    <a:pt x="1709" y="2057"/>
                  </a:lnTo>
                  <a:lnTo>
                    <a:pt x="1713" y="2057"/>
                  </a:lnTo>
                  <a:lnTo>
                    <a:pt x="1717" y="2057"/>
                  </a:lnTo>
                  <a:lnTo>
                    <a:pt x="1721" y="2057"/>
                  </a:lnTo>
                  <a:lnTo>
                    <a:pt x="1726" y="2057"/>
                  </a:lnTo>
                  <a:lnTo>
                    <a:pt x="1730" y="2057"/>
                  </a:lnTo>
                  <a:lnTo>
                    <a:pt x="1734" y="2057"/>
                  </a:lnTo>
                  <a:lnTo>
                    <a:pt x="1738" y="2057"/>
                  </a:lnTo>
                  <a:lnTo>
                    <a:pt x="1742" y="2057"/>
                  </a:lnTo>
                  <a:lnTo>
                    <a:pt x="1746" y="2057"/>
                  </a:lnTo>
                  <a:lnTo>
                    <a:pt x="1750" y="2057"/>
                  </a:lnTo>
                  <a:lnTo>
                    <a:pt x="1754" y="2057"/>
                  </a:lnTo>
                  <a:lnTo>
                    <a:pt x="1758" y="2063"/>
                  </a:lnTo>
                  <a:lnTo>
                    <a:pt x="1762" y="2063"/>
                  </a:lnTo>
                  <a:lnTo>
                    <a:pt x="1767" y="2063"/>
                  </a:lnTo>
                  <a:lnTo>
                    <a:pt x="1771" y="2063"/>
                  </a:lnTo>
                  <a:lnTo>
                    <a:pt x="1775" y="2063"/>
                  </a:lnTo>
                  <a:lnTo>
                    <a:pt x="1779" y="2063"/>
                  </a:lnTo>
                  <a:lnTo>
                    <a:pt x="1783" y="2063"/>
                  </a:lnTo>
                  <a:lnTo>
                    <a:pt x="1787" y="2063"/>
                  </a:lnTo>
                  <a:lnTo>
                    <a:pt x="1791" y="2063"/>
                  </a:lnTo>
                  <a:lnTo>
                    <a:pt x="1795" y="2063"/>
                  </a:lnTo>
                  <a:lnTo>
                    <a:pt x="1799" y="2063"/>
                  </a:lnTo>
                  <a:lnTo>
                    <a:pt x="1804" y="2063"/>
                  </a:lnTo>
                  <a:lnTo>
                    <a:pt x="1808" y="2063"/>
                  </a:lnTo>
                  <a:lnTo>
                    <a:pt x="1812" y="2063"/>
                  </a:lnTo>
                  <a:lnTo>
                    <a:pt x="1816" y="2063"/>
                  </a:lnTo>
                  <a:lnTo>
                    <a:pt x="1820" y="2063"/>
                  </a:lnTo>
                  <a:lnTo>
                    <a:pt x="1824" y="2063"/>
                  </a:lnTo>
                  <a:lnTo>
                    <a:pt x="1828" y="2063"/>
                  </a:lnTo>
                  <a:lnTo>
                    <a:pt x="1832" y="2063"/>
                  </a:lnTo>
                  <a:lnTo>
                    <a:pt x="1836" y="2063"/>
                  </a:lnTo>
                  <a:lnTo>
                    <a:pt x="1841" y="2063"/>
                  </a:lnTo>
                  <a:lnTo>
                    <a:pt x="1841" y="2063"/>
                  </a:lnTo>
                  <a:lnTo>
                    <a:pt x="1845" y="2063"/>
                  </a:lnTo>
                  <a:lnTo>
                    <a:pt x="1849" y="2063"/>
                  </a:lnTo>
                  <a:lnTo>
                    <a:pt x="1853" y="2063"/>
                  </a:lnTo>
                  <a:lnTo>
                    <a:pt x="1857" y="2063"/>
                  </a:lnTo>
                  <a:lnTo>
                    <a:pt x="1861" y="2063"/>
                  </a:lnTo>
                  <a:lnTo>
                    <a:pt x="1865" y="2063"/>
                  </a:lnTo>
                  <a:lnTo>
                    <a:pt x="1869" y="2063"/>
                  </a:lnTo>
                  <a:lnTo>
                    <a:pt x="1873" y="2063"/>
                  </a:lnTo>
                  <a:lnTo>
                    <a:pt x="1878" y="2063"/>
                  </a:lnTo>
                  <a:lnTo>
                    <a:pt x="1882" y="2063"/>
                  </a:lnTo>
                  <a:lnTo>
                    <a:pt x="1886" y="2063"/>
                  </a:lnTo>
                  <a:lnTo>
                    <a:pt x="1890" y="2063"/>
                  </a:lnTo>
                  <a:lnTo>
                    <a:pt x="1894" y="2063"/>
                  </a:lnTo>
                  <a:lnTo>
                    <a:pt x="1898" y="2063"/>
                  </a:lnTo>
                  <a:lnTo>
                    <a:pt x="1902" y="2063"/>
                  </a:lnTo>
                  <a:lnTo>
                    <a:pt x="1906" y="2063"/>
                  </a:lnTo>
                  <a:lnTo>
                    <a:pt x="1910" y="2063"/>
                  </a:lnTo>
                  <a:lnTo>
                    <a:pt x="1915" y="2063"/>
                  </a:lnTo>
                  <a:lnTo>
                    <a:pt x="1919" y="2070"/>
                  </a:lnTo>
                  <a:lnTo>
                    <a:pt x="1923" y="2070"/>
                  </a:lnTo>
                  <a:lnTo>
                    <a:pt x="1927" y="2070"/>
                  </a:lnTo>
                  <a:lnTo>
                    <a:pt x="1931" y="2070"/>
                  </a:lnTo>
                  <a:lnTo>
                    <a:pt x="1935" y="2070"/>
                  </a:lnTo>
                  <a:lnTo>
                    <a:pt x="1939" y="2070"/>
                  </a:lnTo>
                  <a:lnTo>
                    <a:pt x="1943" y="2070"/>
                  </a:lnTo>
                  <a:lnTo>
                    <a:pt x="1947" y="2070"/>
                  </a:lnTo>
                  <a:lnTo>
                    <a:pt x="1952" y="2070"/>
                  </a:lnTo>
                  <a:lnTo>
                    <a:pt x="1956" y="2070"/>
                  </a:lnTo>
                  <a:lnTo>
                    <a:pt x="1960" y="2070"/>
                  </a:lnTo>
                  <a:lnTo>
                    <a:pt x="1964" y="2070"/>
                  </a:lnTo>
                  <a:lnTo>
                    <a:pt x="1968" y="2070"/>
                  </a:lnTo>
                  <a:lnTo>
                    <a:pt x="1972" y="2070"/>
                  </a:lnTo>
                  <a:lnTo>
                    <a:pt x="1976" y="2070"/>
                  </a:lnTo>
                  <a:lnTo>
                    <a:pt x="1980" y="2070"/>
                  </a:lnTo>
                  <a:lnTo>
                    <a:pt x="1984" y="2070"/>
                  </a:lnTo>
                  <a:lnTo>
                    <a:pt x="1988" y="2070"/>
                  </a:lnTo>
                  <a:lnTo>
                    <a:pt x="1993" y="2070"/>
                  </a:lnTo>
                  <a:lnTo>
                    <a:pt x="1997" y="2070"/>
                  </a:lnTo>
                  <a:lnTo>
                    <a:pt x="2001" y="2070"/>
                  </a:lnTo>
                  <a:lnTo>
                    <a:pt x="2005" y="2070"/>
                  </a:lnTo>
                  <a:lnTo>
                    <a:pt x="2009" y="2070"/>
                  </a:lnTo>
                  <a:lnTo>
                    <a:pt x="2013" y="2070"/>
                  </a:lnTo>
                  <a:lnTo>
                    <a:pt x="2017" y="2070"/>
                  </a:lnTo>
                  <a:lnTo>
                    <a:pt x="2021" y="2070"/>
                  </a:lnTo>
                  <a:lnTo>
                    <a:pt x="2025" y="2070"/>
                  </a:lnTo>
                  <a:lnTo>
                    <a:pt x="2030" y="2070"/>
                  </a:lnTo>
                  <a:lnTo>
                    <a:pt x="2034" y="2070"/>
                  </a:lnTo>
                  <a:lnTo>
                    <a:pt x="2038" y="2070"/>
                  </a:lnTo>
                  <a:lnTo>
                    <a:pt x="2042" y="2070"/>
                  </a:lnTo>
                  <a:lnTo>
                    <a:pt x="2046" y="2070"/>
                  </a:lnTo>
                  <a:lnTo>
                    <a:pt x="2050" y="2070"/>
                  </a:lnTo>
                  <a:lnTo>
                    <a:pt x="2054" y="2070"/>
                  </a:lnTo>
                  <a:lnTo>
                    <a:pt x="2058" y="2070"/>
                  </a:lnTo>
                  <a:lnTo>
                    <a:pt x="2062" y="2070"/>
                  </a:lnTo>
                  <a:lnTo>
                    <a:pt x="2067" y="2070"/>
                  </a:lnTo>
                  <a:lnTo>
                    <a:pt x="2067" y="2070"/>
                  </a:lnTo>
                  <a:lnTo>
                    <a:pt x="2071" y="2070"/>
                  </a:lnTo>
                  <a:lnTo>
                    <a:pt x="2075" y="2070"/>
                  </a:lnTo>
                  <a:lnTo>
                    <a:pt x="2079" y="2070"/>
                  </a:lnTo>
                  <a:lnTo>
                    <a:pt x="2083" y="2070"/>
                  </a:lnTo>
                  <a:lnTo>
                    <a:pt x="2087" y="2070"/>
                  </a:lnTo>
                  <a:lnTo>
                    <a:pt x="2091" y="2070"/>
                  </a:lnTo>
                  <a:lnTo>
                    <a:pt x="2095" y="2070"/>
                  </a:lnTo>
                  <a:lnTo>
                    <a:pt x="2099" y="2070"/>
                  </a:lnTo>
                  <a:lnTo>
                    <a:pt x="2104" y="2070"/>
                  </a:lnTo>
                  <a:lnTo>
                    <a:pt x="2108" y="2070"/>
                  </a:lnTo>
                  <a:lnTo>
                    <a:pt x="2112" y="2070"/>
                  </a:lnTo>
                  <a:lnTo>
                    <a:pt x="2116" y="2070"/>
                  </a:lnTo>
                  <a:lnTo>
                    <a:pt x="2120" y="2070"/>
                  </a:lnTo>
                  <a:lnTo>
                    <a:pt x="2124" y="2063"/>
                  </a:lnTo>
                  <a:lnTo>
                    <a:pt x="2128" y="2063"/>
                  </a:lnTo>
                  <a:lnTo>
                    <a:pt x="2132" y="2063"/>
                  </a:lnTo>
                  <a:lnTo>
                    <a:pt x="2136" y="2063"/>
                  </a:lnTo>
                  <a:lnTo>
                    <a:pt x="2141" y="2063"/>
                  </a:lnTo>
                  <a:lnTo>
                    <a:pt x="2145" y="2063"/>
                  </a:lnTo>
                  <a:lnTo>
                    <a:pt x="2149" y="2063"/>
                  </a:lnTo>
                  <a:lnTo>
                    <a:pt x="2153" y="2063"/>
                  </a:lnTo>
                  <a:lnTo>
                    <a:pt x="2157" y="2063"/>
                  </a:lnTo>
                  <a:lnTo>
                    <a:pt x="2161" y="2063"/>
                  </a:lnTo>
                  <a:lnTo>
                    <a:pt x="2165" y="2063"/>
                  </a:lnTo>
                  <a:lnTo>
                    <a:pt x="2169" y="2063"/>
                  </a:lnTo>
                  <a:lnTo>
                    <a:pt x="2173" y="2063"/>
                  </a:lnTo>
                  <a:lnTo>
                    <a:pt x="2178" y="2063"/>
                  </a:lnTo>
                  <a:lnTo>
                    <a:pt x="2182" y="2063"/>
                  </a:lnTo>
                  <a:lnTo>
                    <a:pt x="2186" y="2063"/>
                  </a:lnTo>
                  <a:lnTo>
                    <a:pt x="2190" y="2063"/>
                  </a:lnTo>
                  <a:lnTo>
                    <a:pt x="2194" y="2063"/>
                  </a:lnTo>
                  <a:lnTo>
                    <a:pt x="2198" y="2063"/>
                  </a:lnTo>
                  <a:lnTo>
                    <a:pt x="2202" y="2063"/>
                  </a:lnTo>
                  <a:lnTo>
                    <a:pt x="2206" y="2063"/>
                  </a:lnTo>
                  <a:lnTo>
                    <a:pt x="2210" y="2063"/>
                  </a:lnTo>
                  <a:lnTo>
                    <a:pt x="2215" y="2063"/>
                  </a:lnTo>
                  <a:lnTo>
                    <a:pt x="2219" y="2063"/>
                  </a:lnTo>
                  <a:lnTo>
                    <a:pt x="2223" y="2063"/>
                  </a:lnTo>
                  <a:lnTo>
                    <a:pt x="2227" y="2063"/>
                  </a:lnTo>
                  <a:lnTo>
                    <a:pt x="2231" y="2063"/>
                  </a:lnTo>
                  <a:lnTo>
                    <a:pt x="2231" y="2063"/>
                  </a:lnTo>
                  <a:lnTo>
                    <a:pt x="2235" y="2063"/>
                  </a:lnTo>
                  <a:lnTo>
                    <a:pt x="2239" y="2063"/>
                  </a:lnTo>
                  <a:lnTo>
                    <a:pt x="2243" y="2063"/>
                  </a:lnTo>
                  <a:lnTo>
                    <a:pt x="2247" y="2063"/>
                  </a:lnTo>
                  <a:lnTo>
                    <a:pt x="2251" y="2063"/>
                  </a:lnTo>
                  <a:lnTo>
                    <a:pt x="2256" y="2063"/>
                  </a:lnTo>
                  <a:lnTo>
                    <a:pt x="2260" y="2063"/>
                  </a:lnTo>
                  <a:lnTo>
                    <a:pt x="2264" y="2063"/>
                  </a:lnTo>
                  <a:lnTo>
                    <a:pt x="2268" y="2063"/>
                  </a:lnTo>
                  <a:lnTo>
                    <a:pt x="2272" y="2063"/>
                  </a:lnTo>
                  <a:lnTo>
                    <a:pt x="2276" y="2070"/>
                  </a:lnTo>
                  <a:lnTo>
                    <a:pt x="2280" y="2070"/>
                  </a:lnTo>
                  <a:lnTo>
                    <a:pt x="2284" y="2070"/>
                  </a:lnTo>
                  <a:lnTo>
                    <a:pt x="2288" y="2070"/>
                  </a:lnTo>
                  <a:lnTo>
                    <a:pt x="2293" y="2070"/>
                  </a:lnTo>
                  <a:lnTo>
                    <a:pt x="2297" y="2070"/>
                  </a:lnTo>
                  <a:lnTo>
                    <a:pt x="2301" y="2070"/>
                  </a:lnTo>
                  <a:lnTo>
                    <a:pt x="2301" y="2070"/>
                  </a:lnTo>
                  <a:lnTo>
                    <a:pt x="2305" y="2070"/>
                  </a:lnTo>
                  <a:lnTo>
                    <a:pt x="2309" y="2070"/>
                  </a:lnTo>
                  <a:lnTo>
                    <a:pt x="2313" y="2070"/>
                  </a:lnTo>
                  <a:lnTo>
                    <a:pt x="2317" y="2070"/>
                  </a:lnTo>
                  <a:lnTo>
                    <a:pt x="2321" y="2070"/>
                  </a:lnTo>
                  <a:lnTo>
                    <a:pt x="2325" y="2070"/>
                  </a:lnTo>
                  <a:lnTo>
                    <a:pt x="2330" y="2070"/>
                  </a:lnTo>
                  <a:lnTo>
                    <a:pt x="2334" y="2070"/>
                  </a:lnTo>
                  <a:lnTo>
                    <a:pt x="2338" y="2070"/>
                  </a:lnTo>
                  <a:lnTo>
                    <a:pt x="2342" y="2070"/>
                  </a:lnTo>
                  <a:lnTo>
                    <a:pt x="2346" y="2070"/>
                  </a:lnTo>
                  <a:lnTo>
                    <a:pt x="2350" y="2070"/>
                  </a:lnTo>
                  <a:lnTo>
                    <a:pt x="2354" y="2070"/>
                  </a:lnTo>
                  <a:lnTo>
                    <a:pt x="2358" y="2070"/>
                  </a:lnTo>
                  <a:lnTo>
                    <a:pt x="2362" y="2070"/>
                  </a:lnTo>
                  <a:lnTo>
                    <a:pt x="2367" y="2070"/>
                  </a:lnTo>
                  <a:lnTo>
                    <a:pt x="2371" y="2070"/>
                  </a:lnTo>
                  <a:lnTo>
                    <a:pt x="2375" y="2070"/>
                  </a:lnTo>
                  <a:lnTo>
                    <a:pt x="2379" y="2070"/>
                  </a:lnTo>
                  <a:lnTo>
                    <a:pt x="2383" y="2070"/>
                  </a:lnTo>
                  <a:lnTo>
                    <a:pt x="2387" y="2070"/>
                  </a:lnTo>
                  <a:lnTo>
                    <a:pt x="2391" y="2070"/>
                  </a:lnTo>
                  <a:lnTo>
                    <a:pt x="2391" y="2070"/>
                  </a:lnTo>
                  <a:lnTo>
                    <a:pt x="2395" y="2070"/>
                  </a:lnTo>
                  <a:lnTo>
                    <a:pt x="2399" y="2070"/>
                  </a:lnTo>
                  <a:lnTo>
                    <a:pt x="2404" y="2070"/>
                  </a:lnTo>
                  <a:lnTo>
                    <a:pt x="2408" y="2070"/>
                  </a:lnTo>
                  <a:lnTo>
                    <a:pt x="2412" y="2070"/>
                  </a:lnTo>
                  <a:lnTo>
                    <a:pt x="2416" y="2070"/>
                  </a:lnTo>
                  <a:lnTo>
                    <a:pt x="2420" y="2070"/>
                  </a:lnTo>
                  <a:lnTo>
                    <a:pt x="2424" y="2070"/>
                  </a:lnTo>
                  <a:lnTo>
                    <a:pt x="2428" y="2070"/>
                  </a:lnTo>
                  <a:lnTo>
                    <a:pt x="2432" y="2070"/>
                  </a:lnTo>
                  <a:lnTo>
                    <a:pt x="2436" y="2070"/>
                  </a:lnTo>
                  <a:lnTo>
                    <a:pt x="2441" y="2070"/>
                  </a:lnTo>
                  <a:lnTo>
                    <a:pt x="2445" y="2070"/>
                  </a:lnTo>
                  <a:lnTo>
                    <a:pt x="2449" y="2070"/>
                  </a:lnTo>
                  <a:lnTo>
                    <a:pt x="2453" y="2070"/>
                  </a:lnTo>
                  <a:lnTo>
                    <a:pt x="2457" y="2070"/>
                  </a:lnTo>
                  <a:lnTo>
                    <a:pt x="2461" y="2070"/>
                  </a:lnTo>
                  <a:lnTo>
                    <a:pt x="2465" y="2070"/>
                  </a:lnTo>
                  <a:lnTo>
                    <a:pt x="2469" y="2070"/>
                  </a:lnTo>
                  <a:lnTo>
                    <a:pt x="2473" y="2070"/>
                  </a:lnTo>
                  <a:lnTo>
                    <a:pt x="2477" y="2070"/>
                  </a:lnTo>
                  <a:lnTo>
                    <a:pt x="2482" y="2070"/>
                  </a:lnTo>
                  <a:lnTo>
                    <a:pt x="2482" y="2070"/>
                  </a:lnTo>
                  <a:lnTo>
                    <a:pt x="2486" y="2070"/>
                  </a:lnTo>
                  <a:lnTo>
                    <a:pt x="2490" y="2070"/>
                  </a:lnTo>
                  <a:lnTo>
                    <a:pt x="2494" y="2070"/>
                  </a:lnTo>
                  <a:lnTo>
                    <a:pt x="2498" y="2070"/>
                  </a:lnTo>
                  <a:lnTo>
                    <a:pt x="2502" y="2070"/>
                  </a:lnTo>
                  <a:lnTo>
                    <a:pt x="2506" y="2070"/>
                  </a:lnTo>
                  <a:lnTo>
                    <a:pt x="2510" y="2070"/>
                  </a:lnTo>
                  <a:lnTo>
                    <a:pt x="2514" y="2070"/>
                  </a:lnTo>
                  <a:lnTo>
                    <a:pt x="2519" y="2070"/>
                  </a:lnTo>
                  <a:lnTo>
                    <a:pt x="2523" y="2070"/>
                  </a:lnTo>
                  <a:lnTo>
                    <a:pt x="2527" y="2070"/>
                  </a:lnTo>
                  <a:lnTo>
                    <a:pt x="2531" y="2070"/>
                  </a:lnTo>
                  <a:lnTo>
                    <a:pt x="2535" y="2070"/>
                  </a:lnTo>
                  <a:lnTo>
                    <a:pt x="2539" y="2070"/>
                  </a:lnTo>
                  <a:lnTo>
                    <a:pt x="2543" y="2070"/>
                  </a:lnTo>
                  <a:lnTo>
                    <a:pt x="2547" y="2070"/>
                  </a:lnTo>
                  <a:lnTo>
                    <a:pt x="2551" y="2070"/>
                  </a:lnTo>
                  <a:lnTo>
                    <a:pt x="2556" y="2070"/>
                  </a:lnTo>
                  <a:lnTo>
                    <a:pt x="2560" y="2070"/>
                  </a:lnTo>
                  <a:lnTo>
                    <a:pt x="2564" y="2070"/>
                  </a:lnTo>
                  <a:lnTo>
                    <a:pt x="2568" y="2070"/>
                  </a:lnTo>
                  <a:lnTo>
                    <a:pt x="2572" y="2070"/>
                  </a:lnTo>
                  <a:lnTo>
                    <a:pt x="2572" y="2070"/>
                  </a:lnTo>
                  <a:lnTo>
                    <a:pt x="2576" y="2070"/>
                  </a:lnTo>
                  <a:lnTo>
                    <a:pt x="2580" y="2070"/>
                  </a:lnTo>
                  <a:lnTo>
                    <a:pt x="2584" y="2070"/>
                  </a:lnTo>
                  <a:lnTo>
                    <a:pt x="2588" y="2070"/>
                  </a:lnTo>
                  <a:lnTo>
                    <a:pt x="2593" y="2070"/>
                  </a:lnTo>
                  <a:lnTo>
                    <a:pt x="2597" y="2070"/>
                  </a:lnTo>
                  <a:lnTo>
                    <a:pt x="2601" y="2070"/>
                  </a:lnTo>
                  <a:lnTo>
                    <a:pt x="2605" y="2070"/>
                  </a:lnTo>
                  <a:lnTo>
                    <a:pt x="2609" y="2070"/>
                  </a:lnTo>
                  <a:lnTo>
                    <a:pt x="2613" y="2070"/>
                  </a:lnTo>
                  <a:lnTo>
                    <a:pt x="2617" y="2070"/>
                  </a:lnTo>
                  <a:lnTo>
                    <a:pt x="2621" y="2070"/>
                  </a:lnTo>
                  <a:lnTo>
                    <a:pt x="2625" y="2070"/>
                  </a:lnTo>
                  <a:lnTo>
                    <a:pt x="2630" y="2070"/>
                  </a:lnTo>
                  <a:lnTo>
                    <a:pt x="2634" y="2070"/>
                  </a:lnTo>
                  <a:lnTo>
                    <a:pt x="2638" y="2070"/>
                  </a:lnTo>
                  <a:lnTo>
                    <a:pt x="2642" y="2070"/>
                  </a:lnTo>
                  <a:lnTo>
                    <a:pt x="2646" y="2070"/>
                  </a:lnTo>
                  <a:lnTo>
                    <a:pt x="2650" y="2077"/>
                  </a:lnTo>
                  <a:lnTo>
                    <a:pt x="2654" y="2077"/>
                  </a:lnTo>
                  <a:lnTo>
                    <a:pt x="2654" y="2077"/>
                  </a:lnTo>
                  <a:lnTo>
                    <a:pt x="2658" y="2077"/>
                  </a:lnTo>
                  <a:lnTo>
                    <a:pt x="2662" y="2077"/>
                  </a:lnTo>
                  <a:lnTo>
                    <a:pt x="2667" y="2077"/>
                  </a:lnTo>
                  <a:lnTo>
                    <a:pt x="2671" y="2077"/>
                  </a:lnTo>
                  <a:lnTo>
                    <a:pt x="2675" y="2077"/>
                  </a:lnTo>
                  <a:lnTo>
                    <a:pt x="2679" y="2077"/>
                  </a:lnTo>
                  <a:lnTo>
                    <a:pt x="2683" y="2077"/>
                  </a:lnTo>
                  <a:lnTo>
                    <a:pt x="2687" y="2077"/>
                  </a:lnTo>
                  <a:lnTo>
                    <a:pt x="2691" y="2077"/>
                  </a:lnTo>
                  <a:lnTo>
                    <a:pt x="2695" y="2077"/>
                  </a:lnTo>
                  <a:lnTo>
                    <a:pt x="2699" y="2077"/>
                  </a:lnTo>
                  <a:lnTo>
                    <a:pt x="2703" y="2077"/>
                  </a:lnTo>
                  <a:lnTo>
                    <a:pt x="2708" y="2077"/>
                  </a:lnTo>
                  <a:lnTo>
                    <a:pt x="2712" y="2077"/>
                  </a:lnTo>
                  <a:lnTo>
                    <a:pt x="2716" y="2077"/>
                  </a:lnTo>
                  <a:lnTo>
                    <a:pt x="2720" y="2077"/>
                  </a:lnTo>
                  <a:lnTo>
                    <a:pt x="2724" y="2077"/>
                  </a:lnTo>
                  <a:lnTo>
                    <a:pt x="2728" y="2077"/>
                  </a:lnTo>
                  <a:lnTo>
                    <a:pt x="2728" y="2077"/>
                  </a:lnTo>
                  <a:lnTo>
                    <a:pt x="2732" y="2077"/>
                  </a:lnTo>
                  <a:lnTo>
                    <a:pt x="2736" y="2077"/>
                  </a:lnTo>
                  <a:lnTo>
                    <a:pt x="2740" y="2077"/>
                  </a:lnTo>
                  <a:lnTo>
                    <a:pt x="2745" y="2077"/>
                  </a:lnTo>
                  <a:lnTo>
                    <a:pt x="2749" y="2077"/>
                  </a:lnTo>
                  <a:lnTo>
                    <a:pt x="2753" y="2077"/>
                  </a:lnTo>
                  <a:lnTo>
                    <a:pt x="2757" y="2077"/>
                  </a:lnTo>
                  <a:lnTo>
                    <a:pt x="2761" y="2077"/>
                  </a:lnTo>
                  <a:lnTo>
                    <a:pt x="2765" y="2077"/>
                  </a:lnTo>
                  <a:lnTo>
                    <a:pt x="2769" y="2077"/>
                  </a:lnTo>
                  <a:lnTo>
                    <a:pt x="2773" y="2077"/>
                  </a:lnTo>
                  <a:lnTo>
                    <a:pt x="2777" y="2077"/>
                  </a:lnTo>
                  <a:lnTo>
                    <a:pt x="2782" y="2077"/>
                  </a:lnTo>
                  <a:lnTo>
                    <a:pt x="2786" y="2077"/>
                  </a:lnTo>
                  <a:lnTo>
                    <a:pt x="2790" y="2077"/>
                  </a:lnTo>
                  <a:lnTo>
                    <a:pt x="2794" y="2077"/>
                  </a:lnTo>
                  <a:lnTo>
                    <a:pt x="2798" y="2077"/>
                  </a:lnTo>
                  <a:lnTo>
                    <a:pt x="2802" y="2077"/>
                  </a:lnTo>
                  <a:lnTo>
                    <a:pt x="2806" y="2077"/>
                  </a:lnTo>
                  <a:lnTo>
                    <a:pt x="2806" y="2077"/>
                  </a:lnTo>
                  <a:lnTo>
                    <a:pt x="2810" y="2077"/>
                  </a:lnTo>
                  <a:lnTo>
                    <a:pt x="2814" y="2077"/>
                  </a:lnTo>
                  <a:lnTo>
                    <a:pt x="2819" y="2077"/>
                  </a:lnTo>
                  <a:lnTo>
                    <a:pt x="2823" y="2077"/>
                  </a:lnTo>
                  <a:lnTo>
                    <a:pt x="2827" y="2077"/>
                  </a:lnTo>
                  <a:lnTo>
                    <a:pt x="2831" y="2077"/>
                  </a:lnTo>
                  <a:lnTo>
                    <a:pt x="2835" y="2077"/>
                  </a:lnTo>
                  <a:lnTo>
                    <a:pt x="2839" y="2077"/>
                  </a:lnTo>
                  <a:lnTo>
                    <a:pt x="2843" y="2077"/>
                  </a:lnTo>
                  <a:lnTo>
                    <a:pt x="2847" y="2077"/>
                  </a:lnTo>
                  <a:lnTo>
                    <a:pt x="2851" y="2077"/>
                  </a:lnTo>
                  <a:lnTo>
                    <a:pt x="2856" y="2077"/>
                  </a:lnTo>
                  <a:lnTo>
                    <a:pt x="2860" y="2077"/>
                  </a:lnTo>
                  <a:lnTo>
                    <a:pt x="2864" y="2077"/>
                  </a:lnTo>
                  <a:lnTo>
                    <a:pt x="2868" y="2077"/>
                  </a:lnTo>
                  <a:lnTo>
                    <a:pt x="2872" y="2077"/>
                  </a:lnTo>
                  <a:lnTo>
                    <a:pt x="2876" y="2077"/>
                  </a:lnTo>
                  <a:lnTo>
                    <a:pt x="2880" y="2077"/>
                  </a:lnTo>
                  <a:lnTo>
                    <a:pt x="2884" y="2077"/>
                  </a:lnTo>
                  <a:lnTo>
                    <a:pt x="2888" y="2077"/>
                  </a:lnTo>
                  <a:lnTo>
                    <a:pt x="2893" y="2077"/>
                  </a:lnTo>
                  <a:lnTo>
                    <a:pt x="2897" y="2077"/>
                  </a:lnTo>
                  <a:lnTo>
                    <a:pt x="2901" y="2077"/>
                  </a:lnTo>
                  <a:lnTo>
                    <a:pt x="2905" y="2077"/>
                  </a:lnTo>
                  <a:lnTo>
                    <a:pt x="2905" y="2077"/>
                  </a:lnTo>
                  <a:lnTo>
                    <a:pt x="2909" y="2077"/>
                  </a:lnTo>
                  <a:lnTo>
                    <a:pt x="2913" y="2077"/>
                  </a:lnTo>
                  <a:lnTo>
                    <a:pt x="2917" y="2077"/>
                  </a:lnTo>
                  <a:lnTo>
                    <a:pt x="2921" y="2077"/>
                  </a:lnTo>
                  <a:lnTo>
                    <a:pt x="2925" y="2077"/>
                  </a:lnTo>
                  <a:lnTo>
                    <a:pt x="2929" y="2077"/>
                  </a:lnTo>
                  <a:lnTo>
                    <a:pt x="2934" y="2077"/>
                  </a:lnTo>
                  <a:lnTo>
                    <a:pt x="2938" y="2077"/>
                  </a:lnTo>
                  <a:lnTo>
                    <a:pt x="2942" y="2077"/>
                  </a:lnTo>
                  <a:lnTo>
                    <a:pt x="2946" y="2077"/>
                  </a:lnTo>
                  <a:lnTo>
                    <a:pt x="2950" y="2077"/>
                  </a:lnTo>
                  <a:lnTo>
                    <a:pt x="2954" y="2077"/>
                  </a:lnTo>
                  <a:lnTo>
                    <a:pt x="2958" y="2077"/>
                  </a:lnTo>
                  <a:lnTo>
                    <a:pt x="2962" y="2077"/>
                  </a:lnTo>
                  <a:lnTo>
                    <a:pt x="2966" y="2077"/>
                  </a:lnTo>
                  <a:lnTo>
                    <a:pt x="2971" y="2077"/>
                  </a:lnTo>
                  <a:lnTo>
                    <a:pt x="2975" y="2077"/>
                  </a:lnTo>
                  <a:lnTo>
                    <a:pt x="2979" y="2077"/>
                  </a:lnTo>
                  <a:lnTo>
                    <a:pt x="2983" y="2077"/>
                  </a:lnTo>
                  <a:lnTo>
                    <a:pt x="2987" y="2077"/>
                  </a:lnTo>
                  <a:lnTo>
                    <a:pt x="2991" y="2077"/>
                  </a:lnTo>
                  <a:lnTo>
                    <a:pt x="2995" y="2077"/>
                  </a:lnTo>
                  <a:lnTo>
                    <a:pt x="2999" y="2077"/>
                  </a:lnTo>
                  <a:lnTo>
                    <a:pt x="3003" y="2077"/>
                  </a:lnTo>
                  <a:lnTo>
                    <a:pt x="3008" y="2077"/>
                  </a:lnTo>
                  <a:lnTo>
                    <a:pt x="3012" y="2077"/>
                  </a:lnTo>
                  <a:lnTo>
                    <a:pt x="3012" y="2077"/>
                  </a:lnTo>
                  <a:lnTo>
                    <a:pt x="3016" y="2077"/>
                  </a:lnTo>
                  <a:lnTo>
                    <a:pt x="3020" y="2077"/>
                  </a:lnTo>
                  <a:lnTo>
                    <a:pt x="3024" y="2077"/>
                  </a:lnTo>
                  <a:lnTo>
                    <a:pt x="3028" y="2077"/>
                  </a:lnTo>
                  <a:lnTo>
                    <a:pt x="3032" y="2077"/>
                  </a:lnTo>
                  <a:lnTo>
                    <a:pt x="3036" y="2077"/>
                  </a:lnTo>
                  <a:lnTo>
                    <a:pt x="3040" y="2077"/>
                  </a:lnTo>
                  <a:lnTo>
                    <a:pt x="3045" y="2077"/>
                  </a:lnTo>
                  <a:lnTo>
                    <a:pt x="3049" y="2077"/>
                  </a:lnTo>
                  <a:lnTo>
                    <a:pt x="3053" y="2077"/>
                  </a:lnTo>
                  <a:lnTo>
                    <a:pt x="3057" y="2077"/>
                  </a:lnTo>
                  <a:lnTo>
                    <a:pt x="3061" y="2077"/>
                  </a:lnTo>
                  <a:lnTo>
                    <a:pt x="3065" y="2077"/>
                  </a:lnTo>
                  <a:lnTo>
                    <a:pt x="3069" y="2077"/>
                  </a:lnTo>
                  <a:lnTo>
                    <a:pt x="3073" y="2077"/>
                  </a:lnTo>
                  <a:lnTo>
                    <a:pt x="3077" y="2077"/>
                  </a:lnTo>
                  <a:lnTo>
                    <a:pt x="3082" y="2077"/>
                  </a:lnTo>
                  <a:lnTo>
                    <a:pt x="3086" y="2077"/>
                  </a:lnTo>
                  <a:lnTo>
                    <a:pt x="3090" y="2077"/>
                  </a:lnTo>
                  <a:lnTo>
                    <a:pt x="3094" y="2077"/>
                  </a:lnTo>
                  <a:lnTo>
                    <a:pt x="3098" y="2077"/>
                  </a:lnTo>
                  <a:lnTo>
                    <a:pt x="3098" y="2077"/>
                  </a:lnTo>
                  <a:lnTo>
                    <a:pt x="3102" y="2077"/>
                  </a:lnTo>
                  <a:lnTo>
                    <a:pt x="3106" y="2070"/>
                  </a:lnTo>
                  <a:lnTo>
                    <a:pt x="3110" y="2070"/>
                  </a:lnTo>
                  <a:lnTo>
                    <a:pt x="3114" y="2070"/>
                  </a:lnTo>
                  <a:lnTo>
                    <a:pt x="3119" y="2070"/>
                  </a:lnTo>
                  <a:lnTo>
                    <a:pt x="3123" y="2063"/>
                  </a:lnTo>
                  <a:lnTo>
                    <a:pt x="3127" y="2063"/>
                  </a:lnTo>
                  <a:lnTo>
                    <a:pt x="3131" y="2063"/>
                  </a:lnTo>
                  <a:lnTo>
                    <a:pt x="3135" y="2057"/>
                  </a:lnTo>
                  <a:lnTo>
                    <a:pt x="3139" y="2057"/>
                  </a:lnTo>
                  <a:lnTo>
                    <a:pt x="3143" y="2057"/>
                  </a:lnTo>
                  <a:lnTo>
                    <a:pt x="3147" y="2057"/>
                  </a:lnTo>
                  <a:lnTo>
                    <a:pt x="3151" y="2050"/>
                  </a:lnTo>
                  <a:lnTo>
                    <a:pt x="3155" y="2050"/>
                  </a:lnTo>
                  <a:lnTo>
                    <a:pt x="3160" y="2050"/>
                  </a:lnTo>
                  <a:lnTo>
                    <a:pt x="3164" y="2043"/>
                  </a:lnTo>
                  <a:lnTo>
                    <a:pt x="3168" y="2043"/>
                  </a:lnTo>
                  <a:lnTo>
                    <a:pt x="3172" y="2043"/>
                  </a:lnTo>
                  <a:lnTo>
                    <a:pt x="3176" y="2043"/>
                  </a:lnTo>
                  <a:lnTo>
                    <a:pt x="3180" y="2037"/>
                  </a:lnTo>
                  <a:lnTo>
                    <a:pt x="3184" y="2037"/>
                  </a:lnTo>
                  <a:lnTo>
                    <a:pt x="3188" y="2037"/>
                  </a:lnTo>
                  <a:lnTo>
                    <a:pt x="3192" y="2030"/>
                  </a:lnTo>
                  <a:lnTo>
                    <a:pt x="3197" y="2030"/>
                  </a:lnTo>
                  <a:lnTo>
                    <a:pt x="3201" y="2030"/>
                  </a:lnTo>
                  <a:lnTo>
                    <a:pt x="3205" y="2030"/>
                  </a:lnTo>
                  <a:lnTo>
                    <a:pt x="3209" y="2023"/>
                  </a:lnTo>
                  <a:lnTo>
                    <a:pt x="3213" y="2023"/>
                  </a:lnTo>
                  <a:lnTo>
                    <a:pt x="3217" y="2023"/>
                  </a:lnTo>
                  <a:lnTo>
                    <a:pt x="3221" y="2023"/>
                  </a:lnTo>
                  <a:lnTo>
                    <a:pt x="3225" y="2016"/>
                  </a:lnTo>
                  <a:lnTo>
                    <a:pt x="3229" y="2016"/>
                  </a:lnTo>
                  <a:lnTo>
                    <a:pt x="3234" y="2016"/>
                  </a:lnTo>
                  <a:lnTo>
                    <a:pt x="3238" y="2010"/>
                  </a:lnTo>
                  <a:lnTo>
                    <a:pt x="3242" y="2010"/>
                  </a:lnTo>
                  <a:lnTo>
                    <a:pt x="3246" y="2010"/>
                  </a:lnTo>
                  <a:lnTo>
                    <a:pt x="3250" y="2010"/>
                  </a:lnTo>
                  <a:lnTo>
                    <a:pt x="3254" y="2003"/>
                  </a:lnTo>
                  <a:lnTo>
                    <a:pt x="3258" y="200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55040" y="5218200"/>
              <a:ext cx="39600" cy="63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20"/>
                  </a:moveTo>
                  <a:lnTo>
                    <a:pt x="25" y="20"/>
                  </a:lnTo>
                  <a:lnTo>
                    <a:pt x="12" y="20"/>
                  </a:lnTo>
                  <a:lnTo>
                    <a:pt x="12" y="0"/>
                  </a:lnTo>
                  <a:lnTo>
                    <a:pt x="12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400880" y="5335560"/>
              <a:ext cx="3816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0" y="20"/>
                  </a:moveTo>
                  <a:lnTo>
                    <a:pt x="24" y="20"/>
                  </a:lnTo>
                  <a:lnTo>
                    <a:pt x="12" y="20"/>
                  </a:lnTo>
                  <a:lnTo>
                    <a:pt x="12" y="0"/>
                  </a:lnTo>
                  <a:lnTo>
                    <a:pt x="12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262640" y="5335560"/>
              <a:ext cx="39960" cy="63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20"/>
                  </a:moveTo>
                  <a:lnTo>
                    <a:pt x="25" y="20"/>
                  </a:lnTo>
                  <a:lnTo>
                    <a:pt x="13" y="20"/>
                  </a:lnTo>
                  <a:lnTo>
                    <a:pt x="13" y="0"/>
                  </a:lnTo>
                  <a:lnTo>
                    <a:pt x="13" y="40"/>
                  </a:lnTo>
                  <a:lnTo>
                    <a:pt x="13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94520" y="5335560"/>
              <a:ext cx="3816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0" y="20"/>
                  </a:moveTo>
                  <a:lnTo>
                    <a:pt x="24" y="20"/>
                  </a:lnTo>
                  <a:lnTo>
                    <a:pt x="12" y="20"/>
                  </a:lnTo>
                  <a:lnTo>
                    <a:pt x="12" y="0"/>
                  </a:lnTo>
                  <a:lnTo>
                    <a:pt x="12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37200" y="5335560"/>
              <a:ext cx="39960" cy="63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20"/>
                  </a:moveTo>
                  <a:lnTo>
                    <a:pt x="25" y="20"/>
                  </a:lnTo>
                  <a:lnTo>
                    <a:pt x="12" y="20"/>
                  </a:lnTo>
                  <a:lnTo>
                    <a:pt x="12" y="0"/>
                  </a:lnTo>
                  <a:lnTo>
                    <a:pt x="12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813720" y="5335560"/>
              <a:ext cx="3780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0" y="20"/>
                  </a:moveTo>
                  <a:lnTo>
                    <a:pt x="24" y="20"/>
                  </a:lnTo>
                  <a:lnTo>
                    <a:pt x="12" y="20"/>
                  </a:lnTo>
                  <a:lnTo>
                    <a:pt x="12" y="0"/>
                  </a:lnTo>
                  <a:lnTo>
                    <a:pt x="12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696000" y="5335560"/>
              <a:ext cx="39600" cy="63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20"/>
                  </a:moveTo>
                  <a:lnTo>
                    <a:pt x="25" y="20"/>
                  </a:lnTo>
                  <a:lnTo>
                    <a:pt x="12" y="20"/>
                  </a:lnTo>
                  <a:lnTo>
                    <a:pt x="12" y="0"/>
                  </a:lnTo>
                  <a:lnTo>
                    <a:pt x="12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66040" y="5324400"/>
              <a:ext cx="37800" cy="6372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0" y="20"/>
                  </a:moveTo>
                  <a:lnTo>
                    <a:pt x="24" y="20"/>
                  </a:lnTo>
                  <a:lnTo>
                    <a:pt x="12" y="20"/>
                  </a:lnTo>
                  <a:lnTo>
                    <a:pt x="12" y="0"/>
                  </a:lnTo>
                  <a:lnTo>
                    <a:pt x="12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421320" y="5324400"/>
              <a:ext cx="39960" cy="6372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20"/>
                  </a:moveTo>
                  <a:lnTo>
                    <a:pt x="25" y="20"/>
                  </a:lnTo>
                  <a:lnTo>
                    <a:pt x="13" y="20"/>
                  </a:lnTo>
                  <a:lnTo>
                    <a:pt x="13" y="0"/>
                  </a:lnTo>
                  <a:lnTo>
                    <a:pt x="13" y="40"/>
                  </a:lnTo>
                  <a:lnTo>
                    <a:pt x="13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278400" y="5324400"/>
              <a:ext cx="39960" cy="6372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20"/>
                  </a:moveTo>
                  <a:lnTo>
                    <a:pt x="25" y="20"/>
                  </a:lnTo>
                  <a:lnTo>
                    <a:pt x="12" y="20"/>
                  </a:lnTo>
                  <a:lnTo>
                    <a:pt x="12" y="0"/>
                  </a:lnTo>
                  <a:lnTo>
                    <a:pt x="12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134040" y="5324400"/>
              <a:ext cx="39600" cy="6372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20"/>
                  </a:moveTo>
                  <a:lnTo>
                    <a:pt x="25" y="20"/>
                  </a:lnTo>
                  <a:lnTo>
                    <a:pt x="13" y="20"/>
                  </a:lnTo>
                  <a:lnTo>
                    <a:pt x="13" y="0"/>
                  </a:lnTo>
                  <a:lnTo>
                    <a:pt x="13" y="40"/>
                  </a:lnTo>
                  <a:lnTo>
                    <a:pt x="13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024600" y="5313240"/>
              <a:ext cx="38160" cy="65160"/>
            </a:xfrm>
            <a:custGeom>
              <a:avLst/>
              <a:gdLst/>
              <a:ahLst/>
              <a:rect l="l" t="t" r="r" b="b"/>
              <a:pathLst>
                <a:path w="24" h="41">
                  <a:moveTo>
                    <a:pt x="0" y="20"/>
                  </a:moveTo>
                  <a:lnTo>
                    <a:pt x="24" y="20"/>
                  </a:lnTo>
                  <a:lnTo>
                    <a:pt x="12" y="20"/>
                  </a:lnTo>
                  <a:lnTo>
                    <a:pt x="12" y="0"/>
                  </a:lnTo>
                  <a:lnTo>
                    <a:pt x="12" y="41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62520" y="5324400"/>
              <a:ext cx="39960" cy="6372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20"/>
                  </a:moveTo>
                  <a:lnTo>
                    <a:pt x="25" y="20"/>
                  </a:lnTo>
                  <a:lnTo>
                    <a:pt x="13" y="20"/>
                  </a:lnTo>
                  <a:lnTo>
                    <a:pt x="13" y="0"/>
                  </a:lnTo>
                  <a:lnTo>
                    <a:pt x="13" y="40"/>
                  </a:lnTo>
                  <a:lnTo>
                    <a:pt x="13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403960" y="531324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0" y="20"/>
                  </a:moveTo>
                  <a:lnTo>
                    <a:pt x="25" y="20"/>
                  </a:lnTo>
                  <a:lnTo>
                    <a:pt x="13" y="20"/>
                  </a:lnTo>
                  <a:lnTo>
                    <a:pt x="13" y="0"/>
                  </a:lnTo>
                  <a:lnTo>
                    <a:pt x="13" y="41"/>
                  </a:lnTo>
                  <a:lnTo>
                    <a:pt x="13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156280" y="5292720"/>
              <a:ext cx="39600" cy="63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20"/>
                  </a:moveTo>
                  <a:lnTo>
                    <a:pt x="25" y="20"/>
                  </a:lnTo>
                  <a:lnTo>
                    <a:pt x="12" y="20"/>
                  </a:lnTo>
                  <a:lnTo>
                    <a:pt x="12" y="0"/>
                  </a:lnTo>
                  <a:lnTo>
                    <a:pt x="12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15080" y="5111640"/>
              <a:ext cx="39600" cy="6372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20"/>
                  </a:moveTo>
                  <a:lnTo>
                    <a:pt x="25" y="20"/>
                  </a:lnTo>
                  <a:lnTo>
                    <a:pt x="12" y="20"/>
                  </a:lnTo>
                  <a:lnTo>
                    <a:pt x="12" y="0"/>
                  </a:lnTo>
                  <a:lnTo>
                    <a:pt x="12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732200" y="4268880"/>
              <a:ext cx="39960" cy="63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20"/>
                  </a:moveTo>
                  <a:lnTo>
                    <a:pt x="25" y="20"/>
                  </a:lnTo>
                  <a:lnTo>
                    <a:pt x="12" y="20"/>
                  </a:lnTo>
                  <a:lnTo>
                    <a:pt x="12" y="0"/>
                  </a:lnTo>
                  <a:lnTo>
                    <a:pt x="12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08360" y="3105000"/>
              <a:ext cx="39960" cy="6372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20"/>
                  </a:moveTo>
                  <a:lnTo>
                    <a:pt x="25" y="20"/>
                  </a:lnTo>
                  <a:lnTo>
                    <a:pt x="12" y="20"/>
                  </a:lnTo>
                  <a:lnTo>
                    <a:pt x="12" y="0"/>
                  </a:lnTo>
                  <a:lnTo>
                    <a:pt x="12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444920" y="2101680"/>
              <a:ext cx="39600" cy="6372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20"/>
                  </a:moveTo>
                  <a:lnTo>
                    <a:pt x="25" y="20"/>
                  </a:lnTo>
                  <a:lnTo>
                    <a:pt x="13" y="20"/>
                  </a:lnTo>
                  <a:lnTo>
                    <a:pt x="13" y="0"/>
                  </a:lnTo>
                  <a:lnTo>
                    <a:pt x="13" y="40"/>
                  </a:lnTo>
                  <a:lnTo>
                    <a:pt x="13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02000" y="2038320"/>
              <a:ext cx="3816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0" y="20"/>
                  </a:moveTo>
                  <a:lnTo>
                    <a:pt x="24" y="20"/>
                  </a:lnTo>
                  <a:lnTo>
                    <a:pt x="12" y="20"/>
                  </a:lnTo>
                  <a:lnTo>
                    <a:pt x="12" y="0"/>
                  </a:lnTo>
                  <a:lnTo>
                    <a:pt x="12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145040" y="2496960"/>
              <a:ext cx="39600" cy="6372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20"/>
                  </a:moveTo>
                  <a:lnTo>
                    <a:pt x="25" y="20"/>
                  </a:lnTo>
                  <a:lnTo>
                    <a:pt x="13" y="20"/>
                  </a:lnTo>
                  <a:lnTo>
                    <a:pt x="13" y="0"/>
                  </a:lnTo>
                  <a:lnTo>
                    <a:pt x="13" y="40"/>
                  </a:lnTo>
                  <a:lnTo>
                    <a:pt x="13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936960" y="3286080"/>
              <a:ext cx="38160" cy="6372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0" y="20"/>
                  </a:moveTo>
                  <a:lnTo>
                    <a:pt x="24" y="20"/>
                  </a:lnTo>
                  <a:lnTo>
                    <a:pt x="12" y="20"/>
                  </a:lnTo>
                  <a:lnTo>
                    <a:pt x="12" y="0"/>
                  </a:lnTo>
                  <a:lnTo>
                    <a:pt x="12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54440" y="3841920"/>
              <a:ext cx="3816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0" y="20"/>
                  </a:moveTo>
                  <a:lnTo>
                    <a:pt x="24" y="20"/>
                  </a:lnTo>
                  <a:lnTo>
                    <a:pt x="12" y="20"/>
                  </a:lnTo>
                  <a:lnTo>
                    <a:pt x="12" y="0"/>
                  </a:lnTo>
                  <a:lnTo>
                    <a:pt x="12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97120" y="4192560"/>
              <a:ext cx="3996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0" y="21"/>
                  </a:moveTo>
                  <a:lnTo>
                    <a:pt x="25" y="21"/>
                  </a:lnTo>
                  <a:lnTo>
                    <a:pt x="12" y="21"/>
                  </a:lnTo>
                  <a:lnTo>
                    <a:pt x="12" y="0"/>
                  </a:lnTo>
                  <a:lnTo>
                    <a:pt x="12" y="41"/>
                  </a:lnTo>
                  <a:lnTo>
                    <a:pt x="12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454560" y="4460760"/>
              <a:ext cx="37800" cy="6372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0" y="20"/>
                  </a:moveTo>
                  <a:lnTo>
                    <a:pt x="24" y="20"/>
                  </a:lnTo>
                  <a:lnTo>
                    <a:pt x="12" y="20"/>
                  </a:lnTo>
                  <a:lnTo>
                    <a:pt x="12" y="0"/>
                  </a:lnTo>
                  <a:lnTo>
                    <a:pt x="12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2800" y="4641840"/>
              <a:ext cx="39600" cy="63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20"/>
                  </a:moveTo>
                  <a:lnTo>
                    <a:pt x="25" y="20"/>
                  </a:lnTo>
                  <a:lnTo>
                    <a:pt x="13" y="20"/>
                  </a:lnTo>
                  <a:lnTo>
                    <a:pt x="13" y="0"/>
                  </a:lnTo>
                  <a:lnTo>
                    <a:pt x="13" y="40"/>
                  </a:lnTo>
                  <a:lnTo>
                    <a:pt x="13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186000" y="478008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0" y="20"/>
                  </a:moveTo>
                  <a:lnTo>
                    <a:pt x="25" y="20"/>
                  </a:lnTo>
                  <a:lnTo>
                    <a:pt x="12" y="20"/>
                  </a:lnTo>
                  <a:lnTo>
                    <a:pt x="12" y="0"/>
                  </a:lnTo>
                  <a:lnTo>
                    <a:pt x="12" y="41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049560" y="48862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0" y="21"/>
                  </a:moveTo>
                  <a:lnTo>
                    <a:pt x="25" y="21"/>
                  </a:lnTo>
                  <a:lnTo>
                    <a:pt x="12" y="21"/>
                  </a:lnTo>
                  <a:lnTo>
                    <a:pt x="12" y="0"/>
                  </a:lnTo>
                  <a:lnTo>
                    <a:pt x="12" y="41"/>
                  </a:lnTo>
                  <a:lnTo>
                    <a:pt x="12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13120" y="4983120"/>
              <a:ext cx="38160" cy="6372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0" y="20"/>
                  </a:moveTo>
                  <a:lnTo>
                    <a:pt x="24" y="20"/>
                  </a:lnTo>
                  <a:lnTo>
                    <a:pt x="12" y="20"/>
                  </a:lnTo>
                  <a:lnTo>
                    <a:pt x="12" y="0"/>
                  </a:lnTo>
                  <a:lnTo>
                    <a:pt x="12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81360" y="507852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0" y="21"/>
                  </a:moveTo>
                  <a:lnTo>
                    <a:pt x="25" y="21"/>
                  </a:lnTo>
                  <a:lnTo>
                    <a:pt x="13" y="21"/>
                  </a:lnTo>
                  <a:lnTo>
                    <a:pt x="13" y="0"/>
                  </a:lnTo>
                  <a:lnTo>
                    <a:pt x="13" y="41"/>
                  </a:lnTo>
                  <a:lnTo>
                    <a:pt x="13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44920" y="5175360"/>
              <a:ext cx="39600" cy="63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20"/>
                  </a:moveTo>
                  <a:lnTo>
                    <a:pt x="25" y="20"/>
                  </a:lnTo>
                  <a:lnTo>
                    <a:pt x="12" y="20"/>
                  </a:lnTo>
                  <a:lnTo>
                    <a:pt x="12" y="0"/>
                  </a:lnTo>
                  <a:lnTo>
                    <a:pt x="12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481120" y="5270400"/>
              <a:ext cx="3996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0" y="21"/>
                  </a:moveTo>
                  <a:lnTo>
                    <a:pt x="25" y="21"/>
                  </a:lnTo>
                  <a:lnTo>
                    <a:pt x="13" y="21"/>
                  </a:lnTo>
                  <a:lnTo>
                    <a:pt x="13" y="0"/>
                  </a:lnTo>
                  <a:lnTo>
                    <a:pt x="13" y="41"/>
                  </a:lnTo>
                  <a:lnTo>
                    <a:pt x="13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95520" y="1376280"/>
              <a:ext cx="4356000" cy="3979800"/>
            </a:xfrm>
            <a:custGeom>
              <a:avLst/>
              <a:gdLst/>
              <a:ahLst/>
              <a:rect l="l" t="t" r="r" b="b"/>
              <a:pathLst>
                <a:path w="2744" h="2507">
                  <a:moveTo>
                    <a:pt x="0" y="2494"/>
                  </a:moveTo>
                  <a:lnTo>
                    <a:pt x="4" y="2494"/>
                  </a:lnTo>
                  <a:lnTo>
                    <a:pt x="8" y="2487"/>
                  </a:lnTo>
                  <a:lnTo>
                    <a:pt x="12" y="2487"/>
                  </a:lnTo>
                  <a:lnTo>
                    <a:pt x="16" y="2487"/>
                  </a:lnTo>
                  <a:lnTo>
                    <a:pt x="20" y="2480"/>
                  </a:lnTo>
                  <a:lnTo>
                    <a:pt x="24" y="2480"/>
                  </a:lnTo>
                  <a:lnTo>
                    <a:pt x="28" y="2480"/>
                  </a:lnTo>
                  <a:lnTo>
                    <a:pt x="32" y="2474"/>
                  </a:lnTo>
                  <a:lnTo>
                    <a:pt x="37" y="2474"/>
                  </a:lnTo>
                  <a:lnTo>
                    <a:pt x="41" y="2474"/>
                  </a:lnTo>
                  <a:lnTo>
                    <a:pt x="45" y="2474"/>
                  </a:lnTo>
                  <a:lnTo>
                    <a:pt x="49" y="2467"/>
                  </a:lnTo>
                  <a:lnTo>
                    <a:pt x="49" y="2467"/>
                  </a:lnTo>
                  <a:lnTo>
                    <a:pt x="53" y="2467"/>
                  </a:lnTo>
                  <a:lnTo>
                    <a:pt x="57" y="2460"/>
                  </a:lnTo>
                  <a:lnTo>
                    <a:pt x="61" y="2460"/>
                  </a:lnTo>
                  <a:lnTo>
                    <a:pt x="65" y="2460"/>
                  </a:lnTo>
                  <a:lnTo>
                    <a:pt x="69" y="2453"/>
                  </a:lnTo>
                  <a:lnTo>
                    <a:pt x="74" y="2453"/>
                  </a:lnTo>
                  <a:lnTo>
                    <a:pt x="78" y="2453"/>
                  </a:lnTo>
                  <a:lnTo>
                    <a:pt x="82" y="2447"/>
                  </a:lnTo>
                  <a:lnTo>
                    <a:pt x="86" y="2447"/>
                  </a:lnTo>
                  <a:lnTo>
                    <a:pt x="90" y="2440"/>
                  </a:lnTo>
                  <a:lnTo>
                    <a:pt x="94" y="2440"/>
                  </a:lnTo>
                  <a:lnTo>
                    <a:pt x="94" y="2440"/>
                  </a:lnTo>
                  <a:lnTo>
                    <a:pt x="98" y="2440"/>
                  </a:lnTo>
                  <a:lnTo>
                    <a:pt x="102" y="2433"/>
                  </a:lnTo>
                  <a:lnTo>
                    <a:pt x="106" y="2433"/>
                  </a:lnTo>
                  <a:lnTo>
                    <a:pt x="111" y="2433"/>
                  </a:lnTo>
                  <a:lnTo>
                    <a:pt x="115" y="2427"/>
                  </a:lnTo>
                  <a:lnTo>
                    <a:pt x="119" y="2427"/>
                  </a:lnTo>
                  <a:lnTo>
                    <a:pt x="123" y="2427"/>
                  </a:lnTo>
                  <a:lnTo>
                    <a:pt x="127" y="2420"/>
                  </a:lnTo>
                  <a:lnTo>
                    <a:pt x="131" y="2420"/>
                  </a:lnTo>
                  <a:lnTo>
                    <a:pt x="135" y="2420"/>
                  </a:lnTo>
                  <a:lnTo>
                    <a:pt x="139" y="2413"/>
                  </a:lnTo>
                  <a:lnTo>
                    <a:pt x="139" y="2413"/>
                  </a:lnTo>
                  <a:lnTo>
                    <a:pt x="143" y="2413"/>
                  </a:lnTo>
                  <a:lnTo>
                    <a:pt x="148" y="2413"/>
                  </a:lnTo>
                  <a:lnTo>
                    <a:pt x="152" y="2406"/>
                  </a:lnTo>
                  <a:lnTo>
                    <a:pt x="156" y="2406"/>
                  </a:lnTo>
                  <a:lnTo>
                    <a:pt x="160" y="2406"/>
                  </a:lnTo>
                  <a:lnTo>
                    <a:pt x="164" y="2406"/>
                  </a:lnTo>
                  <a:lnTo>
                    <a:pt x="168" y="2406"/>
                  </a:lnTo>
                  <a:lnTo>
                    <a:pt x="172" y="2400"/>
                  </a:lnTo>
                  <a:lnTo>
                    <a:pt x="176" y="2400"/>
                  </a:lnTo>
                  <a:lnTo>
                    <a:pt x="180" y="2400"/>
                  </a:lnTo>
                  <a:lnTo>
                    <a:pt x="184" y="2400"/>
                  </a:lnTo>
                  <a:lnTo>
                    <a:pt x="184" y="2400"/>
                  </a:lnTo>
                  <a:lnTo>
                    <a:pt x="189" y="2393"/>
                  </a:lnTo>
                  <a:lnTo>
                    <a:pt x="193" y="2393"/>
                  </a:lnTo>
                  <a:lnTo>
                    <a:pt x="197" y="2386"/>
                  </a:lnTo>
                  <a:lnTo>
                    <a:pt x="201" y="2386"/>
                  </a:lnTo>
                  <a:lnTo>
                    <a:pt x="205" y="2386"/>
                  </a:lnTo>
                  <a:lnTo>
                    <a:pt x="209" y="2379"/>
                  </a:lnTo>
                  <a:lnTo>
                    <a:pt x="213" y="2379"/>
                  </a:lnTo>
                  <a:lnTo>
                    <a:pt x="217" y="2373"/>
                  </a:lnTo>
                  <a:lnTo>
                    <a:pt x="221" y="2373"/>
                  </a:lnTo>
                  <a:lnTo>
                    <a:pt x="226" y="2366"/>
                  </a:lnTo>
                  <a:lnTo>
                    <a:pt x="226" y="2366"/>
                  </a:lnTo>
                  <a:lnTo>
                    <a:pt x="230" y="2366"/>
                  </a:lnTo>
                  <a:lnTo>
                    <a:pt x="234" y="2366"/>
                  </a:lnTo>
                  <a:lnTo>
                    <a:pt x="238" y="2359"/>
                  </a:lnTo>
                  <a:lnTo>
                    <a:pt x="242" y="2359"/>
                  </a:lnTo>
                  <a:lnTo>
                    <a:pt x="246" y="2359"/>
                  </a:lnTo>
                  <a:lnTo>
                    <a:pt x="250" y="2359"/>
                  </a:lnTo>
                  <a:lnTo>
                    <a:pt x="254" y="2353"/>
                  </a:lnTo>
                  <a:lnTo>
                    <a:pt x="258" y="2353"/>
                  </a:lnTo>
                  <a:lnTo>
                    <a:pt x="263" y="2353"/>
                  </a:lnTo>
                  <a:lnTo>
                    <a:pt x="267" y="2346"/>
                  </a:lnTo>
                  <a:lnTo>
                    <a:pt x="271" y="2346"/>
                  </a:lnTo>
                  <a:lnTo>
                    <a:pt x="271" y="2346"/>
                  </a:lnTo>
                  <a:lnTo>
                    <a:pt x="275" y="2346"/>
                  </a:lnTo>
                  <a:lnTo>
                    <a:pt x="279" y="2339"/>
                  </a:lnTo>
                  <a:lnTo>
                    <a:pt x="283" y="2339"/>
                  </a:lnTo>
                  <a:lnTo>
                    <a:pt x="287" y="2339"/>
                  </a:lnTo>
                  <a:lnTo>
                    <a:pt x="291" y="2339"/>
                  </a:lnTo>
                  <a:lnTo>
                    <a:pt x="295" y="2332"/>
                  </a:lnTo>
                  <a:lnTo>
                    <a:pt x="300" y="2332"/>
                  </a:lnTo>
                  <a:lnTo>
                    <a:pt x="304" y="2332"/>
                  </a:lnTo>
                  <a:lnTo>
                    <a:pt x="308" y="2332"/>
                  </a:lnTo>
                  <a:lnTo>
                    <a:pt x="312" y="2326"/>
                  </a:lnTo>
                  <a:lnTo>
                    <a:pt x="312" y="2326"/>
                  </a:lnTo>
                  <a:lnTo>
                    <a:pt x="316" y="2326"/>
                  </a:lnTo>
                  <a:lnTo>
                    <a:pt x="320" y="2326"/>
                  </a:lnTo>
                  <a:lnTo>
                    <a:pt x="324" y="2319"/>
                  </a:lnTo>
                  <a:lnTo>
                    <a:pt x="328" y="2319"/>
                  </a:lnTo>
                  <a:lnTo>
                    <a:pt x="332" y="2319"/>
                  </a:lnTo>
                  <a:lnTo>
                    <a:pt x="337" y="2312"/>
                  </a:lnTo>
                  <a:lnTo>
                    <a:pt x="341" y="2312"/>
                  </a:lnTo>
                  <a:lnTo>
                    <a:pt x="345" y="2312"/>
                  </a:lnTo>
                  <a:lnTo>
                    <a:pt x="349" y="2306"/>
                  </a:lnTo>
                  <a:lnTo>
                    <a:pt x="353" y="2306"/>
                  </a:lnTo>
                  <a:lnTo>
                    <a:pt x="353" y="2306"/>
                  </a:lnTo>
                  <a:lnTo>
                    <a:pt x="357" y="2306"/>
                  </a:lnTo>
                  <a:lnTo>
                    <a:pt x="361" y="2299"/>
                  </a:lnTo>
                  <a:lnTo>
                    <a:pt x="365" y="2299"/>
                  </a:lnTo>
                  <a:lnTo>
                    <a:pt x="369" y="2299"/>
                  </a:lnTo>
                  <a:lnTo>
                    <a:pt x="374" y="2292"/>
                  </a:lnTo>
                  <a:lnTo>
                    <a:pt x="378" y="2292"/>
                  </a:lnTo>
                  <a:lnTo>
                    <a:pt x="382" y="2292"/>
                  </a:lnTo>
                  <a:lnTo>
                    <a:pt x="386" y="2285"/>
                  </a:lnTo>
                  <a:lnTo>
                    <a:pt x="390" y="2285"/>
                  </a:lnTo>
                  <a:lnTo>
                    <a:pt x="394" y="2285"/>
                  </a:lnTo>
                  <a:lnTo>
                    <a:pt x="394" y="2285"/>
                  </a:lnTo>
                  <a:lnTo>
                    <a:pt x="398" y="2279"/>
                  </a:lnTo>
                  <a:lnTo>
                    <a:pt x="402" y="2279"/>
                  </a:lnTo>
                  <a:lnTo>
                    <a:pt x="406" y="2279"/>
                  </a:lnTo>
                  <a:lnTo>
                    <a:pt x="410" y="2279"/>
                  </a:lnTo>
                  <a:lnTo>
                    <a:pt x="415" y="2272"/>
                  </a:lnTo>
                  <a:lnTo>
                    <a:pt x="419" y="2272"/>
                  </a:lnTo>
                  <a:lnTo>
                    <a:pt x="423" y="2272"/>
                  </a:lnTo>
                  <a:lnTo>
                    <a:pt x="427" y="2265"/>
                  </a:lnTo>
                  <a:lnTo>
                    <a:pt x="431" y="2265"/>
                  </a:lnTo>
                  <a:lnTo>
                    <a:pt x="435" y="2265"/>
                  </a:lnTo>
                  <a:lnTo>
                    <a:pt x="435" y="2265"/>
                  </a:lnTo>
                  <a:lnTo>
                    <a:pt x="439" y="2265"/>
                  </a:lnTo>
                  <a:lnTo>
                    <a:pt x="443" y="2258"/>
                  </a:lnTo>
                  <a:lnTo>
                    <a:pt x="447" y="2258"/>
                  </a:lnTo>
                  <a:lnTo>
                    <a:pt x="452" y="2252"/>
                  </a:lnTo>
                  <a:lnTo>
                    <a:pt x="456" y="2252"/>
                  </a:lnTo>
                  <a:lnTo>
                    <a:pt x="460" y="2252"/>
                  </a:lnTo>
                  <a:lnTo>
                    <a:pt x="464" y="2245"/>
                  </a:lnTo>
                  <a:lnTo>
                    <a:pt x="468" y="2245"/>
                  </a:lnTo>
                  <a:lnTo>
                    <a:pt x="472" y="2238"/>
                  </a:lnTo>
                  <a:lnTo>
                    <a:pt x="476" y="2238"/>
                  </a:lnTo>
                  <a:lnTo>
                    <a:pt x="480" y="2232"/>
                  </a:lnTo>
                  <a:lnTo>
                    <a:pt x="480" y="2232"/>
                  </a:lnTo>
                  <a:lnTo>
                    <a:pt x="484" y="2232"/>
                  </a:lnTo>
                  <a:lnTo>
                    <a:pt x="489" y="2232"/>
                  </a:lnTo>
                  <a:lnTo>
                    <a:pt x="493" y="2225"/>
                  </a:lnTo>
                  <a:lnTo>
                    <a:pt x="497" y="2225"/>
                  </a:lnTo>
                  <a:lnTo>
                    <a:pt x="501" y="2225"/>
                  </a:lnTo>
                  <a:lnTo>
                    <a:pt x="505" y="2218"/>
                  </a:lnTo>
                  <a:lnTo>
                    <a:pt x="509" y="2218"/>
                  </a:lnTo>
                  <a:lnTo>
                    <a:pt x="513" y="2218"/>
                  </a:lnTo>
                  <a:lnTo>
                    <a:pt x="517" y="2211"/>
                  </a:lnTo>
                  <a:lnTo>
                    <a:pt x="521" y="2211"/>
                  </a:lnTo>
                  <a:lnTo>
                    <a:pt x="521" y="2211"/>
                  </a:lnTo>
                  <a:lnTo>
                    <a:pt x="526" y="2205"/>
                  </a:lnTo>
                  <a:lnTo>
                    <a:pt x="530" y="2205"/>
                  </a:lnTo>
                  <a:lnTo>
                    <a:pt x="534" y="2198"/>
                  </a:lnTo>
                  <a:lnTo>
                    <a:pt x="538" y="2191"/>
                  </a:lnTo>
                  <a:lnTo>
                    <a:pt x="542" y="2191"/>
                  </a:lnTo>
                  <a:lnTo>
                    <a:pt x="546" y="2185"/>
                  </a:lnTo>
                  <a:lnTo>
                    <a:pt x="550" y="2178"/>
                  </a:lnTo>
                  <a:lnTo>
                    <a:pt x="554" y="2178"/>
                  </a:lnTo>
                  <a:lnTo>
                    <a:pt x="558" y="2171"/>
                  </a:lnTo>
                  <a:lnTo>
                    <a:pt x="563" y="2164"/>
                  </a:lnTo>
                  <a:lnTo>
                    <a:pt x="567" y="2164"/>
                  </a:lnTo>
                  <a:lnTo>
                    <a:pt x="567" y="2164"/>
                  </a:lnTo>
                  <a:lnTo>
                    <a:pt x="571" y="2158"/>
                  </a:lnTo>
                  <a:lnTo>
                    <a:pt x="575" y="2158"/>
                  </a:lnTo>
                  <a:lnTo>
                    <a:pt x="579" y="2151"/>
                  </a:lnTo>
                  <a:lnTo>
                    <a:pt x="583" y="2151"/>
                  </a:lnTo>
                  <a:lnTo>
                    <a:pt x="587" y="2144"/>
                  </a:lnTo>
                  <a:lnTo>
                    <a:pt x="591" y="2144"/>
                  </a:lnTo>
                  <a:lnTo>
                    <a:pt x="595" y="2137"/>
                  </a:lnTo>
                  <a:lnTo>
                    <a:pt x="600" y="2137"/>
                  </a:lnTo>
                  <a:lnTo>
                    <a:pt x="604" y="2131"/>
                  </a:lnTo>
                  <a:lnTo>
                    <a:pt x="608" y="2131"/>
                  </a:lnTo>
                  <a:lnTo>
                    <a:pt x="612" y="2124"/>
                  </a:lnTo>
                  <a:lnTo>
                    <a:pt x="612" y="2124"/>
                  </a:lnTo>
                  <a:lnTo>
                    <a:pt x="616" y="2117"/>
                  </a:lnTo>
                  <a:lnTo>
                    <a:pt x="620" y="2117"/>
                  </a:lnTo>
                  <a:lnTo>
                    <a:pt x="624" y="2111"/>
                  </a:lnTo>
                  <a:lnTo>
                    <a:pt x="628" y="2104"/>
                  </a:lnTo>
                  <a:lnTo>
                    <a:pt x="632" y="2104"/>
                  </a:lnTo>
                  <a:lnTo>
                    <a:pt x="636" y="2097"/>
                  </a:lnTo>
                  <a:lnTo>
                    <a:pt x="641" y="2090"/>
                  </a:lnTo>
                  <a:lnTo>
                    <a:pt x="645" y="2084"/>
                  </a:lnTo>
                  <a:lnTo>
                    <a:pt x="649" y="2084"/>
                  </a:lnTo>
                  <a:lnTo>
                    <a:pt x="653" y="2077"/>
                  </a:lnTo>
                  <a:lnTo>
                    <a:pt x="657" y="2070"/>
                  </a:lnTo>
                  <a:lnTo>
                    <a:pt x="661" y="2064"/>
                  </a:lnTo>
                  <a:lnTo>
                    <a:pt x="661" y="2064"/>
                  </a:lnTo>
                  <a:lnTo>
                    <a:pt x="665" y="2064"/>
                  </a:lnTo>
                  <a:lnTo>
                    <a:pt x="669" y="2057"/>
                  </a:lnTo>
                  <a:lnTo>
                    <a:pt x="673" y="2050"/>
                  </a:lnTo>
                  <a:lnTo>
                    <a:pt x="678" y="2043"/>
                  </a:lnTo>
                  <a:lnTo>
                    <a:pt x="682" y="2037"/>
                  </a:lnTo>
                  <a:lnTo>
                    <a:pt x="686" y="2030"/>
                  </a:lnTo>
                  <a:lnTo>
                    <a:pt x="690" y="2030"/>
                  </a:lnTo>
                  <a:lnTo>
                    <a:pt x="694" y="2023"/>
                  </a:lnTo>
                  <a:lnTo>
                    <a:pt x="698" y="2016"/>
                  </a:lnTo>
                  <a:lnTo>
                    <a:pt x="702" y="2010"/>
                  </a:lnTo>
                  <a:lnTo>
                    <a:pt x="706" y="2003"/>
                  </a:lnTo>
                  <a:lnTo>
                    <a:pt x="710" y="1996"/>
                  </a:lnTo>
                  <a:lnTo>
                    <a:pt x="710" y="1996"/>
                  </a:lnTo>
                  <a:lnTo>
                    <a:pt x="715" y="1996"/>
                  </a:lnTo>
                  <a:lnTo>
                    <a:pt x="719" y="1990"/>
                  </a:lnTo>
                  <a:lnTo>
                    <a:pt x="723" y="1983"/>
                  </a:lnTo>
                  <a:lnTo>
                    <a:pt x="727" y="1976"/>
                  </a:lnTo>
                  <a:lnTo>
                    <a:pt x="731" y="1976"/>
                  </a:lnTo>
                  <a:lnTo>
                    <a:pt x="735" y="1969"/>
                  </a:lnTo>
                  <a:lnTo>
                    <a:pt x="739" y="1963"/>
                  </a:lnTo>
                  <a:lnTo>
                    <a:pt x="743" y="1956"/>
                  </a:lnTo>
                  <a:lnTo>
                    <a:pt x="747" y="1956"/>
                  </a:lnTo>
                  <a:lnTo>
                    <a:pt x="752" y="1949"/>
                  </a:lnTo>
                  <a:lnTo>
                    <a:pt x="756" y="1943"/>
                  </a:lnTo>
                  <a:lnTo>
                    <a:pt x="760" y="1936"/>
                  </a:lnTo>
                  <a:lnTo>
                    <a:pt x="760" y="1936"/>
                  </a:lnTo>
                  <a:lnTo>
                    <a:pt x="764" y="1929"/>
                  </a:lnTo>
                  <a:lnTo>
                    <a:pt x="768" y="1922"/>
                  </a:lnTo>
                  <a:lnTo>
                    <a:pt x="772" y="1916"/>
                  </a:lnTo>
                  <a:lnTo>
                    <a:pt x="776" y="1909"/>
                  </a:lnTo>
                  <a:lnTo>
                    <a:pt x="780" y="1902"/>
                  </a:lnTo>
                  <a:lnTo>
                    <a:pt x="784" y="1889"/>
                  </a:lnTo>
                  <a:lnTo>
                    <a:pt x="789" y="1882"/>
                  </a:lnTo>
                  <a:lnTo>
                    <a:pt x="793" y="1875"/>
                  </a:lnTo>
                  <a:lnTo>
                    <a:pt x="797" y="1869"/>
                  </a:lnTo>
                  <a:lnTo>
                    <a:pt x="801" y="1855"/>
                  </a:lnTo>
                  <a:lnTo>
                    <a:pt x="805" y="1848"/>
                  </a:lnTo>
                  <a:lnTo>
                    <a:pt x="809" y="1842"/>
                  </a:lnTo>
                  <a:lnTo>
                    <a:pt x="813" y="1835"/>
                  </a:lnTo>
                  <a:lnTo>
                    <a:pt x="817" y="1822"/>
                  </a:lnTo>
                  <a:lnTo>
                    <a:pt x="817" y="1822"/>
                  </a:lnTo>
                  <a:lnTo>
                    <a:pt x="821" y="1815"/>
                  </a:lnTo>
                  <a:lnTo>
                    <a:pt x="826" y="1808"/>
                  </a:lnTo>
                  <a:lnTo>
                    <a:pt x="830" y="1795"/>
                  </a:lnTo>
                  <a:lnTo>
                    <a:pt x="834" y="1788"/>
                  </a:lnTo>
                  <a:lnTo>
                    <a:pt x="838" y="1781"/>
                  </a:lnTo>
                  <a:lnTo>
                    <a:pt x="842" y="1768"/>
                  </a:lnTo>
                  <a:lnTo>
                    <a:pt x="846" y="1761"/>
                  </a:lnTo>
                  <a:lnTo>
                    <a:pt x="850" y="1754"/>
                  </a:lnTo>
                  <a:lnTo>
                    <a:pt x="854" y="1748"/>
                  </a:lnTo>
                  <a:lnTo>
                    <a:pt x="858" y="1734"/>
                  </a:lnTo>
                  <a:lnTo>
                    <a:pt x="862" y="1727"/>
                  </a:lnTo>
                  <a:lnTo>
                    <a:pt x="867" y="1721"/>
                  </a:lnTo>
                  <a:lnTo>
                    <a:pt x="871" y="1707"/>
                  </a:lnTo>
                  <a:lnTo>
                    <a:pt x="875" y="1701"/>
                  </a:lnTo>
                  <a:lnTo>
                    <a:pt x="875" y="1701"/>
                  </a:lnTo>
                  <a:lnTo>
                    <a:pt x="879" y="1694"/>
                  </a:lnTo>
                  <a:lnTo>
                    <a:pt x="883" y="1680"/>
                  </a:lnTo>
                  <a:lnTo>
                    <a:pt x="887" y="1674"/>
                  </a:lnTo>
                  <a:lnTo>
                    <a:pt x="891" y="1660"/>
                  </a:lnTo>
                  <a:lnTo>
                    <a:pt x="895" y="1653"/>
                  </a:lnTo>
                  <a:lnTo>
                    <a:pt x="899" y="1647"/>
                  </a:lnTo>
                  <a:lnTo>
                    <a:pt x="904" y="1633"/>
                  </a:lnTo>
                  <a:lnTo>
                    <a:pt x="908" y="1627"/>
                  </a:lnTo>
                  <a:lnTo>
                    <a:pt x="912" y="1613"/>
                  </a:lnTo>
                  <a:lnTo>
                    <a:pt x="916" y="1606"/>
                  </a:lnTo>
                  <a:lnTo>
                    <a:pt x="920" y="1600"/>
                  </a:lnTo>
                  <a:lnTo>
                    <a:pt x="924" y="1586"/>
                  </a:lnTo>
                  <a:lnTo>
                    <a:pt x="928" y="1580"/>
                  </a:lnTo>
                  <a:lnTo>
                    <a:pt x="928" y="1580"/>
                  </a:lnTo>
                  <a:lnTo>
                    <a:pt x="932" y="1573"/>
                  </a:lnTo>
                  <a:lnTo>
                    <a:pt x="936" y="1559"/>
                  </a:lnTo>
                  <a:lnTo>
                    <a:pt x="941" y="1553"/>
                  </a:lnTo>
                  <a:lnTo>
                    <a:pt x="945" y="1539"/>
                  </a:lnTo>
                  <a:lnTo>
                    <a:pt x="949" y="1526"/>
                  </a:lnTo>
                  <a:lnTo>
                    <a:pt x="953" y="1519"/>
                  </a:lnTo>
                  <a:lnTo>
                    <a:pt x="957" y="1506"/>
                  </a:lnTo>
                  <a:lnTo>
                    <a:pt x="961" y="1492"/>
                  </a:lnTo>
                  <a:lnTo>
                    <a:pt x="965" y="1479"/>
                  </a:lnTo>
                  <a:lnTo>
                    <a:pt x="969" y="1465"/>
                  </a:lnTo>
                  <a:lnTo>
                    <a:pt x="973" y="1452"/>
                  </a:lnTo>
                  <a:lnTo>
                    <a:pt x="978" y="1438"/>
                  </a:lnTo>
                  <a:lnTo>
                    <a:pt x="982" y="1425"/>
                  </a:lnTo>
                  <a:lnTo>
                    <a:pt x="986" y="1411"/>
                  </a:lnTo>
                  <a:lnTo>
                    <a:pt x="990" y="1398"/>
                  </a:lnTo>
                  <a:lnTo>
                    <a:pt x="994" y="1385"/>
                  </a:lnTo>
                  <a:lnTo>
                    <a:pt x="998" y="1371"/>
                  </a:lnTo>
                  <a:lnTo>
                    <a:pt x="998" y="1371"/>
                  </a:lnTo>
                  <a:lnTo>
                    <a:pt x="1002" y="1358"/>
                  </a:lnTo>
                  <a:lnTo>
                    <a:pt x="1006" y="1344"/>
                  </a:lnTo>
                  <a:lnTo>
                    <a:pt x="1010" y="1324"/>
                  </a:lnTo>
                  <a:lnTo>
                    <a:pt x="1015" y="1311"/>
                  </a:lnTo>
                  <a:lnTo>
                    <a:pt x="1019" y="1297"/>
                  </a:lnTo>
                  <a:lnTo>
                    <a:pt x="1023" y="1277"/>
                  </a:lnTo>
                  <a:lnTo>
                    <a:pt x="1027" y="1264"/>
                  </a:lnTo>
                  <a:lnTo>
                    <a:pt x="1031" y="1250"/>
                  </a:lnTo>
                  <a:lnTo>
                    <a:pt x="1035" y="1230"/>
                  </a:lnTo>
                  <a:lnTo>
                    <a:pt x="1039" y="1216"/>
                  </a:lnTo>
                  <a:lnTo>
                    <a:pt x="1043" y="1196"/>
                  </a:lnTo>
                  <a:lnTo>
                    <a:pt x="1047" y="1183"/>
                  </a:lnTo>
                  <a:lnTo>
                    <a:pt x="1052" y="1163"/>
                  </a:lnTo>
                  <a:lnTo>
                    <a:pt x="1056" y="1149"/>
                  </a:lnTo>
                  <a:lnTo>
                    <a:pt x="1060" y="1129"/>
                  </a:lnTo>
                  <a:lnTo>
                    <a:pt x="1064" y="1116"/>
                  </a:lnTo>
                  <a:lnTo>
                    <a:pt x="1064" y="1116"/>
                  </a:lnTo>
                  <a:lnTo>
                    <a:pt x="1068" y="1102"/>
                  </a:lnTo>
                  <a:lnTo>
                    <a:pt x="1072" y="1082"/>
                  </a:lnTo>
                  <a:lnTo>
                    <a:pt x="1076" y="1062"/>
                  </a:lnTo>
                  <a:lnTo>
                    <a:pt x="1080" y="1048"/>
                  </a:lnTo>
                  <a:lnTo>
                    <a:pt x="1084" y="1028"/>
                  </a:lnTo>
                  <a:lnTo>
                    <a:pt x="1088" y="1015"/>
                  </a:lnTo>
                  <a:lnTo>
                    <a:pt x="1093" y="995"/>
                  </a:lnTo>
                  <a:lnTo>
                    <a:pt x="1097" y="974"/>
                  </a:lnTo>
                  <a:lnTo>
                    <a:pt x="1101" y="961"/>
                  </a:lnTo>
                  <a:lnTo>
                    <a:pt x="1105" y="941"/>
                  </a:lnTo>
                  <a:lnTo>
                    <a:pt x="1109" y="921"/>
                  </a:lnTo>
                  <a:lnTo>
                    <a:pt x="1113" y="907"/>
                  </a:lnTo>
                  <a:lnTo>
                    <a:pt x="1117" y="887"/>
                  </a:lnTo>
                  <a:lnTo>
                    <a:pt x="1121" y="867"/>
                  </a:lnTo>
                  <a:lnTo>
                    <a:pt x="1125" y="847"/>
                  </a:lnTo>
                  <a:lnTo>
                    <a:pt x="1130" y="827"/>
                  </a:lnTo>
                  <a:lnTo>
                    <a:pt x="1134" y="813"/>
                  </a:lnTo>
                  <a:lnTo>
                    <a:pt x="1134" y="813"/>
                  </a:lnTo>
                  <a:lnTo>
                    <a:pt x="1138" y="793"/>
                  </a:lnTo>
                  <a:lnTo>
                    <a:pt x="1142" y="773"/>
                  </a:lnTo>
                  <a:lnTo>
                    <a:pt x="1146" y="746"/>
                  </a:lnTo>
                  <a:lnTo>
                    <a:pt x="1150" y="726"/>
                  </a:lnTo>
                  <a:lnTo>
                    <a:pt x="1154" y="699"/>
                  </a:lnTo>
                  <a:lnTo>
                    <a:pt x="1158" y="679"/>
                  </a:lnTo>
                  <a:lnTo>
                    <a:pt x="1162" y="652"/>
                  </a:lnTo>
                  <a:lnTo>
                    <a:pt x="1167" y="625"/>
                  </a:lnTo>
                  <a:lnTo>
                    <a:pt x="1171" y="598"/>
                  </a:lnTo>
                  <a:lnTo>
                    <a:pt x="1175" y="571"/>
                  </a:lnTo>
                  <a:lnTo>
                    <a:pt x="1179" y="544"/>
                  </a:lnTo>
                  <a:lnTo>
                    <a:pt x="1183" y="517"/>
                  </a:lnTo>
                  <a:lnTo>
                    <a:pt x="1187" y="497"/>
                  </a:lnTo>
                  <a:lnTo>
                    <a:pt x="1191" y="470"/>
                  </a:lnTo>
                  <a:lnTo>
                    <a:pt x="1195" y="443"/>
                  </a:lnTo>
                  <a:lnTo>
                    <a:pt x="1199" y="417"/>
                  </a:lnTo>
                  <a:lnTo>
                    <a:pt x="1204" y="396"/>
                  </a:lnTo>
                  <a:lnTo>
                    <a:pt x="1208" y="376"/>
                  </a:lnTo>
                  <a:lnTo>
                    <a:pt x="1208" y="376"/>
                  </a:lnTo>
                  <a:lnTo>
                    <a:pt x="1212" y="349"/>
                  </a:lnTo>
                  <a:lnTo>
                    <a:pt x="1216" y="329"/>
                  </a:lnTo>
                  <a:lnTo>
                    <a:pt x="1220" y="309"/>
                  </a:lnTo>
                  <a:lnTo>
                    <a:pt x="1224" y="289"/>
                  </a:lnTo>
                  <a:lnTo>
                    <a:pt x="1228" y="275"/>
                  </a:lnTo>
                  <a:lnTo>
                    <a:pt x="1232" y="255"/>
                  </a:lnTo>
                  <a:lnTo>
                    <a:pt x="1236" y="235"/>
                  </a:lnTo>
                  <a:lnTo>
                    <a:pt x="1241" y="222"/>
                  </a:lnTo>
                  <a:lnTo>
                    <a:pt x="1245" y="208"/>
                  </a:lnTo>
                  <a:lnTo>
                    <a:pt x="1249" y="188"/>
                  </a:lnTo>
                  <a:lnTo>
                    <a:pt x="1253" y="175"/>
                  </a:lnTo>
                  <a:lnTo>
                    <a:pt x="1257" y="161"/>
                  </a:lnTo>
                  <a:lnTo>
                    <a:pt x="1261" y="148"/>
                  </a:lnTo>
                  <a:lnTo>
                    <a:pt x="1265" y="134"/>
                  </a:lnTo>
                  <a:lnTo>
                    <a:pt x="1269" y="121"/>
                  </a:lnTo>
                  <a:lnTo>
                    <a:pt x="1273" y="107"/>
                  </a:lnTo>
                  <a:lnTo>
                    <a:pt x="1278" y="94"/>
                  </a:lnTo>
                  <a:lnTo>
                    <a:pt x="1282" y="80"/>
                  </a:lnTo>
                  <a:lnTo>
                    <a:pt x="1286" y="67"/>
                  </a:lnTo>
                  <a:lnTo>
                    <a:pt x="1290" y="54"/>
                  </a:lnTo>
                  <a:lnTo>
                    <a:pt x="1294" y="40"/>
                  </a:lnTo>
                  <a:lnTo>
                    <a:pt x="1298" y="27"/>
                  </a:lnTo>
                  <a:lnTo>
                    <a:pt x="1302" y="13"/>
                  </a:lnTo>
                  <a:lnTo>
                    <a:pt x="1306" y="0"/>
                  </a:lnTo>
                  <a:lnTo>
                    <a:pt x="1306" y="0"/>
                  </a:lnTo>
                  <a:lnTo>
                    <a:pt x="1310" y="0"/>
                  </a:lnTo>
                  <a:lnTo>
                    <a:pt x="1314" y="0"/>
                  </a:lnTo>
                  <a:lnTo>
                    <a:pt x="1319" y="0"/>
                  </a:lnTo>
                  <a:lnTo>
                    <a:pt x="1323" y="0"/>
                  </a:lnTo>
                  <a:lnTo>
                    <a:pt x="1327" y="0"/>
                  </a:lnTo>
                  <a:lnTo>
                    <a:pt x="1331" y="0"/>
                  </a:lnTo>
                  <a:lnTo>
                    <a:pt x="1335" y="0"/>
                  </a:lnTo>
                  <a:lnTo>
                    <a:pt x="1339" y="0"/>
                  </a:lnTo>
                  <a:lnTo>
                    <a:pt x="1343" y="0"/>
                  </a:lnTo>
                  <a:lnTo>
                    <a:pt x="1347" y="0"/>
                  </a:lnTo>
                  <a:lnTo>
                    <a:pt x="1351" y="0"/>
                  </a:lnTo>
                  <a:lnTo>
                    <a:pt x="1356" y="0"/>
                  </a:lnTo>
                  <a:lnTo>
                    <a:pt x="1360" y="0"/>
                  </a:lnTo>
                  <a:lnTo>
                    <a:pt x="1364" y="0"/>
                  </a:lnTo>
                  <a:lnTo>
                    <a:pt x="1368" y="0"/>
                  </a:lnTo>
                  <a:lnTo>
                    <a:pt x="1372" y="0"/>
                  </a:lnTo>
                  <a:lnTo>
                    <a:pt x="1376" y="0"/>
                  </a:lnTo>
                  <a:lnTo>
                    <a:pt x="1380" y="0"/>
                  </a:lnTo>
                  <a:lnTo>
                    <a:pt x="1384" y="0"/>
                  </a:lnTo>
                  <a:lnTo>
                    <a:pt x="1388" y="0"/>
                  </a:lnTo>
                  <a:lnTo>
                    <a:pt x="1393" y="6"/>
                  </a:lnTo>
                  <a:lnTo>
                    <a:pt x="1397" y="20"/>
                  </a:lnTo>
                  <a:lnTo>
                    <a:pt x="1401" y="27"/>
                  </a:lnTo>
                  <a:lnTo>
                    <a:pt x="1405" y="40"/>
                  </a:lnTo>
                  <a:lnTo>
                    <a:pt x="1409" y="60"/>
                  </a:lnTo>
                  <a:lnTo>
                    <a:pt x="1413" y="74"/>
                  </a:lnTo>
                  <a:lnTo>
                    <a:pt x="1417" y="87"/>
                  </a:lnTo>
                  <a:lnTo>
                    <a:pt x="1421" y="107"/>
                  </a:lnTo>
                  <a:lnTo>
                    <a:pt x="1421" y="107"/>
                  </a:lnTo>
                  <a:lnTo>
                    <a:pt x="1425" y="127"/>
                  </a:lnTo>
                  <a:lnTo>
                    <a:pt x="1430" y="154"/>
                  </a:lnTo>
                  <a:lnTo>
                    <a:pt x="1434" y="181"/>
                  </a:lnTo>
                  <a:lnTo>
                    <a:pt x="1438" y="222"/>
                  </a:lnTo>
                  <a:lnTo>
                    <a:pt x="1442" y="262"/>
                  </a:lnTo>
                  <a:lnTo>
                    <a:pt x="1446" y="309"/>
                  </a:lnTo>
                  <a:lnTo>
                    <a:pt x="1450" y="356"/>
                  </a:lnTo>
                  <a:lnTo>
                    <a:pt x="1454" y="410"/>
                  </a:lnTo>
                  <a:lnTo>
                    <a:pt x="1458" y="464"/>
                  </a:lnTo>
                  <a:lnTo>
                    <a:pt x="1462" y="524"/>
                  </a:lnTo>
                  <a:lnTo>
                    <a:pt x="1467" y="591"/>
                  </a:lnTo>
                  <a:lnTo>
                    <a:pt x="1471" y="652"/>
                  </a:lnTo>
                  <a:lnTo>
                    <a:pt x="1475" y="719"/>
                  </a:lnTo>
                  <a:lnTo>
                    <a:pt x="1479" y="793"/>
                  </a:lnTo>
                  <a:lnTo>
                    <a:pt x="1483" y="860"/>
                  </a:lnTo>
                  <a:lnTo>
                    <a:pt x="1487" y="934"/>
                  </a:lnTo>
                  <a:lnTo>
                    <a:pt x="1491" y="1008"/>
                  </a:lnTo>
                  <a:lnTo>
                    <a:pt x="1495" y="1082"/>
                  </a:lnTo>
                  <a:lnTo>
                    <a:pt x="1499" y="1156"/>
                  </a:lnTo>
                  <a:lnTo>
                    <a:pt x="1504" y="1230"/>
                  </a:lnTo>
                  <a:lnTo>
                    <a:pt x="1508" y="1304"/>
                  </a:lnTo>
                  <a:lnTo>
                    <a:pt x="1512" y="1378"/>
                  </a:lnTo>
                  <a:lnTo>
                    <a:pt x="1516" y="1445"/>
                  </a:lnTo>
                  <a:lnTo>
                    <a:pt x="1520" y="1519"/>
                  </a:lnTo>
                  <a:lnTo>
                    <a:pt x="1524" y="1586"/>
                  </a:lnTo>
                  <a:lnTo>
                    <a:pt x="1528" y="1653"/>
                  </a:lnTo>
                  <a:lnTo>
                    <a:pt x="1532" y="1721"/>
                  </a:lnTo>
                  <a:lnTo>
                    <a:pt x="1536" y="1781"/>
                  </a:lnTo>
                  <a:lnTo>
                    <a:pt x="1540" y="1842"/>
                  </a:lnTo>
                  <a:lnTo>
                    <a:pt x="1545" y="1902"/>
                  </a:lnTo>
                  <a:lnTo>
                    <a:pt x="1549" y="1956"/>
                  </a:lnTo>
                  <a:lnTo>
                    <a:pt x="1553" y="2003"/>
                  </a:lnTo>
                  <a:lnTo>
                    <a:pt x="1557" y="2050"/>
                  </a:lnTo>
                  <a:lnTo>
                    <a:pt x="1561" y="2090"/>
                  </a:lnTo>
                  <a:lnTo>
                    <a:pt x="1565" y="2131"/>
                  </a:lnTo>
                  <a:lnTo>
                    <a:pt x="1569" y="2158"/>
                  </a:lnTo>
                  <a:lnTo>
                    <a:pt x="1573" y="2185"/>
                  </a:lnTo>
                  <a:lnTo>
                    <a:pt x="1577" y="2211"/>
                  </a:lnTo>
                  <a:lnTo>
                    <a:pt x="1582" y="2225"/>
                  </a:lnTo>
                  <a:lnTo>
                    <a:pt x="1586" y="2232"/>
                  </a:lnTo>
                  <a:lnTo>
                    <a:pt x="1586" y="2232"/>
                  </a:lnTo>
                  <a:lnTo>
                    <a:pt x="1590" y="2238"/>
                  </a:lnTo>
                  <a:lnTo>
                    <a:pt x="1594" y="2245"/>
                  </a:lnTo>
                  <a:lnTo>
                    <a:pt x="1598" y="2245"/>
                  </a:lnTo>
                  <a:lnTo>
                    <a:pt x="1602" y="2252"/>
                  </a:lnTo>
                  <a:lnTo>
                    <a:pt x="1606" y="2258"/>
                  </a:lnTo>
                  <a:lnTo>
                    <a:pt x="1610" y="2265"/>
                  </a:lnTo>
                  <a:lnTo>
                    <a:pt x="1614" y="2265"/>
                  </a:lnTo>
                  <a:lnTo>
                    <a:pt x="1619" y="2272"/>
                  </a:lnTo>
                  <a:lnTo>
                    <a:pt x="1623" y="2279"/>
                  </a:lnTo>
                  <a:lnTo>
                    <a:pt x="1627" y="2285"/>
                  </a:lnTo>
                  <a:lnTo>
                    <a:pt x="1631" y="2285"/>
                  </a:lnTo>
                  <a:lnTo>
                    <a:pt x="1635" y="2292"/>
                  </a:lnTo>
                  <a:lnTo>
                    <a:pt x="1639" y="2299"/>
                  </a:lnTo>
                  <a:lnTo>
                    <a:pt x="1643" y="2299"/>
                  </a:lnTo>
                  <a:lnTo>
                    <a:pt x="1647" y="2306"/>
                  </a:lnTo>
                  <a:lnTo>
                    <a:pt x="1651" y="2312"/>
                  </a:lnTo>
                  <a:lnTo>
                    <a:pt x="1656" y="2312"/>
                  </a:lnTo>
                  <a:lnTo>
                    <a:pt x="1660" y="2319"/>
                  </a:lnTo>
                  <a:lnTo>
                    <a:pt x="1664" y="2326"/>
                  </a:lnTo>
                  <a:lnTo>
                    <a:pt x="1668" y="2326"/>
                  </a:lnTo>
                  <a:lnTo>
                    <a:pt x="1672" y="2332"/>
                  </a:lnTo>
                  <a:lnTo>
                    <a:pt x="1676" y="2339"/>
                  </a:lnTo>
                  <a:lnTo>
                    <a:pt x="1680" y="2339"/>
                  </a:lnTo>
                  <a:lnTo>
                    <a:pt x="1684" y="2346"/>
                  </a:lnTo>
                  <a:lnTo>
                    <a:pt x="1688" y="2353"/>
                  </a:lnTo>
                  <a:lnTo>
                    <a:pt x="1693" y="2353"/>
                  </a:lnTo>
                  <a:lnTo>
                    <a:pt x="1697" y="2359"/>
                  </a:lnTo>
                  <a:lnTo>
                    <a:pt x="1701" y="2359"/>
                  </a:lnTo>
                  <a:lnTo>
                    <a:pt x="1705" y="2366"/>
                  </a:lnTo>
                  <a:lnTo>
                    <a:pt x="1709" y="2373"/>
                  </a:lnTo>
                  <a:lnTo>
                    <a:pt x="1713" y="2373"/>
                  </a:lnTo>
                  <a:lnTo>
                    <a:pt x="1717" y="2379"/>
                  </a:lnTo>
                  <a:lnTo>
                    <a:pt x="1721" y="2379"/>
                  </a:lnTo>
                  <a:lnTo>
                    <a:pt x="1725" y="2386"/>
                  </a:lnTo>
                  <a:lnTo>
                    <a:pt x="1730" y="2386"/>
                  </a:lnTo>
                  <a:lnTo>
                    <a:pt x="1734" y="2393"/>
                  </a:lnTo>
                  <a:lnTo>
                    <a:pt x="1738" y="2393"/>
                  </a:lnTo>
                  <a:lnTo>
                    <a:pt x="1742" y="2400"/>
                  </a:lnTo>
                  <a:lnTo>
                    <a:pt x="1746" y="2400"/>
                  </a:lnTo>
                  <a:lnTo>
                    <a:pt x="1750" y="2406"/>
                  </a:lnTo>
                  <a:lnTo>
                    <a:pt x="1754" y="2406"/>
                  </a:lnTo>
                  <a:lnTo>
                    <a:pt x="1758" y="2413"/>
                  </a:lnTo>
                  <a:lnTo>
                    <a:pt x="1762" y="2413"/>
                  </a:lnTo>
                  <a:lnTo>
                    <a:pt x="1766" y="2420"/>
                  </a:lnTo>
                  <a:lnTo>
                    <a:pt x="1771" y="2420"/>
                  </a:lnTo>
                  <a:lnTo>
                    <a:pt x="1775" y="2427"/>
                  </a:lnTo>
                  <a:lnTo>
                    <a:pt x="1779" y="2427"/>
                  </a:lnTo>
                  <a:lnTo>
                    <a:pt x="1783" y="2427"/>
                  </a:lnTo>
                  <a:lnTo>
                    <a:pt x="1787" y="2433"/>
                  </a:lnTo>
                  <a:lnTo>
                    <a:pt x="1791" y="2433"/>
                  </a:lnTo>
                  <a:lnTo>
                    <a:pt x="1795" y="2440"/>
                  </a:lnTo>
                  <a:lnTo>
                    <a:pt x="1799" y="2440"/>
                  </a:lnTo>
                  <a:lnTo>
                    <a:pt x="1803" y="2440"/>
                  </a:lnTo>
                  <a:lnTo>
                    <a:pt x="1808" y="2447"/>
                  </a:lnTo>
                  <a:lnTo>
                    <a:pt x="1812" y="2447"/>
                  </a:lnTo>
                  <a:lnTo>
                    <a:pt x="1816" y="2453"/>
                  </a:lnTo>
                  <a:lnTo>
                    <a:pt x="1820" y="2453"/>
                  </a:lnTo>
                  <a:lnTo>
                    <a:pt x="1824" y="2453"/>
                  </a:lnTo>
                  <a:lnTo>
                    <a:pt x="1828" y="2460"/>
                  </a:lnTo>
                  <a:lnTo>
                    <a:pt x="1832" y="2460"/>
                  </a:lnTo>
                  <a:lnTo>
                    <a:pt x="1836" y="2460"/>
                  </a:lnTo>
                  <a:lnTo>
                    <a:pt x="1840" y="2467"/>
                  </a:lnTo>
                  <a:lnTo>
                    <a:pt x="1845" y="2467"/>
                  </a:lnTo>
                  <a:lnTo>
                    <a:pt x="1849" y="2467"/>
                  </a:lnTo>
                  <a:lnTo>
                    <a:pt x="1853" y="2474"/>
                  </a:lnTo>
                  <a:lnTo>
                    <a:pt x="1857" y="2474"/>
                  </a:lnTo>
                  <a:lnTo>
                    <a:pt x="1861" y="2474"/>
                  </a:lnTo>
                  <a:lnTo>
                    <a:pt x="1865" y="2474"/>
                  </a:lnTo>
                  <a:lnTo>
                    <a:pt x="1869" y="2480"/>
                  </a:lnTo>
                  <a:lnTo>
                    <a:pt x="1873" y="2480"/>
                  </a:lnTo>
                  <a:lnTo>
                    <a:pt x="1877" y="2480"/>
                  </a:lnTo>
                  <a:lnTo>
                    <a:pt x="1882" y="2480"/>
                  </a:lnTo>
                  <a:lnTo>
                    <a:pt x="1886" y="2487"/>
                  </a:lnTo>
                  <a:lnTo>
                    <a:pt x="1890" y="2487"/>
                  </a:lnTo>
                  <a:lnTo>
                    <a:pt x="1894" y="2487"/>
                  </a:lnTo>
                  <a:lnTo>
                    <a:pt x="1898" y="2487"/>
                  </a:lnTo>
                  <a:lnTo>
                    <a:pt x="1902" y="2487"/>
                  </a:lnTo>
                  <a:lnTo>
                    <a:pt x="1906" y="2494"/>
                  </a:lnTo>
                  <a:lnTo>
                    <a:pt x="1910" y="2494"/>
                  </a:lnTo>
                  <a:lnTo>
                    <a:pt x="1914" y="2494"/>
                  </a:lnTo>
                  <a:lnTo>
                    <a:pt x="1919" y="2494"/>
                  </a:lnTo>
                  <a:lnTo>
                    <a:pt x="1923" y="2494"/>
                  </a:lnTo>
                  <a:lnTo>
                    <a:pt x="1927" y="2494"/>
                  </a:lnTo>
                  <a:lnTo>
                    <a:pt x="1931" y="2500"/>
                  </a:lnTo>
                  <a:lnTo>
                    <a:pt x="1935" y="2500"/>
                  </a:lnTo>
                  <a:lnTo>
                    <a:pt x="1939" y="2500"/>
                  </a:lnTo>
                  <a:lnTo>
                    <a:pt x="1943" y="2500"/>
                  </a:lnTo>
                  <a:lnTo>
                    <a:pt x="1947" y="2500"/>
                  </a:lnTo>
                  <a:lnTo>
                    <a:pt x="1951" y="2500"/>
                  </a:lnTo>
                  <a:lnTo>
                    <a:pt x="1956" y="2500"/>
                  </a:lnTo>
                  <a:lnTo>
                    <a:pt x="1960" y="2500"/>
                  </a:lnTo>
                  <a:lnTo>
                    <a:pt x="1964" y="2500"/>
                  </a:lnTo>
                  <a:lnTo>
                    <a:pt x="1968" y="2500"/>
                  </a:lnTo>
                  <a:lnTo>
                    <a:pt x="1972" y="2500"/>
                  </a:lnTo>
                  <a:lnTo>
                    <a:pt x="1976" y="2507"/>
                  </a:lnTo>
                  <a:lnTo>
                    <a:pt x="1980" y="2507"/>
                  </a:lnTo>
                  <a:lnTo>
                    <a:pt x="1984" y="2507"/>
                  </a:lnTo>
                  <a:lnTo>
                    <a:pt x="1988" y="2507"/>
                  </a:lnTo>
                  <a:lnTo>
                    <a:pt x="1992" y="2507"/>
                  </a:lnTo>
                  <a:lnTo>
                    <a:pt x="1992" y="2507"/>
                  </a:lnTo>
                  <a:lnTo>
                    <a:pt x="1997" y="2507"/>
                  </a:lnTo>
                  <a:lnTo>
                    <a:pt x="2001" y="2507"/>
                  </a:lnTo>
                  <a:lnTo>
                    <a:pt x="2005" y="2507"/>
                  </a:lnTo>
                  <a:lnTo>
                    <a:pt x="2009" y="2507"/>
                  </a:lnTo>
                  <a:lnTo>
                    <a:pt x="2013" y="2507"/>
                  </a:lnTo>
                  <a:lnTo>
                    <a:pt x="2017" y="2507"/>
                  </a:lnTo>
                  <a:lnTo>
                    <a:pt x="2021" y="2507"/>
                  </a:lnTo>
                  <a:lnTo>
                    <a:pt x="2025" y="2507"/>
                  </a:lnTo>
                  <a:lnTo>
                    <a:pt x="2029" y="2507"/>
                  </a:lnTo>
                  <a:lnTo>
                    <a:pt x="2034" y="2507"/>
                  </a:lnTo>
                  <a:lnTo>
                    <a:pt x="2038" y="2507"/>
                  </a:lnTo>
                  <a:lnTo>
                    <a:pt x="2042" y="2507"/>
                  </a:lnTo>
                  <a:lnTo>
                    <a:pt x="2046" y="2507"/>
                  </a:lnTo>
                  <a:lnTo>
                    <a:pt x="2050" y="2507"/>
                  </a:lnTo>
                  <a:lnTo>
                    <a:pt x="2054" y="2507"/>
                  </a:lnTo>
                  <a:lnTo>
                    <a:pt x="2058" y="2507"/>
                  </a:lnTo>
                  <a:lnTo>
                    <a:pt x="2062" y="2507"/>
                  </a:lnTo>
                  <a:lnTo>
                    <a:pt x="2066" y="2507"/>
                  </a:lnTo>
                  <a:lnTo>
                    <a:pt x="2071" y="2507"/>
                  </a:lnTo>
                  <a:lnTo>
                    <a:pt x="2075" y="2507"/>
                  </a:lnTo>
                  <a:lnTo>
                    <a:pt x="2079" y="2507"/>
                  </a:lnTo>
                  <a:lnTo>
                    <a:pt x="2083" y="2507"/>
                  </a:lnTo>
                  <a:lnTo>
                    <a:pt x="2087" y="2507"/>
                  </a:lnTo>
                  <a:lnTo>
                    <a:pt x="2091" y="2507"/>
                  </a:lnTo>
                  <a:lnTo>
                    <a:pt x="2095" y="2507"/>
                  </a:lnTo>
                  <a:lnTo>
                    <a:pt x="2099" y="2507"/>
                  </a:lnTo>
                  <a:lnTo>
                    <a:pt x="2103" y="2507"/>
                  </a:lnTo>
                  <a:lnTo>
                    <a:pt x="2108" y="2507"/>
                  </a:lnTo>
                  <a:lnTo>
                    <a:pt x="2112" y="2507"/>
                  </a:lnTo>
                  <a:lnTo>
                    <a:pt x="2116" y="2507"/>
                  </a:lnTo>
                  <a:lnTo>
                    <a:pt x="2120" y="2507"/>
                  </a:lnTo>
                  <a:lnTo>
                    <a:pt x="2124" y="2507"/>
                  </a:lnTo>
                  <a:lnTo>
                    <a:pt x="2128" y="2507"/>
                  </a:lnTo>
                  <a:lnTo>
                    <a:pt x="2132" y="2507"/>
                  </a:lnTo>
                  <a:lnTo>
                    <a:pt x="2136" y="2507"/>
                  </a:lnTo>
                  <a:lnTo>
                    <a:pt x="2140" y="2507"/>
                  </a:lnTo>
                  <a:lnTo>
                    <a:pt x="2145" y="2507"/>
                  </a:lnTo>
                  <a:lnTo>
                    <a:pt x="2149" y="2507"/>
                  </a:lnTo>
                  <a:lnTo>
                    <a:pt x="2153" y="2507"/>
                  </a:lnTo>
                  <a:lnTo>
                    <a:pt x="2157" y="2507"/>
                  </a:lnTo>
                  <a:lnTo>
                    <a:pt x="2161" y="2507"/>
                  </a:lnTo>
                  <a:lnTo>
                    <a:pt x="2165" y="2507"/>
                  </a:lnTo>
                  <a:lnTo>
                    <a:pt x="2169" y="2507"/>
                  </a:lnTo>
                  <a:lnTo>
                    <a:pt x="2173" y="2507"/>
                  </a:lnTo>
                  <a:lnTo>
                    <a:pt x="2177" y="2507"/>
                  </a:lnTo>
                  <a:lnTo>
                    <a:pt x="2182" y="2507"/>
                  </a:lnTo>
                  <a:lnTo>
                    <a:pt x="2186" y="2507"/>
                  </a:lnTo>
                  <a:lnTo>
                    <a:pt x="2190" y="2507"/>
                  </a:lnTo>
                  <a:lnTo>
                    <a:pt x="2194" y="2507"/>
                  </a:lnTo>
                  <a:lnTo>
                    <a:pt x="2198" y="2507"/>
                  </a:lnTo>
                  <a:lnTo>
                    <a:pt x="2202" y="2507"/>
                  </a:lnTo>
                  <a:lnTo>
                    <a:pt x="2206" y="2507"/>
                  </a:lnTo>
                  <a:lnTo>
                    <a:pt x="2210" y="2507"/>
                  </a:lnTo>
                  <a:lnTo>
                    <a:pt x="2214" y="2507"/>
                  </a:lnTo>
                  <a:lnTo>
                    <a:pt x="2219" y="2507"/>
                  </a:lnTo>
                  <a:lnTo>
                    <a:pt x="2223" y="2507"/>
                  </a:lnTo>
                  <a:lnTo>
                    <a:pt x="2227" y="2507"/>
                  </a:lnTo>
                  <a:lnTo>
                    <a:pt x="2231" y="2507"/>
                  </a:lnTo>
                  <a:lnTo>
                    <a:pt x="2231" y="2507"/>
                  </a:lnTo>
                  <a:lnTo>
                    <a:pt x="2235" y="2507"/>
                  </a:lnTo>
                  <a:lnTo>
                    <a:pt x="2239" y="2507"/>
                  </a:lnTo>
                  <a:lnTo>
                    <a:pt x="2243" y="2507"/>
                  </a:lnTo>
                  <a:lnTo>
                    <a:pt x="2247" y="2507"/>
                  </a:lnTo>
                  <a:lnTo>
                    <a:pt x="2251" y="2507"/>
                  </a:lnTo>
                  <a:lnTo>
                    <a:pt x="2255" y="2507"/>
                  </a:lnTo>
                  <a:lnTo>
                    <a:pt x="2260" y="2507"/>
                  </a:lnTo>
                  <a:lnTo>
                    <a:pt x="2264" y="2507"/>
                  </a:lnTo>
                  <a:lnTo>
                    <a:pt x="2268" y="2507"/>
                  </a:lnTo>
                  <a:lnTo>
                    <a:pt x="2272" y="2507"/>
                  </a:lnTo>
                  <a:lnTo>
                    <a:pt x="2276" y="2507"/>
                  </a:lnTo>
                  <a:lnTo>
                    <a:pt x="2280" y="2507"/>
                  </a:lnTo>
                  <a:lnTo>
                    <a:pt x="2284" y="2507"/>
                  </a:lnTo>
                  <a:lnTo>
                    <a:pt x="2288" y="2507"/>
                  </a:lnTo>
                  <a:lnTo>
                    <a:pt x="2292" y="2507"/>
                  </a:lnTo>
                  <a:lnTo>
                    <a:pt x="2297" y="2507"/>
                  </a:lnTo>
                  <a:lnTo>
                    <a:pt x="2301" y="2507"/>
                  </a:lnTo>
                  <a:lnTo>
                    <a:pt x="2305" y="2507"/>
                  </a:lnTo>
                  <a:lnTo>
                    <a:pt x="2309" y="2507"/>
                  </a:lnTo>
                  <a:lnTo>
                    <a:pt x="2313" y="2507"/>
                  </a:lnTo>
                  <a:lnTo>
                    <a:pt x="2317" y="2507"/>
                  </a:lnTo>
                  <a:lnTo>
                    <a:pt x="2321" y="2507"/>
                  </a:lnTo>
                  <a:lnTo>
                    <a:pt x="2325" y="2507"/>
                  </a:lnTo>
                  <a:lnTo>
                    <a:pt x="2329" y="2507"/>
                  </a:lnTo>
                  <a:lnTo>
                    <a:pt x="2334" y="2507"/>
                  </a:lnTo>
                  <a:lnTo>
                    <a:pt x="2338" y="2507"/>
                  </a:lnTo>
                  <a:lnTo>
                    <a:pt x="2342" y="2507"/>
                  </a:lnTo>
                  <a:lnTo>
                    <a:pt x="2346" y="2507"/>
                  </a:lnTo>
                  <a:lnTo>
                    <a:pt x="2350" y="2507"/>
                  </a:lnTo>
                  <a:lnTo>
                    <a:pt x="2354" y="2507"/>
                  </a:lnTo>
                  <a:lnTo>
                    <a:pt x="2358" y="2507"/>
                  </a:lnTo>
                  <a:lnTo>
                    <a:pt x="2362" y="2507"/>
                  </a:lnTo>
                  <a:lnTo>
                    <a:pt x="2366" y="2507"/>
                  </a:lnTo>
                  <a:lnTo>
                    <a:pt x="2371" y="2507"/>
                  </a:lnTo>
                  <a:lnTo>
                    <a:pt x="2375" y="2507"/>
                  </a:lnTo>
                  <a:lnTo>
                    <a:pt x="2379" y="2507"/>
                  </a:lnTo>
                  <a:lnTo>
                    <a:pt x="2383" y="2507"/>
                  </a:lnTo>
                  <a:lnTo>
                    <a:pt x="2387" y="2507"/>
                  </a:lnTo>
                  <a:lnTo>
                    <a:pt x="2391" y="2507"/>
                  </a:lnTo>
                  <a:lnTo>
                    <a:pt x="2395" y="2507"/>
                  </a:lnTo>
                  <a:lnTo>
                    <a:pt x="2399" y="2507"/>
                  </a:lnTo>
                  <a:lnTo>
                    <a:pt x="2403" y="2507"/>
                  </a:lnTo>
                  <a:lnTo>
                    <a:pt x="2408" y="2507"/>
                  </a:lnTo>
                  <a:lnTo>
                    <a:pt x="2412" y="2507"/>
                  </a:lnTo>
                  <a:lnTo>
                    <a:pt x="2416" y="2507"/>
                  </a:lnTo>
                  <a:lnTo>
                    <a:pt x="2420" y="2507"/>
                  </a:lnTo>
                  <a:lnTo>
                    <a:pt x="2424" y="2507"/>
                  </a:lnTo>
                  <a:lnTo>
                    <a:pt x="2428" y="2507"/>
                  </a:lnTo>
                  <a:lnTo>
                    <a:pt x="2432" y="2507"/>
                  </a:lnTo>
                  <a:lnTo>
                    <a:pt x="2436" y="2507"/>
                  </a:lnTo>
                  <a:lnTo>
                    <a:pt x="2440" y="2507"/>
                  </a:lnTo>
                  <a:lnTo>
                    <a:pt x="2445" y="2507"/>
                  </a:lnTo>
                  <a:lnTo>
                    <a:pt x="2449" y="2507"/>
                  </a:lnTo>
                  <a:lnTo>
                    <a:pt x="2453" y="2507"/>
                  </a:lnTo>
                  <a:lnTo>
                    <a:pt x="2457" y="2507"/>
                  </a:lnTo>
                  <a:lnTo>
                    <a:pt x="2461" y="2507"/>
                  </a:lnTo>
                  <a:lnTo>
                    <a:pt x="2465" y="2507"/>
                  </a:lnTo>
                  <a:lnTo>
                    <a:pt x="2469" y="2507"/>
                  </a:lnTo>
                  <a:lnTo>
                    <a:pt x="2473" y="2507"/>
                  </a:lnTo>
                  <a:lnTo>
                    <a:pt x="2477" y="2507"/>
                  </a:lnTo>
                  <a:lnTo>
                    <a:pt x="2481" y="2507"/>
                  </a:lnTo>
                  <a:lnTo>
                    <a:pt x="2486" y="2507"/>
                  </a:lnTo>
                  <a:lnTo>
                    <a:pt x="2490" y="2507"/>
                  </a:lnTo>
                  <a:lnTo>
                    <a:pt x="2494" y="2507"/>
                  </a:lnTo>
                  <a:lnTo>
                    <a:pt x="2498" y="2507"/>
                  </a:lnTo>
                  <a:lnTo>
                    <a:pt x="2502" y="2507"/>
                  </a:lnTo>
                  <a:lnTo>
                    <a:pt x="2506" y="2507"/>
                  </a:lnTo>
                  <a:lnTo>
                    <a:pt x="2510" y="2507"/>
                  </a:lnTo>
                  <a:lnTo>
                    <a:pt x="2514" y="2507"/>
                  </a:lnTo>
                  <a:lnTo>
                    <a:pt x="2518" y="2507"/>
                  </a:lnTo>
                  <a:lnTo>
                    <a:pt x="2523" y="2507"/>
                  </a:lnTo>
                  <a:lnTo>
                    <a:pt x="2523" y="2507"/>
                  </a:lnTo>
                  <a:lnTo>
                    <a:pt x="2527" y="2507"/>
                  </a:lnTo>
                  <a:lnTo>
                    <a:pt x="2531" y="2507"/>
                  </a:lnTo>
                  <a:lnTo>
                    <a:pt x="2535" y="2507"/>
                  </a:lnTo>
                  <a:lnTo>
                    <a:pt x="2539" y="2507"/>
                  </a:lnTo>
                  <a:lnTo>
                    <a:pt x="2543" y="2507"/>
                  </a:lnTo>
                  <a:lnTo>
                    <a:pt x="2547" y="2507"/>
                  </a:lnTo>
                  <a:lnTo>
                    <a:pt x="2551" y="2507"/>
                  </a:lnTo>
                  <a:lnTo>
                    <a:pt x="2555" y="2507"/>
                  </a:lnTo>
                  <a:lnTo>
                    <a:pt x="2560" y="2507"/>
                  </a:lnTo>
                  <a:lnTo>
                    <a:pt x="2564" y="2507"/>
                  </a:lnTo>
                  <a:lnTo>
                    <a:pt x="2568" y="2507"/>
                  </a:lnTo>
                  <a:lnTo>
                    <a:pt x="2572" y="2507"/>
                  </a:lnTo>
                  <a:lnTo>
                    <a:pt x="2576" y="2507"/>
                  </a:lnTo>
                  <a:lnTo>
                    <a:pt x="2580" y="2507"/>
                  </a:lnTo>
                  <a:lnTo>
                    <a:pt x="2584" y="2507"/>
                  </a:lnTo>
                  <a:lnTo>
                    <a:pt x="2588" y="2507"/>
                  </a:lnTo>
                  <a:lnTo>
                    <a:pt x="2592" y="2507"/>
                  </a:lnTo>
                  <a:lnTo>
                    <a:pt x="2597" y="2507"/>
                  </a:lnTo>
                  <a:lnTo>
                    <a:pt x="2601" y="2507"/>
                  </a:lnTo>
                  <a:lnTo>
                    <a:pt x="2605" y="2507"/>
                  </a:lnTo>
                  <a:lnTo>
                    <a:pt x="2609" y="2507"/>
                  </a:lnTo>
                  <a:lnTo>
                    <a:pt x="2613" y="2507"/>
                  </a:lnTo>
                  <a:lnTo>
                    <a:pt x="2617" y="2507"/>
                  </a:lnTo>
                  <a:lnTo>
                    <a:pt x="2621" y="2507"/>
                  </a:lnTo>
                  <a:lnTo>
                    <a:pt x="2625" y="2507"/>
                  </a:lnTo>
                  <a:lnTo>
                    <a:pt x="2629" y="2507"/>
                  </a:lnTo>
                  <a:lnTo>
                    <a:pt x="2634" y="2507"/>
                  </a:lnTo>
                  <a:lnTo>
                    <a:pt x="2638" y="2507"/>
                  </a:lnTo>
                  <a:lnTo>
                    <a:pt x="2642" y="2507"/>
                  </a:lnTo>
                  <a:lnTo>
                    <a:pt x="2646" y="2507"/>
                  </a:lnTo>
                  <a:lnTo>
                    <a:pt x="2650" y="2507"/>
                  </a:lnTo>
                  <a:lnTo>
                    <a:pt x="2654" y="2507"/>
                  </a:lnTo>
                  <a:lnTo>
                    <a:pt x="2658" y="2507"/>
                  </a:lnTo>
                  <a:lnTo>
                    <a:pt x="2662" y="2507"/>
                  </a:lnTo>
                  <a:lnTo>
                    <a:pt x="2666" y="2507"/>
                  </a:lnTo>
                  <a:lnTo>
                    <a:pt x="2671" y="2507"/>
                  </a:lnTo>
                  <a:lnTo>
                    <a:pt x="2675" y="2507"/>
                  </a:lnTo>
                  <a:lnTo>
                    <a:pt x="2679" y="2507"/>
                  </a:lnTo>
                  <a:lnTo>
                    <a:pt x="2683" y="2507"/>
                  </a:lnTo>
                  <a:lnTo>
                    <a:pt x="2687" y="2507"/>
                  </a:lnTo>
                  <a:lnTo>
                    <a:pt x="2691" y="2507"/>
                  </a:lnTo>
                  <a:lnTo>
                    <a:pt x="2695" y="2507"/>
                  </a:lnTo>
                  <a:lnTo>
                    <a:pt x="2699" y="2507"/>
                  </a:lnTo>
                  <a:lnTo>
                    <a:pt x="2703" y="2507"/>
                  </a:lnTo>
                  <a:lnTo>
                    <a:pt x="2707" y="2507"/>
                  </a:lnTo>
                  <a:lnTo>
                    <a:pt x="2712" y="2507"/>
                  </a:lnTo>
                  <a:lnTo>
                    <a:pt x="2716" y="2507"/>
                  </a:lnTo>
                  <a:lnTo>
                    <a:pt x="2720" y="2507"/>
                  </a:lnTo>
                  <a:lnTo>
                    <a:pt x="2724" y="2507"/>
                  </a:lnTo>
                  <a:lnTo>
                    <a:pt x="2728" y="2507"/>
                  </a:lnTo>
                  <a:lnTo>
                    <a:pt x="2732" y="2507"/>
                  </a:lnTo>
                  <a:lnTo>
                    <a:pt x="2736" y="2507"/>
                  </a:lnTo>
                  <a:lnTo>
                    <a:pt x="2740" y="2507"/>
                  </a:lnTo>
                  <a:lnTo>
                    <a:pt x="2744" y="250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32440" y="5324400"/>
              <a:ext cx="399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80000" y="5324400"/>
              <a:ext cx="399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18120" y="5324400"/>
              <a:ext cx="381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38680" y="5324400"/>
              <a:ext cx="399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992840" y="4886280"/>
              <a:ext cx="3960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732200" y="1514520"/>
              <a:ext cx="39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549680" y="1344600"/>
              <a:ext cx="39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92720" y="1941480"/>
              <a:ext cx="3960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275000" y="2635200"/>
              <a:ext cx="399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65560" y="3114720"/>
              <a:ext cx="3816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60800" y="3521160"/>
              <a:ext cx="381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49560" y="3851280"/>
              <a:ext cx="3996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63880" y="4043520"/>
              <a:ext cx="39960" cy="64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73520" y="4235400"/>
              <a:ext cx="3960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81360" y="4417920"/>
              <a:ext cx="3960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03600" y="4513320"/>
              <a:ext cx="3960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25840" y="4619520"/>
              <a:ext cx="3816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448080" y="4716360"/>
              <a:ext cx="381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375000" y="4780080"/>
              <a:ext cx="39600" cy="64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03720" y="4854600"/>
              <a:ext cx="3960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238560" y="4886280"/>
              <a:ext cx="3960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66920" y="4940280"/>
              <a:ext cx="381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02120" y="4971960"/>
              <a:ext cx="3780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36960" y="5003640"/>
              <a:ext cx="3816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71800" y="5037120"/>
              <a:ext cx="381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905200" y="5068800"/>
              <a:ext cx="3960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833560" y="5100480"/>
              <a:ext cx="399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68760" y="5153040"/>
              <a:ext cx="3960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97120" y="5175360"/>
              <a:ext cx="3960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625840" y="5218200"/>
              <a:ext cx="381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554200" y="5261040"/>
              <a:ext cx="381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475000" y="5303880"/>
              <a:ext cx="3960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14600" y="3147840"/>
              <a:ext cx="4879800" cy="2219400"/>
            </a:xfrm>
            <a:custGeom>
              <a:avLst/>
              <a:gdLst/>
              <a:ahLst/>
              <a:rect l="l" t="t" r="r" b="b"/>
              <a:pathLst>
                <a:path w="3074" h="1398">
                  <a:moveTo>
                    <a:pt x="0" y="1311"/>
                  </a:moveTo>
                  <a:lnTo>
                    <a:pt x="4" y="1311"/>
                  </a:lnTo>
                  <a:lnTo>
                    <a:pt x="8" y="1311"/>
                  </a:lnTo>
                  <a:lnTo>
                    <a:pt x="12" y="1304"/>
                  </a:lnTo>
                  <a:lnTo>
                    <a:pt x="16" y="1304"/>
                  </a:lnTo>
                  <a:lnTo>
                    <a:pt x="20" y="1304"/>
                  </a:lnTo>
                  <a:lnTo>
                    <a:pt x="25" y="1297"/>
                  </a:lnTo>
                  <a:lnTo>
                    <a:pt x="29" y="1297"/>
                  </a:lnTo>
                  <a:lnTo>
                    <a:pt x="33" y="1290"/>
                  </a:lnTo>
                  <a:lnTo>
                    <a:pt x="37" y="1290"/>
                  </a:lnTo>
                  <a:lnTo>
                    <a:pt x="41" y="1290"/>
                  </a:lnTo>
                  <a:lnTo>
                    <a:pt x="45" y="1284"/>
                  </a:lnTo>
                  <a:lnTo>
                    <a:pt x="49" y="1284"/>
                  </a:lnTo>
                  <a:lnTo>
                    <a:pt x="53" y="1284"/>
                  </a:lnTo>
                  <a:lnTo>
                    <a:pt x="57" y="1277"/>
                  </a:lnTo>
                  <a:lnTo>
                    <a:pt x="62" y="1277"/>
                  </a:lnTo>
                  <a:lnTo>
                    <a:pt x="66" y="1270"/>
                  </a:lnTo>
                  <a:lnTo>
                    <a:pt x="70" y="1270"/>
                  </a:lnTo>
                  <a:lnTo>
                    <a:pt x="74" y="1270"/>
                  </a:lnTo>
                  <a:lnTo>
                    <a:pt x="78" y="1263"/>
                  </a:lnTo>
                  <a:lnTo>
                    <a:pt x="82" y="1263"/>
                  </a:lnTo>
                  <a:lnTo>
                    <a:pt x="86" y="1257"/>
                  </a:lnTo>
                  <a:lnTo>
                    <a:pt x="90" y="1257"/>
                  </a:lnTo>
                  <a:lnTo>
                    <a:pt x="94" y="1257"/>
                  </a:lnTo>
                  <a:lnTo>
                    <a:pt x="99" y="1250"/>
                  </a:lnTo>
                  <a:lnTo>
                    <a:pt x="103" y="1250"/>
                  </a:lnTo>
                  <a:lnTo>
                    <a:pt x="107" y="1243"/>
                  </a:lnTo>
                  <a:lnTo>
                    <a:pt x="107" y="1243"/>
                  </a:lnTo>
                  <a:lnTo>
                    <a:pt x="111" y="1243"/>
                  </a:lnTo>
                  <a:lnTo>
                    <a:pt x="115" y="1237"/>
                  </a:lnTo>
                  <a:lnTo>
                    <a:pt x="119" y="1237"/>
                  </a:lnTo>
                  <a:lnTo>
                    <a:pt x="123" y="1230"/>
                  </a:lnTo>
                  <a:lnTo>
                    <a:pt x="127" y="1230"/>
                  </a:lnTo>
                  <a:lnTo>
                    <a:pt x="131" y="1223"/>
                  </a:lnTo>
                  <a:lnTo>
                    <a:pt x="136" y="1223"/>
                  </a:lnTo>
                  <a:lnTo>
                    <a:pt x="140" y="1216"/>
                  </a:lnTo>
                  <a:lnTo>
                    <a:pt x="144" y="1216"/>
                  </a:lnTo>
                  <a:lnTo>
                    <a:pt x="148" y="1210"/>
                  </a:lnTo>
                  <a:lnTo>
                    <a:pt x="152" y="1210"/>
                  </a:lnTo>
                  <a:lnTo>
                    <a:pt x="156" y="1203"/>
                  </a:lnTo>
                  <a:lnTo>
                    <a:pt x="160" y="1203"/>
                  </a:lnTo>
                  <a:lnTo>
                    <a:pt x="164" y="1196"/>
                  </a:lnTo>
                  <a:lnTo>
                    <a:pt x="168" y="1196"/>
                  </a:lnTo>
                  <a:lnTo>
                    <a:pt x="172" y="1196"/>
                  </a:lnTo>
                  <a:lnTo>
                    <a:pt x="177" y="1190"/>
                  </a:lnTo>
                  <a:lnTo>
                    <a:pt x="181" y="1190"/>
                  </a:lnTo>
                  <a:lnTo>
                    <a:pt x="185" y="1183"/>
                  </a:lnTo>
                  <a:lnTo>
                    <a:pt x="189" y="1183"/>
                  </a:lnTo>
                  <a:lnTo>
                    <a:pt x="193" y="1176"/>
                  </a:lnTo>
                  <a:lnTo>
                    <a:pt x="193" y="1176"/>
                  </a:lnTo>
                  <a:lnTo>
                    <a:pt x="197" y="1176"/>
                  </a:lnTo>
                  <a:lnTo>
                    <a:pt x="201" y="1169"/>
                  </a:lnTo>
                  <a:lnTo>
                    <a:pt x="205" y="1169"/>
                  </a:lnTo>
                  <a:lnTo>
                    <a:pt x="209" y="1163"/>
                  </a:lnTo>
                  <a:lnTo>
                    <a:pt x="214" y="1163"/>
                  </a:lnTo>
                  <a:lnTo>
                    <a:pt x="218" y="1156"/>
                  </a:lnTo>
                  <a:lnTo>
                    <a:pt x="222" y="1156"/>
                  </a:lnTo>
                  <a:lnTo>
                    <a:pt x="226" y="1149"/>
                  </a:lnTo>
                  <a:lnTo>
                    <a:pt x="230" y="1149"/>
                  </a:lnTo>
                  <a:lnTo>
                    <a:pt x="234" y="1142"/>
                  </a:lnTo>
                  <a:lnTo>
                    <a:pt x="238" y="1142"/>
                  </a:lnTo>
                  <a:lnTo>
                    <a:pt x="242" y="1136"/>
                  </a:lnTo>
                  <a:lnTo>
                    <a:pt x="246" y="1136"/>
                  </a:lnTo>
                  <a:lnTo>
                    <a:pt x="251" y="1129"/>
                  </a:lnTo>
                  <a:lnTo>
                    <a:pt x="255" y="1129"/>
                  </a:lnTo>
                  <a:lnTo>
                    <a:pt x="259" y="1122"/>
                  </a:lnTo>
                  <a:lnTo>
                    <a:pt x="263" y="1122"/>
                  </a:lnTo>
                  <a:lnTo>
                    <a:pt x="267" y="1116"/>
                  </a:lnTo>
                  <a:lnTo>
                    <a:pt x="271" y="1116"/>
                  </a:lnTo>
                  <a:lnTo>
                    <a:pt x="275" y="1109"/>
                  </a:lnTo>
                  <a:lnTo>
                    <a:pt x="275" y="1109"/>
                  </a:lnTo>
                  <a:lnTo>
                    <a:pt x="279" y="1109"/>
                  </a:lnTo>
                  <a:lnTo>
                    <a:pt x="283" y="1102"/>
                  </a:lnTo>
                  <a:lnTo>
                    <a:pt x="288" y="1102"/>
                  </a:lnTo>
                  <a:lnTo>
                    <a:pt x="292" y="1095"/>
                  </a:lnTo>
                  <a:lnTo>
                    <a:pt x="296" y="1095"/>
                  </a:lnTo>
                  <a:lnTo>
                    <a:pt x="300" y="1089"/>
                  </a:lnTo>
                  <a:lnTo>
                    <a:pt x="304" y="1089"/>
                  </a:lnTo>
                  <a:lnTo>
                    <a:pt x="308" y="1082"/>
                  </a:lnTo>
                  <a:lnTo>
                    <a:pt x="312" y="1082"/>
                  </a:lnTo>
                  <a:lnTo>
                    <a:pt x="316" y="1075"/>
                  </a:lnTo>
                  <a:lnTo>
                    <a:pt x="320" y="1069"/>
                  </a:lnTo>
                  <a:lnTo>
                    <a:pt x="325" y="1069"/>
                  </a:lnTo>
                  <a:lnTo>
                    <a:pt x="329" y="1062"/>
                  </a:lnTo>
                  <a:lnTo>
                    <a:pt x="333" y="1062"/>
                  </a:lnTo>
                  <a:lnTo>
                    <a:pt x="337" y="1055"/>
                  </a:lnTo>
                  <a:lnTo>
                    <a:pt x="341" y="1048"/>
                  </a:lnTo>
                  <a:lnTo>
                    <a:pt x="345" y="1048"/>
                  </a:lnTo>
                  <a:lnTo>
                    <a:pt x="349" y="1042"/>
                  </a:lnTo>
                  <a:lnTo>
                    <a:pt x="353" y="1042"/>
                  </a:lnTo>
                  <a:lnTo>
                    <a:pt x="357" y="1035"/>
                  </a:lnTo>
                  <a:lnTo>
                    <a:pt x="357" y="1035"/>
                  </a:lnTo>
                  <a:lnTo>
                    <a:pt x="362" y="1028"/>
                  </a:lnTo>
                  <a:lnTo>
                    <a:pt x="366" y="1028"/>
                  </a:lnTo>
                  <a:lnTo>
                    <a:pt x="370" y="1021"/>
                  </a:lnTo>
                  <a:lnTo>
                    <a:pt x="374" y="1015"/>
                  </a:lnTo>
                  <a:lnTo>
                    <a:pt x="378" y="1015"/>
                  </a:lnTo>
                  <a:lnTo>
                    <a:pt x="382" y="1008"/>
                  </a:lnTo>
                  <a:lnTo>
                    <a:pt x="386" y="1001"/>
                  </a:lnTo>
                  <a:lnTo>
                    <a:pt x="390" y="1001"/>
                  </a:lnTo>
                  <a:lnTo>
                    <a:pt x="394" y="995"/>
                  </a:lnTo>
                  <a:lnTo>
                    <a:pt x="398" y="988"/>
                  </a:lnTo>
                  <a:lnTo>
                    <a:pt x="403" y="981"/>
                  </a:lnTo>
                  <a:lnTo>
                    <a:pt x="407" y="981"/>
                  </a:lnTo>
                  <a:lnTo>
                    <a:pt x="411" y="974"/>
                  </a:lnTo>
                  <a:lnTo>
                    <a:pt x="415" y="968"/>
                  </a:lnTo>
                  <a:lnTo>
                    <a:pt x="419" y="961"/>
                  </a:lnTo>
                  <a:lnTo>
                    <a:pt x="423" y="961"/>
                  </a:lnTo>
                  <a:lnTo>
                    <a:pt x="427" y="954"/>
                  </a:lnTo>
                  <a:lnTo>
                    <a:pt x="431" y="948"/>
                  </a:lnTo>
                  <a:lnTo>
                    <a:pt x="435" y="941"/>
                  </a:lnTo>
                  <a:lnTo>
                    <a:pt x="435" y="941"/>
                  </a:lnTo>
                  <a:lnTo>
                    <a:pt x="440" y="934"/>
                  </a:lnTo>
                  <a:lnTo>
                    <a:pt x="444" y="927"/>
                  </a:lnTo>
                  <a:lnTo>
                    <a:pt x="448" y="921"/>
                  </a:lnTo>
                  <a:lnTo>
                    <a:pt x="452" y="921"/>
                  </a:lnTo>
                  <a:lnTo>
                    <a:pt x="456" y="914"/>
                  </a:lnTo>
                  <a:lnTo>
                    <a:pt x="460" y="907"/>
                  </a:lnTo>
                  <a:lnTo>
                    <a:pt x="464" y="900"/>
                  </a:lnTo>
                  <a:lnTo>
                    <a:pt x="468" y="894"/>
                  </a:lnTo>
                  <a:lnTo>
                    <a:pt x="472" y="887"/>
                  </a:lnTo>
                  <a:lnTo>
                    <a:pt x="477" y="880"/>
                  </a:lnTo>
                  <a:lnTo>
                    <a:pt x="481" y="874"/>
                  </a:lnTo>
                  <a:lnTo>
                    <a:pt x="485" y="867"/>
                  </a:lnTo>
                  <a:lnTo>
                    <a:pt x="489" y="860"/>
                  </a:lnTo>
                  <a:lnTo>
                    <a:pt x="493" y="853"/>
                  </a:lnTo>
                  <a:lnTo>
                    <a:pt x="497" y="847"/>
                  </a:lnTo>
                  <a:lnTo>
                    <a:pt x="501" y="840"/>
                  </a:lnTo>
                  <a:lnTo>
                    <a:pt x="505" y="833"/>
                  </a:lnTo>
                  <a:lnTo>
                    <a:pt x="509" y="827"/>
                  </a:lnTo>
                  <a:lnTo>
                    <a:pt x="514" y="820"/>
                  </a:lnTo>
                  <a:lnTo>
                    <a:pt x="518" y="813"/>
                  </a:lnTo>
                  <a:lnTo>
                    <a:pt x="518" y="813"/>
                  </a:lnTo>
                  <a:lnTo>
                    <a:pt x="522" y="800"/>
                  </a:lnTo>
                  <a:lnTo>
                    <a:pt x="526" y="793"/>
                  </a:lnTo>
                  <a:lnTo>
                    <a:pt x="530" y="786"/>
                  </a:lnTo>
                  <a:lnTo>
                    <a:pt x="534" y="779"/>
                  </a:lnTo>
                  <a:lnTo>
                    <a:pt x="538" y="773"/>
                  </a:lnTo>
                  <a:lnTo>
                    <a:pt x="542" y="766"/>
                  </a:lnTo>
                  <a:lnTo>
                    <a:pt x="546" y="759"/>
                  </a:lnTo>
                  <a:lnTo>
                    <a:pt x="551" y="753"/>
                  </a:lnTo>
                  <a:lnTo>
                    <a:pt x="555" y="739"/>
                  </a:lnTo>
                  <a:lnTo>
                    <a:pt x="559" y="732"/>
                  </a:lnTo>
                  <a:lnTo>
                    <a:pt x="563" y="726"/>
                  </a:lnTo>
                  <a:lnTo>
                    <a:pt x="567" y="719"/>
                  </a:lnTo>
                  <a:lnTo>
                    <a:pt x="571" y="712"/>
                  </a:lnTo>
                  <a:lnTo>
                    <a:pt x="575" y="699"/>
                  </a:lnTo>
                  <a:lnTo>
                    <a:pt x="579" y="692"/>
                  </a:lnTo>
                  <a:lnTo>
                    <a:pt x="583" y="685"/>
                  </a:lnTo>
                  <a:lnTo>
                    <a:pt x="588" y="679"/>
                  </a:lnTo>
                  <a:lnTo>
                    <a:pt x="592" y="672"/>
                  </a:lnTo>
                  <a:lnTo>
                    <a:pt x="596" y="658"/>
                  </a:lnTo>
                  <a:lnTo>
                    <a:pt x="600" y="652"/>
                  </a:lnTo>
                  <a:lnTo>
                    <a:pt x="604" y="645"/>
                  </a:lnTo>
                  <a:lnTo>
                    <a:pt x="604" y="645"/>
                  </a:lnTo>
                  <a:lnTo>
                    <a:pt x="608" y="638"/>
                  </a:lnTo>
                  <a:lnTo>
                    <a:pt x="612" y="632"/>
                  </a:lnTo>
                  <a:lnTo>
                    <a:pt x="616" y="618"/>
                  </a:lnTo>
                  <a:lnTo>
                    <a:pt x="620" y="611"/>
                  </a:lnTo>
                  <a:lnTo>
                    <a:pt x="624" y="605"/>
                  </a:lnTo>
                  <a:lnTo>
                    <a:pt x="629" y="598"/>
                  </a:lnTo>
                  <a:lnTo>
                    <a:pt x="633" y="585"/>
                  </a:lnTo>
                  <a:lnTo>
                    <a:pt x="637" y="578"/>
                  </a:lnTo>
                  <a:lnTo>
                    <a:pt x="641" y="571"/>
                  </a:lnTo>
                  <a:lnTo>
                    <a:pt x="645" y="564"/>
                  </a:lnTo>
                  <a:lnTo>
                    <a:pt x="649" y="551"/>
                  </a:lnTo>
                  <a:lnTo>
                    <a:pt x="653" y="544"/>
                  </a:lnTo>
                  <a:lnTo>
                    <a:pt x="657" y="537"/>
                  </a:lnTo>
                  <a:lnTo>
                    <a:pt x="661" y="524"/>
                  </a:lnTo>
                  <a:lnTo>
                    <a:pt x="666" y="517"/>
                  </a:lnTo>
                  <a:lnTo>
                    <a:pt x="670" y="511"/>
                  </a:lnTo>
                  <a:lnTo>
                    <a:pt x="674" y="504"/>
                  </a:lnTo>
                  <a:lnTo>
                    <a:pt x="678" y="490"/>
                  </a:lnTo>
                  <a:lnTo>
                    <a:pt x="682" y="484"/>
                  </a:lnTo>
                  <a:lnTo>
                    <a:pt x="686" y="477"/>
                  </a:lnTo>
                  <a:lnTo>
                    <a:pt x="690" y="464"/>
                  </a:lnTo>
                  <a:lnTo>
                    <a:pt x="694" y="457"/>
                  </a:lnTo>
                  <a:lnTo>
                    <a:pt x="698" y="450"/>
                  </a:lnTo>
                  <a:lnTo>
                    <a:pt x="698" y="450"/>
                  </a:lnTo>
                  <a:lnTo>
                    <a:pt x="703" y="437"/>
                  </a:lnTo>
                  <a:lnTo>
                    <a:pt x="707" y="430"/>
                  </a:lnTo>
                  <a:lnTo>
                    <a:pt x="711" y="416"/>
                  </a:lnTo>
                  <a:lnTo>
                    <a:pt x="715" y="410"/>
                  </a:lnTo>
                  <a:lnTo>
                    <a:pt x="719" y="396"/>
                  </a:lnTo>
                  <a:lnTo>
                    <a:pt x="723" y="383"/>
                  </a:lnTo>
                  <a:lnTo>
                    <a:pt x="727" y="376"/>
                  </a:lnTo>
                  <a:lnTo>
                    <a:pt x="731" y="363"/>
                  </a:lnTo>
                  <a:lnTo>
                    <a:pt x="735" y="349"/>
                  </a:lnTo>
                  <a:lnTo>
                    <a:pt x="740" y="343"/>
                  </a:lnTo>
                  <a:lnTo>
                    <a:pt x="744" y="329"/>
                  </a:lnTo>
                  <a:lnTo>
                    <a:pt x="748" y="316"/>
                  </a:lnTo>
                  <a:lnTo>
                    <a:pt x="752" y="309"/>
                  </a:lnTo>
                  <a:lnTo>
                    <a:pt x="756" y="295"/>
                  </a:lnTo>
                  <a:lnTo>
                    <a:pt x="760" y="282"/>
                  </a:lnTo>
                  <a:lnTo>
                    <a:pt x="764" y="269"/>
                  </a:lnTo>
                  <a:lnTo>
                    <a:pt x="768" y="262"/>
                  </a:lnTo>
                  <a:lnTo>
                    <a:pt x="772" y="248"/>
                  </a:lnTo>
                  <a:lnTo>
                    <a:pt x="777" y="235"/>
                  </a:lnTo>
                  <a:lnTo>
                    <a:pt x="781" y="228"/>
                  </a:lnTo>
                  <a:lnTo>
                    <a:pt x="785" y="215"/>
                  </a:lnTo>
                  <a:lnTo>
                    <a:pt x="789" y="201"/>
                  </a:lnTo>
                  <a:lnTo>
                    <a:pt x="793" y="195"/>
                  </a:lnTo>
                  <a:lnTo>
                    <a:pt x="797" y="181"/>
                  </a:lnTo>
                  <a:lnTo>
                    <a:pt x="801" y="168"/>
                  </a:lnTo>
                  <a:lnTo>
                    <a:pt x="801" y="168"/>
                  </a:lnTo>
                  <a:lnTo>
                    <a:pt x="805" y="161"/>
                  </a:lnTo>
                  <a:lnTo>
                    <a:pt x="809" y="154"/>
                  </a:lnTo>
                  <a:lnTo>
                    <a:pt x="814" y="141"/>
                  </a:lnTo>
                  <a:lnTo>
                    <a:pt x="818" y="134"/>
                  </a:lnTo>
                  <a:lnTo>
                    <a:pt x="822" y="127"/>
                  </a:lnTo>
                  <a:lnTo>
                    <a:pt x="826" y="114"/>
                  </a:lnTo>
                  <a:lnTo>
                    <a:pt x="830" y="107"/>
                  </a:lnTo>
                  <a:lnTo>
                    <a:pt x="834" y="100"/>
                  </a:lnTo>
                  <a:lnTo>
                    <a:pt x="838" y="94"/>
                  </a:lnTo>
                  <a:lnTo>
                    <a:pt x="842" y="87"/>
                  </a:lnTo>
                  <a:lnTo>
                    <a:pt x="846" y="80"/>
                  </a:lnTo>
                  <a:lnTo>
                    <a:pt x="850" y="74"/>
                  </a:lnTo>
                  <a:lnTo>
                    <a:pt x="855" y="67"/>
                  </a:lnTo>
                  <a:lnTo>
                    <a:pt x="859" y="60"/>
                  </a:lnTo>
                  <a:lnTo>
                    <a:pt x="863" y="53"/>
                  </a:lnTo>
                  <a:lnTo>
                    <a:pt x="867" y="53"/>
                  </a:lnTo>
                  <a:lnTo>
                    <a:pt x="871" y="47"/>
                  </a:lnTo>
                  <a:lnTo>
                    <a:pt x="875" y="40"/>
                  </a:lnTo>
                  <a:lnTo>
                    <a:pt x="879" y="33"/>
                  </a:lnTo>
                  <a:lnTo>
                    <a:pt x="883" y="33"/>
                  </a:lnTo>
                  <a:lnTo>
                    <a:pt x="887" y="27"/>
                  </a:lnTo>
                  <a:lnTo>
                    <a:pt x="892" y="27"/>
                  </a:lnTo>
                  <a:lnTo>
                    <a:pt x="896" y="20"/>
                  </a:lnTo>
                  <a:lnTo>
                    <a:pt x="900" y="13"/>
                  </a:lnTo>
                  <a:lnTo>
                    <a:pt x="904" y="13"/>
                  </a:lnTo>
                  <a:lnTo>
                    <a:pt x="908" y="13"/>
                  </a:lnTo>
                  <a:lnTo>
                    <a:pt x="912" y="6"/>
                  </a:lnTo>
                  <a:lnTo>
                    <a:pt x="916" y="6"/>
                  </a:lnTo>
                  <a:lnTo>
                    <a:pt x="920" y="6"/>
                  </a:lnTo>
                  <a:lnTo>
                    <a:pt x="924" y="0"/>
                  </a:lnTo>
                  <a:lnTo>
                    <a:pt x="929" y="0"/>
                  </a:lnTo>
                  <a:lnTo>
                    <a:pt x="929" y="0"/>
                  </a:lnTo>
                  <a:lnTo>
                    <a:pt x="933" y="0"/>
                  </a:lnTo>
                  <a:lnTo>
                    <a:pt x="937" y="0"/>
                  </a:lnTo>
                  <a:lnTo>
                    <a:pt x="941" y="0"/>
                  </a:lnTo>
                  <a:lnTo>
                    <a:pt x="945" y="0"/>
                  </a:lnTo>
                  <a:lnTo>
                    <a:pt x="949" y="0"/>
                  </a:lnTo>
                  <a:lnTo>
                    <a:pt x="953" y="6"/>
                  </a:lnTo>
                  <a:lnTo>
                    <a:pt x="957" y="13"/>
                  </a:lnTo>
                  <a:lnTo>
                    <a:pt x="961" y="13"/>
                  </a:lnTo>
                  <a:lnTo>
                    <a:pt x="966" y="20"/>
                  </a:lnTo>
                  <a:lnTo>
                    <a:pt x="970" y="27"/>
                  </a:lnTo>
                  <a:lnTo>
                    <a:pt x="974" y="40"/>
                  </a:lnTo>
                  <a:lnTo>
                    <a:pt x="978" y="47"/>
                  </a:lnTo>
                  <a:lnTo>
                    <a:pt x="982" y="53"/>
                  </a:lnTo>
                  <a:lnTo>
                    <a:pt x="986" y="67"/>
                  </a:lnTo>
                  <a:lnTo>
                    <a:pt x="990" y="74"/>
                  </a:lnTo>
                  <a:lnTo>
                    <a:pt x="994" y="87"/>
                  </a:lnTo>
                  <a:lnTo>
                    <a:pt x="998" y="100"/>
                  </a:lnTo>
                  <a:lnTo>
                    <a:pt x="1003" y="114"/>
                  </a:lnTo>
                  <a:lnTo>
                    <a:pt x="1007" y="127"/>
                  </a:lnTo>
                  <a:lnTo>
                    <a:pt x="1011" y="141"/>
                  </a:lnTo>
                  <a:lnTo>
                    <a:pt x="1015" y="161"/>
                  </a:lnTo>
                  <a:lnTo>
                    <a:pt x="1019" y="174"/>
                  </a:lnTo>
                  <a:lnTo>
                    <a:pt x="1023" y="188"/>
                  </a:lnTo>
                  <a:lnTo>
                    <a:pt x="1027" y="208"/>
                  </a:lnTo>
                  <a:lnTo>
                    <a:pt x="1031" y="228"/>
                  </a:lnTo>
                  <a:lnTo>
                    <a:pt x="1035" y="242"/>
                  </a:lnTo>
                  <a:lnTo>
                    <a:pt x="1040" y="262"/>
                  </a:lnTo>
                  <a:lnTo>
                    <a:pt x="1040" y="262"/>
                  </a:lnTo>
                  <a:lnTo>
                    <a:pt x="1044" y="282"/>
                  </a:lnTo>
                  <a:lnTo>
                    <a:pt x="1048" y="302"/>
                  </a:lnTo>
                  <a:lnTo>
                    <a:pt x="1052" y="322"/>
                  </a:lnTo>
                  <a:lnTo>
                    <a:pt x="1056" y="343"/>
                  </a:lnTo>
                  <a:lnTo>
                    <a:pt x="1060" y="369"/>
                  </a:lnTo>
                  <a:lnTo>
                    <a:pt x="1064" y="390"/>
                  </a:lnTo>
                  <a:lnTo>
                    <a:pt x="1068" y="416"/>
                  </a:lnTo>
                  <a:lnTo>
                    <a:pt x="1072" y="443"/>
                  </a:lnTo>
                  <a:lnTo>
                    <a:pt x="1076" y="470"/>
                  </a:lnTo>
                  <a:lnTo>
                    <a:pt x="1081" y="497"/>
                  </a:lnTo>
                  <a:lnTo>
                    <a:pt x="1085" y="517"/>
                  </a:lnTo>
                  <a:lnTo>
                    <a:pt x="1089" y="544"/>
                  </a:lnTo>
                  <a:lnTo>
                    <a:pt x="1093" y="571"/>
                  </a:lnTo>
                  <a:lnTo>
                    <a:pt x="1097" y="598"/>
                  </a:lnTo>
                  <a:lnTo>
                    <a:pt x="1101" y="625"/>
                  </a:lnTo>
                  <a:lnTo>
                    <a:pt x="1105" y="652"/>
                  </a:lnTo>
                  <a:lnTo>
                    <a:pt x="1109" y="679"/>
                  </a:lnTo>
                  <a:lnTo>
                    <a:pt x="1113" y="706"/>
                  </a:lnTo>
                  <a:lnTo>
                    <a:pt x="1118" y="726"/>
                  </a:lnTo>
                  <a:lnTo>
                    <a:pt x="1122" y="753"/>
                  </a:lnTo>
                  <a:lnTo>
                    <a:pt x="1126" y="773"/>
                  </a:lnTo>
                  <a:lnTo>
                    <a:pt x="1130" y="800"/>
                  </a:lnTo>
                  <a:lnTo>
                    <a:pt x="1134" y="820"/>
                  </a:lnTo>
                  <a:lnTo>
                    <a:pt x="1138" y="840"/>
                  </a:lnTo>
                  <a:lnTo>
                    <a:pt x="1142" y="860"/>
                  </a:lnTo>
                  <a:lnTo>
                    <a:pt x="1142" y="860"/>
                  </a:lnTo>
                  <a:lnTo>
                    <a:pt x="1146" y="880"/>
                  </a:lnTo>
                  <a:lnTo>
                    <a:pt x="1150" y="894"/>
                  </a:lnTo>
                  <a:lnTo>
                    <a:pt x="1155" y="914"/>
                  </a:lnTo>
                  <a:lnTo>
                    <a:pt x="1159" y="934"/>
                  </a:lnTo>
                  <a:lnTo>
                    <a:pt x="1163" y="954"/>
                  </a:lnTo>
                  <a:lnTo>
                    <a:pt x="1167" y="968"/>
                  </a:lnTo>
                  <a:lnTo>
                    <a:pt x="1171" y="988"/>
                  </a:lnTo>
                  <a:lnTo>
                    <a:pt x="1175" y="1008"/>
                  </a:lnTo>
                  <a:lnTo>
                    <a:pt x="1179" y="1021"/>
                  </a:lnTo>
                  <a:lnTo>
                    <a:pt x="1183" y="1042"/>
                  </a:lnTo>
                  <a:lnTo>
                    <a:pt x="1187" y="1055"/>
                  </a:lnTo>
                  <a:lnTo>
                    <a:pt x="1192" y="1075"/>
                  </a:lnTo>
                  <a:lnTo>
                    <a:pt x="1196" y="1089"/>
                  </a:lnTo>
                  <a:lnTo>
                    <a:pt x="1200" y="1102"/>
                  </a:lnTo>
                  <a:lnTo>
                    <a:pt x="1204" y="1122"/>
                  </a:lnTo>
                  <a:lnTo>
                    <a:pt x="1208" y="1136"/>
                  </a:lnTo>
                  <a:lnTo>
                    <a:pt x="1212" y="1149"/>
                  </a:lnTo>
                  <a:lnTo>
                    <a:pt x="1216" y="1163"/>
                  </a:lnTo>
                  <a:lnTo>
                    <a:pt x="1220" y="1176"/>
                  </a:lnTo>
                  <a:lnTo>
                    <a:pt x="1224" y="1190"/>
                  </a:lnTo>
                  <a:lnTo>
                    <a:pt x="1229" y="1196"/>
                  </a:lnTo>
                  <a:lnTo>
                    <a:pt x="1233" y="1210"/>
                  </a:lnTo>
                  <a:lnTo>
                    <a:pt x="1237" y="1216"/>
                  </a:lnTo>
                  <a:lnTo>
                    <a:pt x="1241" y="1230"/>
                  </a:lnTo>
                  <a:lnTo>
                    <a:pt x="1245" y="1237"/>
                  </a:lnTo>
                  <a:lnTo>
                    <a:pt x="1249" y="1243"/>
                  </a:lnTo>
                  <a:lnTo>
                    <a:pt x="1249" y="1243"/>
                  </a:lnTo>
                  <a:lnTo>
                    <a:pt x="1253" y="1250"/>
                  </a:lnTo>
                  <a:lnTo>
                    <a:pt x="1257" y="1257"/>
                  </a:lnTo>
                  <a:lnTo>
                    <a:pt x="1261" y="1263"/>
                  </a:lnTo>
                  <a:lnTo>
                    <a:pt x="1266" y="1270"/>
                  </a:lnTo>
                  <a:lnTo>
                    <a:pt x="1270" y="1277"/>
                  </a:lnTo>
                  <a:lnTo>
                    <a:pt x="1274" y="1284"/>
                  </a:lnTo>
                  <a:lnTo>
                    <a:pt x="1278" y="1290"/>
                  </a:lnTo>
                  <a:lnTo>
                    <a:pt x="1282" y="1297"/>
                  </a:lnTo>
                  <a:lnTo>
                    <a:pt x="1286" y="1304"/>
                  </a:lnTo>
                  <a:lnTo>
                    <a:pt x="1290" y="1311"/>
                  </a:lnTo>
                  <a:lnTo>
                    <a:pt x="1294" y="1311"/>
                  </a:lnTo>
                  <a:lnTo>
                    <a:pt x="1298" y="1317"/>
                  </a:lnTo>
                  <a:lnTo>
                    <a:pt x="1302" y="1324"/>
                  </a:lnTo>
                  <a:lnTo>
                    <a:pt x="1307" y="1324"/>
                  </a:lnTo>
                  <a:lnTo>
                    <a:pt x="1311" y="1331"/>
                  </a:lnTo>
                  <a:lnTo>
                    <a:pt x="1315" y="1337"/>
                  </a:lnTo>
                  <a:lnTo>
                    <a:pt x="1319" y="1337"/>
                  </a:lnTo>
                  <a:lnTo>
                    <a:pt x="1323" y="1344"/>
                  </a:lnTo>
                  <a:lnTo>
                    <a:pt x="1327" y="1344"/>
                  </a:lnTo>
                  <a:lnTo>
                    <a:pt x="1331" y="1344"/>
                  </a:lnTo>
                  <a:lnTo>
                    <a:pt x="1335" y="1351"/>
                  </a:lnTo>
                  <a:lnTo>
                    <a:pt x="1339" y="1351"/>
                  </a:lnTo>
                  <a:lnTo>
                    <a:pt x="1344" y="1358"/>
                  </a:lnTo>
                  <a:lnTo>
                    <a:pt x="1348" y="1358"/>
                  </a:lnTo>
                  <a:lnTo>
                    <a:pt x="1352" y="1358"/>
                  </a:lnTo>
                  <a:lnTo>
                    <a:pt x="1356" y="1358"/>
                  </a:lnTo>
                  <a:lnTo>
                    <a:pt x="1360" y="1358"/>
                  </a:lnTo>
                  <a:lnTo>
                    <a:pt x="1360" y="1358"/>
                  </a:lnTo>
                  <a:lnTo>
                    <a:pt x="1364" y="1364"/>
                  </a:lnTo>
                  <a:lnTo>
                    <a:pt x="1368" y="1364"/>
                  </a:lnTo>
                  <a:lnTo>
                    <a:pt x="1372" y="1364"/>
                  </a:lnTo>
                  <a:lnTo>
                    <a:pt x="1376" y="1364"/>
                  </a:lnTo>
                  <a:lnTo>
                    <a:pt x="1381" y="1364"/>
                  </a:lnTo>
                  <a:lnTo>
                    <a:pt x="1385" y="1364"/>
                  </a:lnTo>
                  <a:lnTo>
                    <a:pt x="1389" y="1364"/>
                  </a:lnTo>
                  <a:lnTo>
                    <a:pt x="1393" y="1371"/>
                  </a:lnTo>
                  <a:lnTo>
                    <a:pt x="1397" y="1371"/>
                  </a:lnTo>
                  <a:lnTo>
                    <a:pt x="1401" y="1371"/>
                  </a:lnTo>
                  <a:lnTo>
                    <a:pt x="1405" y="1371"/>
                  </a:lnTo>
                  <a:lnTo>
                    <a:pt x="1409" y="1371"/>
                  </a:lnTo>
                  <a:lnTo>
                    <a:pt x="1413" y="1371"/>
                  </a:lnTo>
                  <a:lnTo>
                    <a:pt x="1418" y="1371"/>
                  </a:lnTo>
                  <a:lnTo>
                    <a:pt x="1422" y="1378"/>
                  </a:lnTo>
                  <a:lnTo>
                    <a:pt x="1426" y="1378"/>
                  </a:lnTo>
                  <a:lnTo>
                    <a:pt x="1430" y="1378"/>
                  </a:lnTo>
                  <a:lnTo>
                    <a:pt x="1434" y="1378"/>
                  </a:lnTo>
                  <a:lnTo>
                    <a:pt x="1438" y="1378"/>
                  </a:lnTo>
                  <a:lnTo>
                    <a:pt x="1442" y="1378"/>
                  </a:lnTo>
                  <a:lnTo>
                    <a:pt x="1446" y="1378"/>
                  </a:lnTo>
                  <a:lnTo>
                    <a:pt x="1450" y="1378"/>
                  </a:lnTo>
                  <a:lnTo>
                    <a:pt x="1455" y="1378"/>
                  </a:lnTo>
                  <a:lnTo>
                    <a:pt x="1459" y="1384"/>
                  </a:lnTo>
                  <a:lnTo>
                    <a:pt x="1463" y="1384"/>
                  </a:lnTo>
                  <a:lnTo>
                    <a:pt x="1467" y="1384"/>
                  </a:lnTo>
                  <a:lnTo>
                    <a:pt x="1471" y="1384"/>
                  </a:lnTo>
                  <a:lnTo>
                    <a:pt x="1475" y="1384"/>
                  </a:lnTo>
                  <a:lnTo>
                    <a:pt x="1479" y="1384"/>
                  </a:lnTo>
                  <a:lnTo>
                    <a:pt x="1479" y="1384"/>
                  </a:lnTo>
                  <a:lnTo>
                    <a:pt x="1483" y="1384"/>
                  </a:lnTo>
                  <a:lnTo>
                    <a:pt x="1487" y="1384"/>
                  </a:lnTo>
                  <a:lnTo>
                    <a:pt x="1492" y="1384"/>
                  </a:lnTo>
                  <a:lnTo>
                    <a:pt x="1496" y="1384"/>
                  </a:lnTo>
                  <a:lnTo>
                    <a:pt x="1500" y="1384"/>
                  </a:lnTo>
                  <a:lnTo>
                    <a:pt x="1504" y="1384"/>
                  </a:lnTo>
                  <a:lnTo>
                    <a:pt x="1508" y="1384"/>
                  </a:lnTo>
                  <a:lnTo>
                    <a:pt x="1512" y="1384"/>
                  </a:lnTo>
                  <a:lnTo>
                    <a:pt x="1516" y="1384"/>
                  </a:lnTo>
                  <a:lnTo>
                    <a:pt x="1520" y="1384"/>
                  </a:lnTo>
                  <a:lnTo>
                    <a:pt x="1524" y="1384"/>
                  </a:lnTo>
                  <a:lnTo>
                    <a:pt x="1528" y="1384"/>
                  </a:lnTo>
                  <a:lnTo>
                    <a:pt x="1533" y="1384"/>
                  </a:lnTo>
                  <a:lnTo>
                    <a:pt x="1537" y="1384"/>
                  </a:lnTo>
                  <a:lnTo>
                    <a:pt x="1541" y="1384"/>
                  </a:lnTo>
                  <a:lnTo>
                    <a:pt x="1545" y="1384"/>
                  </a:lnTo>
                  <a:lnTo>
                    <a:pt x="1549" y="1384"/>
                  </a:lnTo>
                  <a:lnTo>
                    <a:pt x="1553" y="1384"/>
                  </a:lnTo>
                  <a:lnTo>
                    <a:pt x="1557" y="1384"/>
                  </a:lnTo>
                  <a:lnTo>
                    <a:pt x="1561" y="1384"/>
                  </a:lnTo>
                  <a:lnTo>
                    <a:pt x="1565" y="1384"/>
                  </a:lnTo>
                  <a:lnTo>
                    <a:pt x="1570" y="1384"/>
                  </a:lnTo>
                  <a:lnTo>
                    <a:pt x="1574" y="1384"/>
                  </a:lnTo>
                  <a:lnTo>
                    <a:pt x="1578" y="1384"/>
                  </a:lnTo>
                  <a:lnTo>
                    <a:pt x="1582" y="1384"/>
                  </a:lnTo>
                  <a:lnTo>
                    <a:pt x="1586" y="1384"/>
                  </a:lnTo>
                  <a:lnTo>
                    <a:pt x="1590" y="1384"/>
                  </a:lnTo>
                  <a:lnTo>
                    <a:pt x="1594" y="1384"/>
                  </a:lnTo>
                  <a:lnTo>
                    <a:pt x="1594" y="1384"/>
                  </a:lnTo>
                  <a:lnTo>
                    <a:pt x="1598" y="1384"/>
                  </a:lnTo>
                  <a:lnTo>
                    <a:pt x="1602" y="1384"/>
                  </a:lnTo>
                  <a:lnTo>
                    <a:pt x="1607" y="1384"/>
                  </a:lnTo>
                  <a:lnTo>
                    <a:pt x="1611" y="1384"/>
                  </a:lnTo>
                  <a:lnTo>
                    <a:pt x="1615" y="1384"/>
                  </a:lnTo>
                  <a:lnTo>
                    <a:pt x="1619" y="1384"/>
                  </a:lnTo>
                  <a:lnTo>
                    <a:pt x="1623" y="1384"/>
                  </a:lnTo>
                  <a:lnTo>
                    <a:pt x="1627" y="1384"/>
                  </a:lnTo>
                  <a:lnTo>
                    <a:pt x="1631" y="1384"/>
                  </a:lnTo>
                  <a:lnTo>
                    <a:pt x="1635" y="1384"/>
                  </a:lnTo>
                  <a:lnTo>
                    <a:pt x="1639" y="1384"/>
                  </a:lnTo>
                  <a:lnTo>
                    <a:pt x="1644" y="1384"/>
                  </a:lnTo>
                  <a:lnTo>
                    <a:pt x="1648" y="1384"/>
                  </a:lnTo>
                  <a:lnTo>
                    <a:pt x="1652" y="1384"/>
                  </a:lnTo>
                  <a:lnTo>
                    <a:pt x="1656" y="1384"/>
                  </a:lnTo>
                  <a:lnTo>
                    <a:pt x="1660" y="1384"/>
                  </a:lnTo>
                  <a:lnTo>
                    <a:pt x="1664" y="1384"/>
                  </a:lnTo>
                  <a:lnTo>
                    <a:pt x="1668" y="1384"/>
                  </a:lnTo>
                  <a:lnTo>
                    <a:pt x="1672" y="1384"/>
                  </a:lnTo>
                  <a:lnTo>
                    <a:pt x="1676" y="1384"/>
                  </a:lnTo>
                  <a:lnTo>
                    <a:pt x="1681" y="1384"/>
                  </a:lnTo>
                  <a:lnTo>
                    <a:pt x="1685" y="1384"/>
                  </a:lnTo>
                  <a:lnTo>
                    <a:pt x="1689" y="1384"/>
                  </a:lnTo>
                  <a:lnTo>
                    <a:pt x="1689" y="1384"/>
                  </a:lnTo>
                  <a:lnTo>
                    <a:pt x="1693" y="1384"/>
                  </a:lnTo>
                  <a:lnTo>
                    <a:pt x="1697" y="1384"/>
                  </a:lnTo>
                  <a:lnTo>
                    <a:pt x="1701" y="1384"/>
                  </a:lnTo>
                  <a:lnTo>
                    <a:pt x="1705" y="1384"/>
                  </a:lnTo>
                  <a:lnTo>
                    <a:pt x="1709" y="1384"/>
                  </a:lnTo>
                  <a:lnTo>
                    <a:pt x="1713" y="1384"/>
                  </a:lnTo>
                  <a:lnTo>
                    <a:pt x="1718" y="1384"/>
                  </a:lnTo>
                  <a:lnTo>
                    <a:pt x="1722" y="1391"/>
                  </a:lnTo>
                  <a:lnTo>
                    <a:pt x="1726" y="1391"/>
                  </a:lnTo>
                  <a:lnTo>
                    <a:pt x="1730" y="1391"/>
                  </a:lnTo>
                  <a:lnTo>
                    <a:pt x="1734" y="1391"/>
                  </a:lnTo>
                  <a:lnTo>
                    <a:pt x="1738" y="1391"/>
                  </a:lnTo>
                  <a:lnTo>
                    <a:pt x="1742" y="1391"/>
                  </a:lnTo>
                  <a:lnTo>
                    <a:pt x="1746" y="1391"/>
                  </a:lnTo>
                  <a:lnTo>
                    <a:pt x="1750" y="1391"/>
                  </a:lnTo>
                  <a:lnTo>
                    <a:pt x="1754" y="1391"/>
                  </a:lnTo>
                  <a:lnTo>
                    <a:pt x="1759" y="1391"/>
                  </a:lnTo>
                  <a:lnTo>
                    <a:pt x="1763" y="1391"/>
                  </a:lnTo>
                  <a:lnTo>
                    <a:pt x="1767" y="1391"/>
                  </a:lnTo>
                  <a:lnTo>
                    <a:pt x="1771" y="1391"/>
                  </a:lnTo>
                  <a:lnTo>
                    <a:pt x="1775" y="1391"/>
                  </a:lnTo>
                  <a:lnTo>
                    <a:pt x="1775" y="1391"/>
                  </a:lnTo>
                  <a:lnTo>
                    <a:pt x="1779" y="1391"/>
                  </a:lnTo>
                  <a:lnTo>
                    <a:pt x="1783" y="1391"/>
                  </a:lnTo>
                  <a:lnTo>
                    <a:pt x="1787" y="1391"/>
                  </a:lnTo>
                  <a:lnTo>
                    <a:pt x="1791" y="1391"/>
                  </a:lnTo>
                  <a:lnTo>
                    <a:pt x="1796" y="1391"/>
                  </a:lnTo>
                  <a:lnTo>
                    <a:pt x="1800" y="1391"/>
                  </a:lnTo>
                  <a:lnTo>
                    <a:pt x="1804" y="1391"/>
                  </a:lnTo>
                  <a:lnTo>
                    <a:pt x="1808" y="1391"/>
                  </a:lnTo>
                  <a:lnTo>
                    <a:pt x="1812" y="1391"/>
                  </a:lnTo>
                  <a:lnTo>
                    <a:pt x="1816" y="1391"/>
                  </a:lnTo>
                  <a:lnTo>
                    <a:pt x="1820" y="1391"/>
                  </a:lnTo>
                  <a:lnTo>
                    <a:pt x="1824" y="1391"/>
                  </a:lnTo>
                  <a:lnTo>
                    <a:pt x="1828" y="1391"/>
                  </a:lnTo>
                  <a:lnTo>
                    <a:pt x="1833" y="1391"/>
                  </a:lnTo>
                  <a:lnTo>
                    <a:pt x="1837" y="1391"/>
                  </a:lnTo>
                  <a:lnTo>
                    <a:pt x="1841" y="1391"/>
                  </a:lnTo>
                  <a:lnTo>
                    <a:pt x="1845" y="1391"/>
                  </a:lnTo>
                  <a:lnTo>
                    <a:pt x="1849" y="1391"/>
                  </a:lnTo>
                  <a:lnTo>
                    <a:pt x="1853" y="1391"/>
                  </a:lnTo>
                  <a:lnTo>
                    <a:pt x="1857" y="1391"/>
                  </a:lnTo>
                  <a:lnTo>
                    <a:pt x="1861" y="1391"/>
                  </a:lnTo>
                  <a:lnTo>
                    <a:pt x="1865" y="1391"/>
                  </a:lnTo>
                  <a:lnTo>
                    <a:pt x="1870" y="1391"/>
                  </a:lnTo>
                  <a:lnTo>
                    <a:pt x="1874" y="1391"/>
                  </a:lnTo>
                  <a:lnTo>
                    <a:pt x="1874" y="1391"/>
                  </a:lnTo>
                  <a:lnTo>
                    <a:pt x="1878" y="1391"/>
                  </a:lnTo>
                  <a:lnTo>
                    <a:pt x="1882" y="1391"/>
                  </a:lnTo>
                  <a:lnTo>
                    <a:pt x="1886" y="1391"/>
                  </a:lnTo>
                  <a:lnTo>
                    <a:pt x="1890" y="1391"/>
                  </a:lnTo>
                  <a:lnTo>
                    <a:pt x="1894" y="1391"/>
                  </a:lnTo>
                  <a:lnTo>
                    <a:pt x="1898" y="1391"/>
                  </a:lnTo>
                  <a:lnTo>
                    <a:pt x="1902" y="1391"/>
                  </a:lnTo>
                  <a:lnTo>
                    <a:pt x="1907" y="1391"/>
                  </a:lnTo>
                  <a:lnTo>
                    <a:pt x="1911" y="1391"/>
                  </a:lnTo>
                  <a:lnTo>
                    <a:pt x="1915" y="1391"/>
                  </a:lnTo>
                  <a:lnTo>
                    <a:pt x="1919" y="1391"/>
                  </a:lnTo>
                  <a:lnTo>
                    <a:pt x="1923" y="1391"/>
                  </a:lnTo>
                  <a:lnTo>
                    <a:pt x="1927" y="1391"/>
                  </a:lnTo>
                  <a:lnTo>
                    <a:pt x="1931" y="1391"/>
                  </a:lnTo>
                  <a:lnTo>
                    <a:pt x="1935" y="1391"/>
                  </a:lnTo>
                  <a:lnTo>
                    <a:pt x="1939" y="1391"/>
                  </a:lnTo>
                  <a:lnTo>
                    <a:pt x="1944" y="1391"/>
                  </a:lnTo>
                  <a:lnTo>
                    <a:pt x="1948" y="1391"/>
                  </a:lnTo>
                  <a:lnTo>
                    <a:pt x="1952" y="1391"/>
                  </a:lnTo>
                  <a:lnTo>
                    <a:pt x="1956" y="1391"/>
                  </a:lnTo>
                  <a:lnTo>
                    <a:pt x="1956" y="1391"/>
                  </a:lnTo>
                  <a:lnTo>
                    <a:pt x="1960" y="1391"/>
                  </a:lnTo>
                  <a:lnTo>
                    <a:pt x="1964" y="1391"/>
                  </a:lnTo>
                  <a:lnTo>
                    <a:pt x="1968" y="1391"/>
                  </a:lnTo>
                  <a:lnTo>
                    <a:pt x="1972" y="1391"/>
                  </a:lnTo>
                  <a:lnTo>
                    <a:pt x="1976" y="1391"/>
                  </a:lnTo>
                  <a:lnTo>
                    <a:pt x="1980" y="1391"/>
                  </a:lnTo>
                  <a:lnTo>
                    <a:pt x="1985" y="1391"/>
                  </a:lnTo>
                  <a:lnTo>
                    <a:pt x="1989" y="1391"/>
                  </a:lnTo>
                  <a:lnTo>
                    <a:pt x="1993" y="1391"/>
                  </a:lnTo>
                  <a:lnTo>
                    <a:pt x="1997" y="1391"/>
                  </a:lnTo>
                  <a:lnTo>
                    <a:pt x="2001" y="1391"/>
                  </a:lnTo>
                  <a:lnTo>
                    <a:pt x="2005" y="1391"/>
                  </a:lnTo>
                  <a:lnTo>
                    <a:pt x="2009" y="1391"/>
                  </a:lnTo>
                  <a:lnTo>
                    <a:pt x="2013" y="1391"/>
                  </a:lnTo>
                  <a:lnTo>
                    <a:pt x="2017" y="1391"/>
                  </a:lnTo>
                  <a:lnTo>
                    <a:pt x="2022" y="1391"/>
                  </a:lnTo>
                  <a:lnTo>
                    <a:pt x="2026" y="1391"/>
                  </a:lnTo>
                  <a:lnTo>
                    <a:pt x="2030" y="1391"/>
                  </a:lnTo>
                  <a:lnTo>
                    <a:pt x="2034" y="1391"/>
                  </a:lnTo>
                  <a:lnTo>
                    <a:pt x="2038" y="1391"/>
                  </a:lnTo>
                  <a:lnTo>
                    <a:pt x="2042" y="1391"/>
                  </a:lnTo>
                  <a:lnTo>
                    <a:pt x="2042" y="1391"/>
                  </a:lnTo>
                  <a:lnTo>
                    <a:pt x="2046" y="1391"/>
                  </a:lnTo>
                  <a:lnTo>
                    <a:pt x="2050" y="1391"/>
                  </a:lnTo>
                  <a:lnTo>
                    <a:pt x="2054" y="1391"/>
                  </a:lnTo>
                  <a:lnTo>
                    <a:pt x="2059" y="1391"/>
                  </a:lnTo>
                  <a:lnTo>
                    <a:pt x="2063" y="1391"/>
                  </a:lnTo>
                  <a:lnTo>
                    <a:pt x="2067" y="1391"/>
                  </a:lnTo>
                  <a:lnTo>
                    <a:pt x="2071" y="1391"/>
                  </a:lnTo>
                  <a:lnTo>
                    <a:pt x="2075" y="1391"/>
                  </a:lnTo>
                  <a:lnTo>
                    <a:pt x="2079" y="1391"/>
                  </a:lnTo>
                  <a:lnTo>
                    <a:pt x="2083" y="1391"/>
                  </a:lnTo>
                  <a:lnTo>
                    <a:pt x="2087" y="1391"/>
                  </a:lnTo>
                  <a:lnTo>
                    <a:pt x="2091" y="1391"/>
                  </a:lnTo>
                  <a:lnTo>
                    <a:pt x="2096" y="1391"/>
                  </a:lnTo>
                  <a:lnTo>
                    <a:pt x="2100" y="1391"/>
                  </a:lnTo>
                  <a:lnTo>
                    <a:pt x="2104" y="1391"/>
                  </a:lnTo>
                  <a:lnTo>
                    <a:pt x="2108" y="1391"/>
                  </a:lnTo>
                  <a:lnTo>
                    <a:pt x="2112" y="1391"/>
                  </a:lnTo>
                  <a:lnTo>
                    <a:pt x="2116" y="1391"/>
                  </a:lnTo>
                  <a:lnTo>
                    <a:pt x="2120" y="1391"/>
                  </a:lnTo>
                  <a:lnTo>
                    <a:pt x="2120" y="1391"/>
                  </a:lnTo>
                  <a:lnTo>
                    <a:pt x="2124" y="1391"/>
                  </a:lnTo>
                  <a:lnTo>
                    <a:pt x="2128" y="1391"/>
                  </a:lnTo>
                  <a:lnTo>
                    <a:pt x="2133" y="1391"/>
                  </a:lnTo>
                  <a:lnTo>
                    <a:pt x="2137" y="1391"/>
                  </a:lnTo>
                  <a:lnTo>
                    <a:pt x="2141" y="1391"/>
                  </a:lnTo>
                  <a:lnTo>
                    <a:pt x="2145" y="1391"/>
                  </a:lnTo>
                  <a:lnTo>
                    <a:pt x="2149" y="1391"/>
                  </a:lnTo>
                  <a:lnTo>
                    <a:pt x="2153" y="1391"/>
                  </a:lnTo>
                  <a:lnTo>
                    <a:pt x="2157" y="1391"/>
                  </a:lnTo>
                  <a:lnTo>
                    <a:pt x="2161" y="1391"/>
                  </a:lnTo>
                  <a:lnTo>
                    <a:pt x="2165" y="1391"/>
                  </a:lnTo>
                  <a:lnTo>
                    <a:pt x="2170" y="1391"/>
                  </a:lnTo>
                  <a:lnTo>
                    <a:pt x="2174" y="1391"/>
                  </a:lnTo>
                  <a:lnTo>
                    <a:pt x="2178" y="1391"/>
                  </a:lnTo>
                  <a:lnTo>
                    <a:pt x="2182" y="1391"/>
                  </a:lnTo>
                  <a:lnTo>
                    <a:pt x="2186" y="1391"/>
                  </a:lnTo>
                  <a:lnTo>
                    <a:pt x="2190" y="1391"/>
                  </a:lnTo>
                  <a:lnTo>
                    <a:pt x="2194" y="1391"/>
                  </a:lnTo>
                  <a:lnTo>
                    <a:pt x="2198" y="1391"/>
                  </a:lnTo>
                  <a:lnTo>
                    <a:pt x="2202" y="1391"/>
                  </a:lnTo>
                  <a:lnTo>
                    <a:pt x="2202" y="1391"/>
                  </a:lnTo>
                  <a:lnTo>
                    <a:pt x="2207" y="1391"/>
                  </a:lnTo>
                  <a:lnTo>
                    <a:pt x="2211" y="1391"/>
                  </a:lnTo>
                  <a:lnTo>
                    <a:pt x="2215" y="1391"/>
                  </a:lnTo>
                  <a:lnTo>
                    <a:pt x="2219" y="1391"/>
                  </a:lnTo>
                  <a:lnTo>
                    <a:pt x="2223" y="1391"/>
                  </a:lnTo>
                  <a:lnTo>
                    <a:pt x="2227" y="1398"/>
                  </a:lnTo>
                  <a:lnTo>
                    <a:pt x="2231" y="1398"/>
                  </a:lnTo>
                  <a:lnTo>
                    <a:pt x="2235" y="1398"/>
                  </a:lnTo>
                  <a:lnTo>
                    <a:pt x="2239" y="1398"/>
                  </a:lnTo>
                  <a:lnTo>
                    <a:pt x="2243" y="1398"/>
                  </a:lnTo>
                  <a:lnTo>
                    <a:pt x="2248" y="1398"/>
                  </a:lnTo>
                  <a:lnTo>
                    <a:pt x="2252" y="1398"/>
                  </a:lnTo>
                  <a:lnTo>
                    <a:pt x="2256" y="1398"/>
                  </a:lnTo>
                  <a:lnTo>
                    <a:pt x="2260" y="1398"/>
                  </a:lnTo>
                  <a:lnTo>
                    <a:pt x="2264" y="1398"/>
                  </a:lnTo>
                  <a:lnTo>
                    <a:pt x="2268" y="1398"/>
                  </a:lnTo>
                  <a:lnTo>
                    <a:pt x="2272" y="1398"/>
                  </a:lnTo>
                  <a:lnTo>
                    <a:pt x="2276" y="1398"/>
                  </a:lnTo>
                  <a:lnTo>
                    <a:pt x="2280" y="1398"/>
                  </a:lnTo>
                  <a:lnTo>
                    <a:pt x="2285" y="1398"/>
                  </a:lnTo>
                  <a:lnTo>
                    <a:pt x="2289" y="1398"/>
                  </a:lnTo>
                  <a:lnTo>
                    <a:pt x="2289" y="1398"/>
                  </a:lnTo>
                  <a:lnTo>
                    <a:pt x="2293" y="1398"/>
                  </a:lnTo>
                  <a:lnTo>
                    <a:pt x="2297" y="1398"/>
                  </a:lnTo>
                  <a:lnTo>
                    <a:pt x="2301" y="1398"/>
                  </a:lnTo>
                  <a:lnTo>
                    <a:pt x="2305" y="1398"/>
                  </a:lnTo>
                  <a:lnTo>
                    <a:pt x="2309" y="1398"/>
                  </a:lnTo>
                  <a:lnTo>
                    <a:pt x="2313" y="1398"/>
                  </a:lnTo>
                  <a:lnTo>
                    <a:pt x="2317" y="1398"/>
                  </a:lnTo>
                  <a:lnTo>
                    <a:pt x="2322" y="1398"/>
                  </a:lnTo>
                  <a:lnTo>
                    <a:pt x="2326" y="1398"/>
                  </a:lnTo>
                  <a:lnTo>
                    <a:pt x="2330" y="1398"/>
                  </a:lnTo>
                  <a:lnTo>
                    <a:pt x="2334" y="1398"/>
                  </a:lnTo>
                  <a:lnTo>
                    <a:pt x="2338" y="1398"/>
                  </a:lnTo>
                  <a:lnTo>
                    <a:pt x="2342" y="1398"/>
                  </a:lnTo>
                  <a:lnTo>
                    <a:pt x="2346" y="1398"/>
                  </a:lnTo>
                  <a:lnTo>
                    <a:pt x="2350" y="1398"/>
                  </a:lnTo>
                  <a:lnTo>
                    <a:pt x="2354" y="1398"/>
                  </a:lnTo>
                  <a:lnTo>
                    <a:pt x="2359" y="1398"/>
                  </a:lnTo>
                  <a:lnTo>
                    <a:pt x="2363" y="1398"/>
                  </a:lnTo>
                  <a:lnTo>
                    <a:pt x="2367" y="1398"/>
                  </a:lnTo>
                  <a:lnTo>
                    <a:pt x="2371" y="1398"/>
                  </a:lnTo>
                  <a:lnTo>
                    <a:pt x="2375" y="1398"/>
                  </a:lnTo>
                  <a:lnTo>
                    <a:pt x="2379" y="1398"/>
                  </a:lnTo>
                  <a:lnTo>
                    <a:pt x="2379" y="1398"/>
                  </a:lnTo>
                  <a:lnTo>
                    <a:pt x="2383" y="1398"/>
                  </a:lnTo>
                  <a:lnTo>
                    <a:pt x="2387" y="1398"/>
                  </a:lnTo>
                  <a:lnTo>
                    <a:pt x="2391" y="1398"/>
                  </a:lnTo>
                  <a:lnTo>
                    <a:pt x="2396" y="1398"/>
                  </a:lnTo>
                  <a:lnTo>
                    <a:pt x="2400" y="1398"/>
                  </a:lnTo>
                  <a:lnTo>
                    <a:pt x="2404" y="1398"/>
                  </a:lnTo>
                  <a:lnTo>
                    <a:pt x="2408" y="1398"/>
                  </a:lnTo>
                  <a:lnTo>
                    <a:pt x="2412" y="1398"/>
                  </a:lnTo>
                  <a:lnTo>
                    <a:pt x="2416" y="1398"/>
                  </a:lnTo>
                  <a:lnTo>
                    <a:pt x="2420" y="1398"/>
                  </a:lnTo>
                  <a:lnTo>
                    <a:pt x="2424" y="1398"/>
                  </a:lnTo>
                  <a:lnTo>
                    <a:pt x="2428" y="1398"/>
                  </a:lnTo>
                  <a:lnTo>
                    <a:pt x="2433" y="1398"/>
                  </a:lnTo>
                  <a:lnTo>
                    <a:pt x="2437" y="1398"/>
                  </a:lnTo>
                  <a:lnTo>
                    <a:pt x="2441" y="1398"/>
                  </a:lnTo>
                  <a:lnTo>
                    <a:pt x="2445" y="1398"/>
                  </a:lnTo>
                  <a:lnTo>
                    <a:pt x="2449" y="1398"/>
                  </a:lnTo>
                  <a:lnTo>
                    <a:pt x="2453" y="1398"/>
                  </a:lnTo>
                  <a:lnTo>
                    <a:pt x="2457" y="1398"/>
                  </a:lnTo>
                  <a:lnTo>
                    <a:pt x="2461" y="1398"/>
                  </a:lnTo>
                  <a:lnTo>
                    <a:pt x="2465" y="1398"/>
                  </a:lnTo>
                  <a:lnTo>
                    <a:pt x="2469" y="1398"/>
                  </a:lnTo>
                  <a:lnTo>
                    <a:pt x="2474" y="1398"/>
                  </a:lnTo>
                  <a:lnTo>
                    <a:pt x="2474" y="1398"/>
                  </a:lnTo>
                  <a:lnTo>
                    <a:pt x="2478" y="1398"/>
                  </a:lnTo>
                  <a:lnTo>
                    <a:pt x="2482" y="1398"/>
                  </a:lnTo>
                  <a:lnTo>
                    <a:pt x="2486" y="1398"/>
                  </a:lnTo>
                  <a:lnTo>
                    <a:pt x="2490" y="1398"/>
                  </a:lnTo>
                  <a:lnTo>
                    <a:pt x="2494" y="1398"/>
                  </a:lnTo>
                  <a:lnTo>
                    <a:pt x="2498" y="1398"/>
                  </a:lnTo>
                  <a:lnTo>
                    <a:pt x="2502" y="1398"/>
                  </a:lnTo>
                  <a:lnTo>
                    <a:pt x="2506" y="1398"/>
                  </a:lnTo>
                  <a:lnTo>
                    <a:pt x="2511" y="1398"/>
                  </a:lnTo>
                  <a:lnTo>
                    <a:pt x="2515" y="1398"/>
                  </a:lnTo>
                  <a:lnTo>
                    <a:pt x="2519" y="1398"/>
                  </a:lnTo>
                  <a:lnTo>
                    <a:pt x="2523" y="1398"/>
                  </a:lnTo>
                  <a:lnTo>
                    <a:pt x="2527" y="1398"/>
                  </a:lnTo>
                  <a:lnTo>
                    <a:pt x="2531" y="1398"/>
                  </a:lnTo>
                  <a:lnTo>
                    <a:pt x="2535" y="1398"/>
                  </a:lnTo>
                  <a:lnTo>
                    <a:pt x="2539" y="1398"/>
                  </a:lnTo>
                  <a:lnTo>
                    <a:pt x="2543" y="1398"/>
                  </a:lnTo>
                  <a:lnTo>
                    <a:pt x="2548" y="1398"/>
                  </a:lnTo>
                  <a:lnTo>
                    <a:pt x="2552" y="1398"/>
                  </a:lnTo>
                  <a:lnTo>
                    <a:pt x="2556" y="1398"/>
                  </a:lnTo>
                  <a:lnTo>
                    <a:pt x="2560" y="1398"/>
                  </a:lnTo>
                  <a:lnTo>
                    <a:pt x="2564" y="1398"/>
                  </a:lnTo>
                  <a:lnTo>
                    <a:pt x="2564" y="1398"/>
                  </a:lnTo>
                  <a:lnTo>
                    <a:pt x="2568" y="1398"/>
                  </a:lnTo>
                  <a:lnTo>
                    <a:pt x="2572" y="1398"/>
                  </a:lnTo>
                  <a:lnTo>
                    <a:pt x="2576" y="1398"/>
                  </a:lnTo>
                  <a:lnTo>
                    <a:pt x="2580" y="1398"/>
                  </a:lnTo>
                  <a:lnTo>
                    <a:pt x="2585" y="1398"/>
                  </a:lnTo>
                  <a:lnTo>
                    <a:pt x="2589" y="1398"/>
                  </a:lnTo>
                  <a:lnTo>
                    <a:pt x="2593" y="1398"/>
                  </a:lnTo>
                  <a:lnTo>
                    <a:pt x="2597" y="1398"/>
                  </a:lnTo>
                  <a:lnTo>
                    <a:pt x="2601" y="1398"/>
                  </a:lnTo>
                  <a:lnTo>
                    <a:pt x="2605" y="1398"/>
                  </a:lnTo>
                  <a:lnTo>
                    <a:pt x="2609" y="1398"/>
                  </a:lnTo>
                  <a:lnTo>
                    <a:pt x="2613" y="1398"/>
                  </a:lnTo>
                  <a:lnTo>
                    <a:pt x="2617" y="1398"/>
                  </a:lnTo>
                  <a:lnTo>
                    <a:pt x="2622" y="1398"/>
                  </a:lnTo>
                  <a:lnTo>
                    <a:pt x="2626" y="1398"/>
                  </a:lnTo>
                  <a:lnTo>
                    <a:pt x="2630" y="1398"/>
                  </a:lnTo>
                  <a:lnTo>
                    <a:pt x="2634" y="1398"/>
                  </a:lnTo>
                  <a:lnTo>
                    <a:pt x="2638" y="1398"/>
                  </a:lnTo>
                  <a:lnTo>
                    <a:pt x="2642" y="1398"/>
                  </a:lnTo>
                  <a:lnTo>
                    <a:pt x="2642" y="1398"/>
                  </a:lnTo>
                  <a:lnTo>
                    <a:pt x="2646" y="1398"/>
                  </a:lnTo>
                  <a:lnTo>
                    <a:pt x="2650" y="1398"/>
                  </a:lnTo>
                  <a:lnTo>
                    <a:pt x="2654" y="1398"/>
                  </a:lnTo>
                  <a:lnTo>
                    <a:pt x="2659" y="1398"/>
                  </a:lnTo>
                  <a:lnTo>
                    <a:pt x="2663" y="1398"/>
                  </a:lnTo>
                  <a:lnTo>
                    <a:pt x="2667" y="1398"/>
                  </a:lnTo>
                  <a:lnTo>
                    <a:pt x="2671" y="1398"/>
                  </a:lnTo>
                  <a:lnTo>
                    <a:pt x="2675" y="1398"/>
                  </a:lnTo>
                  <a:lnTo>
                    <a:pt x="2679" y="1398"/>
                  </a:lnTo>
                  <a:lnTo>
                    <a:pt x="2683" y="1398"/>
                  </a:lnTo>
                  <a:lnTo>
                    <a:pt x="2687" y="1398"/>
                  </a:lnTo>
                  <a:lnTo>
                    <a:pt x="2691" y="1398"/>
                  </a:lnTo>
                  <a:lnTo>
                    <a:pt x="2695" y="1398"/>
                  </a:lnTo>
                  <a:lnTo>
                    <a:pt x="2700" y="1398"/>
                  </a:lnTo>
                  <a:lnTo>
                    <a:pt x="2704" y="1398"/>
                  </a:lnTo>
                  <a:lnTo>
                    <a:pt x="2708" y="1398"/>
                  </a:lnTo>
                  <a:lnTo>
                    <a:pt x="2712" y="1398"/>
                  </a:lnTo>
                  <a:lnTo>
                    <a:pt x="2716" y="1398"/>
                  </a:lnTo>
                  <a:lnTo>
                    <a:pt x="2716" y="1398"/>
                  </a:lnTo>
                  <a:lnTo>
                    <a:pt x="2720" y="1398"/>
                  </a:lnTo>
                  <a:lnTo>
                    <a:pt x="2724" y="1398"/>
                  </a:lnTo>
                  <a:lnTo>
                    <a:pt x="2728" y="1398"/>
                  </a:lnTo>
                  <a:lnTo>
                    <a:pt x="2732" y="1398"/>
                  </a:lnTo>
                  <a:lnTo>
                    <a:pt x="2737" y="1398"/>
                  </a:lnTo>
                  <a:lnTo>
                    <a:pt x="2741" y="1398"/>
                  </a:lnTo>
                  <a:lnTo>
                    <a:pt x="2745" y="1398"/>
                  </a:lnTo>
                  <a:lnTo>
                    <a:pt x="2749" y="1398"/>
                  </a:lnTo>
                  <a:lnTo>
                    <a:pt x="2753" y="1398"/>
                  </a:lnTo>
                  <a:lnTo>
                    <a:pt x="2757" y="1398"/>
                  </a:lnTo>
                  <a:lnTo>
                    <a:pt x="2761" y="1398"/>
                  </a:lnTo>
                  <a:lnTo>
                    <a:pt x="2765" y="1398"/>
                  </a:lnTo>
                  <a:lnTo>
                    <a:pt x="2769" y="1398"/>
                  </a:lnTo>
                  <a:lnTo>
                    <a:pt x="2774" y="1398"/>
                  </a:lnTo>
                  <a:lnTo>
                    <a:pt x="2778" y="1398"/>
                  </a:lnTo>
                  <a:lnTo>
                    <a:pt x="2782" y="1398"/>
                  </a:lnTo>
                  <a:lnTo>
                    <a:pt x="2786" y="1398"/>
                  </a:lnTo>
                  <a:lnTo>
                    <a:pt x="2790" y="1398"/>
                  </a:lnTo>
                  <a:lnTo>
                    <a:pt x="2794" y="1398"/>
                  </a:lnTo>
                  <a:lnTo>
                    <a:pt x="2794" y="1398"/>
                  </a:lnTo>
                  <a:lnTo>
                    <a:pt x="2798" y="1398"/>
                  </a:lnTo>
                  <a:lnTo>
                    <a:pt x="2802" y="1398"/>
                  </a:lnTo>
                  <a:lnTo>
                    <a:pt x="2806" y="1398"/>
                  </a:lnTo>
                  <a:lnTo>
                    <a:pt x="2811" y="1398"/>
                  </a:lnTo>
                  <a:lnTo>
                    <a:pt x="2815" y="1398"/>
                  </a:lnTo>
                  <a:lnTo>
                    <a:pt x="2819" y="1398"/>
                  </a:lnTo>
                  <a:lnTo>
                    <a:pt x="2823" y="1398"/>
                  </a:lnTo>
                  <a:lnTo>
                    <a:pt x="2827" y="1398"/>
                  </a:lnTo>
                  <a:lnTo>
                    <a:pt x="2831" y="1398"/>
                  </a:lnTo>
                  <a:lnTo>
                    <a:pt x="2835" y="1398"/>
                  </a:lnTo>
                  <a:lnTo>
                    <a:pt x="2839" y="1398"/>
                  </a:lnTo>
                  <a:lnTo>
                    <a:pt x="2843" y="1398"/>
                  </a:lnTo>
                  <a:lnTo>
                    <a:pt x="2848" y="1398"/>
                  </a:lnTo>
                  <a:lnTo>
                    <a:pt x="2852" y="1398"/>
                  </a:lnTo>
                  <a:lnTo>
                    <a:pt x="2856" y="1398"/>
                  </a:lnTo>
                  <a:lnTo>
                    <a:pt x="2860" y="1398"/>
                  </a:lnTo>
                  <a:lnTo>
                    <a:pt x="2864" y="1398"/>
                  </a:lnTo>
                  <a:lnTo>
                    <a:pt x="2868" y="1398"/>
                  </a:lnTo>
                  <a:lnTo>
                    <a:pt x="2872" y="1398"/>
                  </a:lnTo>
                  <a:lnTo>
                    <a:pt x="2876" y="1398"/>
                  </a:lnTo>
                  <a:lnTo>
                    <a:pt x="2880" y="1398"/>
                  </a:lnTo>
                  <a:lnTo>
                    <a:pt x="2885" y="1398"/>
                  </a:lnTo>
                  <a:lnTo>
                    <a:pt x="2885" y="1398"/>
                  </a:lnTo>
                  <a:lnTo>
                    <a:pt x="2889" y="1398"/>
                  </a:lnTo>
                  <a:lnTo>
                    <a:pt x="2893" y="1398"/>
                  </a:lnTo>
                  <a:lnTo>
                    <a:pt x="2897" y="1398"/>
                  </a:lnTo>
                  <a:lnTo>
                    <a:pt x="2901" y="1398"/>
                  </a:lnTo>
                  <a:lnTo>
                    <a:pt x="2905" y="1398"/>
                  </a:lnTo>
                  <a:lnTo>
                    <a:pt x="2909" y="1391"/>
                  </a:lnTo>
                  <a:lnTo>
                    <a:pt x="2913" y="1391"/>
                  </a:lnTo>
                  <a:lnTo>
                    <a:pt x="2917" y="1391"/>
                  </a:lnTo>
                  <a:lnTo>
                    <a:pt x="2921" y="1391"/>
                  </a:lnTo>
                  <a:lnTo>
                    <a:pt x="2926" y="1391"/>
                  </a:lnTo>
                  <a:lnTo>
                    <a:pt x="2930" y="1391"/>
                  </a:lnTo>
                  <a:lnTo>
                    <a:pt x="2934" y="1391"/>
                  </a:lnTo>
                  <a:lnTo>
                    <a:pt x="2938" y="1391"/>
                  </a:lnTo>
                  <a:lnTo>
                    <a:pt x="2942" y="1391"/>
                  </a:lnTo>
                  <a:lnTo>
                    <a:pt x="2946" y="1391"/>
                  </a:lnTo>
                  <a:lnTo>
                    <a:pt x="2950" y="1391"/>
                  </a:lnTo>
                  <a:lnTo>
                    <a:pt x="2954" y="1391"/>
                  </a:lnTo>
                  <a:lnTo>
                    <a:pt x="2958" y="1391"/>
                  </a:lnTo>
                  <a:lnTo>
                    <a:pt x="2963" y="1391"/>
                  </a:lnTo>
                  <a:lnTo>
                    <a:pt x="2967" y="1391"/>
                  </a:lnTo>
                  <a:lnTo>
                    <a:pt x="2971" y="1391"/>
                  </a:lnTo>
                  <a:lnTo>
                    <a:pt x="2975" y="1391"/>
                  </a:lnTo>
                  <a:lnTo>
                    <a:pt x="2979" y="1384"/>
                  </a:lnTo>
                  <a:lnTo>
                    <a:pt x="2983" y="1384"/>
                  </a:lnTo>
                  <a:lnTo>
                    <a:pt x="2987" y="1384"/>
                  </a:lnTo>
                  <a:lnTo>
                    <a:pt x="2991" y="1384"/>
                  </a:lnTo>
                  <a:lnTo>
                    <a:pt x="2995" y="1384"/>
                  </a:lnTo>
                  <a:lnTo>
                    <a:pt x="3000" y="1384"/>
                  </a:lnTo>
                  <a:lnTo>
                    <a:pt x="3004" y="1384"/>
                  </a:lnTo>
                  <a:lnTo>
                    <a:pt x="3008" y="1384"/>
                  </a:lnTo>
                  <a:lnTo>
                    <a:pt x="3012" y="1384"/>
                  </a:lnTo>
                  <a:lnTo>
                    <a:pt x="3016" y="1384"/>
                  </a:lnTo>
                  <a:lnTo>
                    <a:pt x="3020" y="1384"/>
                  </a:lnTo>
                  <a:lnTo>
                    <a:pt x="3024" y="1384"/>
                  </a:lnTo>
                  <a:lnTo>
                    <a:pt x="3028" y="1384"/>
                  </a:lnTo>
                  <a:lnTo>
                    <a:pt x="3032" y="1384"/>
                  </a:lnTo>
                  <a:lnTo>
                    <a:pt x="3037" y="1384"/>
                  </a:lnTo>
                  <a:lnTo>
                    <a:pt x="3041" y="1384"/>
                  </a:lnTo>
                  <a:lnTo>
                    <a:pt x="3045" y="1384"/>
                  </a:lnTo>
                  <a:lnTo>
                    <a:pt x="3049" y="1378"/>
                  </a:lnTo>
                  <a:lnTo>
                    <a:pt x="3053" y="1378"/>
                  </a:lnTo>
                  <a:lnTo>
                    <a:pt x="3057" y="1378"/>
                  </a:lnTo>
                  <a:lnTo>
                    <a:pt x="3061" y="1378"/>
                  </a:lnTo>
                  <a:lnTo>
                    <a:pt x="3065" y="1378"/>
                  </a:lnTo>
                  <a:lnTo>
                    <a:pt x="3069" y="1378"/>
                  </a:lnTo>
                  <a:lnTo>
                    <a:pt x="3074" y="137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373880" y="5303880"/>
              <a:ext cx="39600" cy="63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0"/>
                  </a:moveTo>
                  <a:lnTo>
                    <a:pt x="25" y="40"/>
                  </a:lnTo>
                  <a:lnTo>
                    <a:pt x="13" y="20"/>
                  </a:lnTo>
                  <a:lnTo>
                    <a:pt x="25" y="0"/>
                  </a:lnTo>
                  <a:lnTo>
                    <a:pt x="0" y="40"/>
                  </a:lnTo>
                  <a:lnTo>
                    <a:pt x="13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74000" y="5335560"/>
              <a:ext cx="39600" cy="63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0"/>
                  </a:moveTo>
                  <a:lnTo>
                    <a:pt x="25" y="40"/>
                  </a:lnTo>
                  <a:lnTo>
                    <a:pt x="13" y="20"/>
                  </a:lnTo>
                  <a:lnTo>
                    <a:pt x="25" y="0"/>
                  </a:lnTo>
                  <a:lnTo>
                    <a:pt x="0" y="40"/>
                  </a:lnTo>
                  <a:lnTo>
                    <a:pt x="13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31080" y="5335560"/>
              <a:ext cx="3816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0" y="0"/>
                  </a:moveTo>
                  <a:lnTo>
                    <a:pt x="24" y="40"/>
                  </a:lnTo>
                  <a:lnTo>
                    <a:pt x="12" y="20"/>
                  </a:lnTo>
                  <a:lnTo>
                    <a:pt x="24" y="0"/>
                  </a:lnTo>
                  <a:lnTo>
                    <a:pt x="0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807240" y="5335560"/>
              <a:ext cx="3816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0" y="0"/>
                  </a:moveTo>
                  <a:lnTo>
                    <a:pt x="24" y="40"/>
                  </a:lnTo>
                  <a:lnTo>
                    <a:pt x="12" y="20"/>
                  </a:lnTo>
                  <a:lnTo>
                    <a:pt x="24" y="0"/>
                  </a:lnTo>
                  <a:lnTo>
                    <a:pt x="0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89880" y="5335560"/>
              <a:ext cx="3780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0" y="0"/>
                  </a:moveTo>
                  <a:lnTo>
                    <a:pt x="24" y="40"/>
                  </a:lnTo>
                  <a:lnTo>
                    <a:pt x="12" y="20"/>
                  </a:lnTo>
                  <a:lnTo>
                    <a:pt x="24" y="0"/>
                  </a:lnTo>
                  <a:lnTo>
                    <a:pt x="0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66040" y="5335560"/>
              <a:ext cx="3780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0" y="0"/>
                  </a:moveTo>
                  <a:lnTo>
                    <a:pt x="24" y="40"/>
                  </a:lnTo>
                  <a:lnTo>
                    <a:pt x="12" y="20"/>
                  </a:lnTo>
                  <a:lnTo>
                    <a:pt x="24" y="0"/>
                  </a:lnTo>
                  <a:lnTo>
                    <a:pt x="0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21320" y="5335560"/>
              <a:ext cx="39960" cy="63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0"/>
                  </a:moveTo>
                  <a:lnTo>
                    <a:pt x="25" y="40"/>
                  </a:lnTo>
                  <a:lnTo>
                    <a:pt x="13" y="20"/>
                  </a:lnTo>
                  <a:lnTo>
                    <a:pt x="25" y="0"/>
                  </a:lnTo>
                  <a:lnTo>
                    <a:pt x="0" y="40"/>
                  </a:lnTo>
                  <a:lnTo>
                    <a:pt x="13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72280" y="5335560"/>
              <a:ext cx="3816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0" y="0"/>
                  </a:moveTo>
                  <a:lnTo>
                    <a:pt x="24" y="40"/>
                  </a:lnTo>
                  <a:lnTo>
                    <a:pt x="12" y="20"/>
                  </a:lnTo>
                  <a:lnTo>
                    <a:pt x="24" y="0"/>
                  </a:lnTo>
                  <a:lnTo>
                    <a:pt x="0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27920" y="5335560"/>
              <a:ext cx="39600" cy="63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0"/>
                  </a:moveTo>
                  <a:lnTo>
                    <a:pt x="25" y="40"/>
                  </a:lnTo>
                  <a:lnTo>
                    <a:pt x="13" y="20"/>
                  </a:lnTo>
                  <a:lnTo>
                    <a:pt x="25" y="0"/>
                  </a:lnTo>
                  <a:lnTo>
                    <a:pt x="0" y="40"/>
                  </a:lnTo>
                  <a:lnTo>
                    <a:pt x="13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991120" y="5324400"/>
              <a:ext cx="39960" cy="6372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0"/>
                  </a:moveTo>
                  <a:lnTo>
                    <a:pt x="25" y="40"/>
                  </a:lnTo>
                  <a:lnTo>
                    <a:pt x="12" y="20"/>
                  </a:lnTo>
                  <a:lnTo>
                    <a:pt x="25" y="0"/>
                  </a:lnTo>
                  <a:lnTo>
                    <a:pt x="0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861160" y="5324400"/>
              <a:ext cx="39600" cy="6372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0"/>
                  </a:moveTo>
                  <a:lnTo>
                    <a:pt x="25" y="40"/>
                  </a:lnTo>
                  <a:lnTo>
                    <a:pt x="12" y="20"/>
                  </a:lnTo>
                  <a:lnTo>
                    <a:pt x="25" y="0"/>
                  </a:lnTo>
                  <a:lnTo>
                    <a:pt x="0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737320" y="5324400"/>
              <a:ext cx="38160" cy="6372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0" y="0"/>
                  </a:moveTo>
                  <a:lnTo>
                    <a:pt x="24" y="40"/>
                  </a:lnTo>
                  <a:lnTo>
                    <a:pt x="12" y="20"/>
                  </a:lnTo>
                  <a:lnTo>
                    <a:pt x="24" y="0"/>
                  </a:lnTo>
                  <a:lnTo>
                    <a:pt x="0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600880" y="5324400"/>
              <a:ext cx="37800" cy="6372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0" y="0"/>
                  </a:moveTo>
                  <a:lnTo>
                    <a:pt x="24" y="40"/>
                  </a:lnTo>
                  <a:lnTo>
                    <a:pt x="12" y="20"/>
                  </a:lnTo>
                  <a:lnTo>
                    <a:pt x="24" y="0"/>
                  </a:lnTo>
                  <a:lnTo>
                    <a:pt x="0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68760" y="5324400"/>
              <a:ext cx="39960" cy="6372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0"/>
                  </a:moveTo>
                  <a:lnTo>
                    <a:pt x="25" y="40"/>
                  </a:lnTo>
                  <a:lnTo>
                    <a:pt x="13" y="20"/>
                  </a:lnTo>
                  <a:lnTo>
                    <a:pt x="25" y="0"/>
                  </a:lnTo>
                  <a:lnTo>
                    <a:pt x="0" y="40"/>
                  </a:lnTo>
                  <a:lnTo>
                    <a:pt x="13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13240" y="5324400"/>
              <a:ext cx="38160" cy="6372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0" y="0"/>
                  </a:moveTo>
                  <a:lnTo>
                    <a:pt x="24" y="40"/>
                  </a:lnTo>
                  <a:lnTo>
                    <a:pt x="12" y="20"/>
                  </a:lnTo>
                  <a:lnTo>
                    <a:pt x="24" y="0"/>
                  </a:lnTo>
                  <a:lnTo>
                    <a:pt x="0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175360" y="531324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0" y="0"/>
                  </a:moveTo>
                  <a:lnTo>
                    <a:pt x="25" y="41"/>
                  </a:lnTo>
                  <a:lnTo>
                    <a:pt x="13" y="20"/>
                  </a:lnTo>
                  <a:lnTo>
                    <a:pt x="25" y="0"/>
                  </a:lnTo>
                  <a:lnTo>
                    <a:pt x="0" y="41"/>
                  </a:lnTo>
                  <a:lnTo>
                    <a:pt x="13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025960" y="531324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0" y="0"/>
                  </a:moveTo>
                  <a:lnTo>
                    <a:pt x="25" y="41"/>
                  </a:lnTo>
                  <a:lnTo>
                    <a:pt x="12" y="20"/>
                  </a:lnTo>
                  <a:lnTo>
                    <a:pt x="25" y="0"/>
                  </a:lnTo>
                  <a:lnTo>
                    <a:pt x="0" y="41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43440" y="531324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0" y="0"/>
                  </a:moveTo>
                  <a:lnTo>
                    <a:pt x="25" y="41"/>
                  </a:lnTo>
                  <a:lnTo>
                    <a:pt x="12" y="20"/>
                  </a:lnTo>
                  <a:lnTo>
                    <a:pt x="25" y="0"/>
                  </a:lnTo>
                  <a:lnTo>
                    <a:pt x="0" y="41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654440" y="5270400"/>
              <a:ext cx="38160" cy="65160"/>
            </a:xfrm>
            <a:custGeom>
              <a:avLst/>
              <a:gdLst/>
              <a:ahLst/>
              <a:rect l="l" t="t" r="r" b="b"/>
              <a:pathLst>
                <a:path w="24" h="41">
                  <a:moveTo>
                    <a:pt x="0" y="0"/>
                  </a:moveTo>
                  <a:lnTo>
                    <a:pt x="24" y="41"/>
                  </a:lnTo>
                  <a:lnTo>
                    <a:pt x="12" y="21"/>
                  </a:lnTo>
                  <a:lnTo>
                    <a:pt x="24" y="0"/>
                  </a:lnTo>
                  <a:lnTo>
                    <a:pt x="0" y="41"/>
                  </a:lnTo>
                  <a:lnTo>
                    <a:pt x="12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478400" y="5089680"/>
              <a:ext cx="3816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0" y="0"/>
                  </a:moveTo>
                  <a:lnTo>
                    <a:pt x="24" y="40"/>
                  </a:lnTo>
                  <a:lnTo>
                    <a:pt x="12" y="20"/>
                  </a:lnTo>
                  <a:lnTo>
                    <a:pt x="24" y="0"/>
                  </a:lnTo>
                  <a:lnTo>
                    <a:pt x="0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308480" y="4481640"/>
              <a:ext cx="39600" cy="63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0"/>
                  </a:moveTo>
                  <a:lnTo>
                    <a:pt x="25" y="40"/>
                  </a:lnTo>
                  <a:lnTo>
                    <a:pt x="12" y="20"/>
                  </a:lnTo>
                  <a:lnTo>
                    <a:pt x="25" y="0"/>
                  </a:lnTo>
                  <a:lnTo>
                    <a:pt x="0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45040" y="3532320"/>
              <a:ext cx="39600" cy="63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0"/>
                  </a:moveTo>
                  <a:lnTo>
                    <a:pt x="25" y="40"/>
                  </a:lnTo>
                  <a:lnTo>
                    <a:pt x="13" y="20"/>
                  </a:lnTo>
                  <a:lnTo>
                    <a:pt x="25" y="0"/>
                  </a:lnTo>
                  <a:lnTo>
                    <a:pt x="0" y="40"/>
                  </a:lnTo>
                  <a:lnTo>
                    <a:pt x="13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68640" y="3114720"/>
              <a:ext cx="3996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0" y="0"/>
                  </a:moveTo>
                  <a:lnTo>
                    <a:pt x="25" y="41"/>
                  </a:lnTo>
                  <a:lnTo>
                    <a:pt x="13" y="21"/>
                  </a:lnTo>
                  <a:lnTo>
                    <a:pt x="25" y="0"/>
                  </a:lnTo>
                  <a:lnTo>
                    <a:pt x="0" y="41"/>
                  </a:lnTo>
                  <a:lnTo>
                    <a:pt x="13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767040" y="3382920"/>
              <a:ext cx="39960" cy="6372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0"/>
                  </a:moveTo>
                  <a:lnTo>
                    <a:pt x="25" y="40"/>
                  </a:lnTo>
                  <a:lnTo>
                    <a:pt x="12" y="20"/>
                  </a:lnTo>
                  <a:lnTo>
                    <a:pt x="25" y="0"/>
                  </a:lnTo>
                  <a:lnTo>
                    <a:pt x="0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603600" y="3830760"/>
              <a:ext cx="39600" cy="63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0"/>
                  </a:moveTo>
                  <a:lnTo>
                    <a:pt x="25" y="40"/>
                  </a:lnTo>
                  <a:lnTo>
                    <a:pt x="12" y="20"/>
                  </a:lnTo>
                  <a:lnTo>
                    <a:pt x="25" y="0"/>
                  </a:lnTo>
                  <a:lnTo>
                    <a:pt x="0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454560" y="4140360"/>
              <a:ext cx="3780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0" y="0"/>
                  </a:moveTo>
                  <a:lnTo>
                    <a:pt x="24" y="40"/>
                  </a:lnTo>
                  <a:lnTo>
                    <a:pt x="12" y="20"/>
                  </a:lnTo>
                  <a:lnTo>
                    <a:pt x="24" y="0"/>
                  </a:lnTo>
                  <a:lnTo>
                    <a:pt x="0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316320" y="4406760"/>
              <a:ext cx="39600" cy="6372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0"/>
                  </a:moveTo>
                  <a:lnTo>
                    <a:pt x="25" y="40"/>
                  </a:lnTo>
                  <a:lnTo>
                    <a:pt x="13" y="20"/>
                  </a:lnTo>
                  <a:lnTo>
                    <a:pt x="25" y="0"/>
                  </a:lnTo>
                  <a:lnTo>
                    <a:pt x="0" y="40"/>
                  </a:lnTo>
                  <a:lnTo>
                    <a:pt x="13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86000" y="4610160"/>
              <a:ext cx="39960" cy="63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0"/>
                  </a:moveTo>
                  <a:lnTo>
                    <a:pt x="25" y="40"/>
                  </a:lnTo>
                  <a:lnTo>
                    <a:pt x="12" y="20"/>
                  </a:lnTo>
                  <a:lnTo>
                    <a:pt x="25" y="0"/>
                  </a:lnTo>
                  <a:lnTo>
                    <a:pt x="0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062160" y="4759200"/>
              <a:ext cx="39960" cy="6372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0"/>
                  </a:moveTo>
                  <a:lnTo>
                    <a:pt x="25" y="40"/>
                  </a:lnTo>
                  <a:lnTo>
                    <a:pt x="12" y="20"/>
                  </a:lnTo>
                  <a:lnTo>
                    <a:pt x="25" y="0"/>
                  </a:lnTo>
                  <a:lnTo>
                    <a:pt x="0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32200" y="4876920"/>
              <a:ext cx="39600" cy="63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0"/>
                  </a:moveTo>
                  <a:lnTo>
                    <a:pt x="25" y="40"/>
                  </a:lnTo>
                  <a:lnTo>
                    <a:pt x="12" y="20"/>
                  </a:lnTo>
                  <a:lnTo>
                    <a:pt x="25" y="0"/>
                  </a:lnTo>
                  <a:lnTo>
                    <a:pt x="0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801880" y="4983120"/>
              <a:ext cx="38160" cy="6372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0" y="0"/>
                  </a:moveTo>
                  <a:lnTo>
                    <a:pt x="24" y="40"/>
                  </a:lnTo>
                  <a:lnTo>
                    <a:pt x="12" y="20"/>
                  </a:lnTo>
                  <a:lnTo>
                    <a:pt x="24" y="0"/>
                  </a:lnTo>
                  <a:lnTo>
                    <a:pt x="0" y="4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64000" y="5089680"/>
              <a:ext cx="39600" cy="63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0"/>
                  </a:moveTo>
                  <a:lnTo>
                    <a:pt x="25" y="40"/>
                  </a:lnTo>
                  <a:lnTo>
                    <a:pt x="13" y="20"/>
                  </a:lnTo>
                  <a:lnTo>
                    <a:pt x="25" y="0"/>
                  </a:lnTo>
                  <a:lnTo>
                    <a:pt x="0" y="40"/>
                  </a:lnTo>
                  <a:lnTo>
                    <a:pt x="13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495520" y="5195880"/>
              <a:ext cx="38160" cy="65160"/>
            </a:xfrm>
            <a:custGeom>
              <a:avLst/>
              <a:gdLst/>
              <a:ahLst/>
              <a:rect l="l" t="t" r="r" b="b"/>
              <a:pathLst>
                <a:path w="24" h="41">
                  <a:moveTo>
                    <a:pt x="0" y="0"/>
                  </a:moveTo>
                  <a:lnTo>
                    <a:pt x="24" y="41"/>
                  </a:lnTo>
                  <a:lnTo>
                    <a:pt x="12" y="21"/>
                  </a:lnTo>
                  <a:lnTo>
                    <a:pt x="24" y="0"/>
                  </a:lnTo>
                  <a:lnTo>
                    <a:pt x="0" y="41"/>
                  </a:lnTo>
                  <a:lnTo>
                    <a:pt x="12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02000" y="2357280"/>
              <a:ext cx="5008320" cy="3009960"/>
            </a:xfrm>
            <a:custGeom>
              <a:avLst/>
              <a:gdLst/>
              <a:ahLst/>
              <a:rect l="l" t="t" r="r" b="b"/>
              <a:pathLst>
                <a:path w="3155" h="1896">
                  <a:moveTo>
                    <a:pt x="0" y="1856"/>
                  </a:moveTo>
                  <a:lnTo>
                    <a:pt x="4" y="1856"/>
                  </a:lnTo>
                  <a:lnTo>
                    <a:pt x="8" y="1856"/>
                  </a:lnTo>
                  <a:lnTo>
                    <a:pt x="12" y="1849"/>
                  </a:lnTo>
                  <a:lnTo>
                    <a:pt x="16" y="1849"/>
                  </a:lnTo>
                  <a:lnTo>
                    <a:pt x="20" y="1842"/>
                  </a:lnTo>
                  <a:lnTo>
                    <a:pt x="24" y="1842"/>
                  </a:lnTo>
                  <a:lnTo>
                    <a:pt x="28" y="1842"/>
                  </a:lnTo>
                  <a:lnTo>
                    <a:pt x="33" y="1835"/>
                  </a:lnTo>
                  <a:lnTo>
                    <a:pt x="37" y="1835"/>
                  </a:lnTo>
                  <a:lnTo>
                    <a:pt x="41" y="1835"/>
                  </a:lnTo>
                  <a:lnTo>
                    <a:pt x="45" y="1829"/>
                  </a:lnTo>
                  <a:lnTo>
                    <a:pt x="49" y="1829"/>
                  </a:lnTo>
                  <a:lnTo>
                    <a:pt x="53" y="1822"/>
                  </a:lnTo>
                  <a:lnTo>
                    <a:pt x="57" y="1822"/>
                  </a:lnTo>
                  <a:lnTo>
                    <a:pt x="61" y="1822"/>
                  </a:lnTo>
                  <a:lnTo>
                    <a:pt x="65" y="1815"/>
                  </a:lnTo>
                  <a:lnTo>
                    <a:pt x="70" y="1815"/>
                  </a:lnTo>
                  <a:lnTo>
                    <a:pt x="74" y="1815"/>
                  </a:lnTo>
                  <a:lnTo>
                    <a:pt x="78" y="1809"/>
                  </a:lnTo>
                  <a:lnTo>
                    <a:pt x="82" y="1809"/>
                  </a:lnTo>
                  <a:lnTo>
                    <a:pt x="86" y="1802"/>
                  </a:lnTo>
                  <a:lnTo>
                    <a:pt x="90" y="1802"/>
                  </a:lnTo>
                  <a:lnTo>
                    <a:pt x="94" y="1802"/>
                  </a:lnTo>
                  <a:lnTo>
                    <a:pt x="98" y="1795"/>
                  </a:lnTo>
                  <a:lnTo>
                    <a:pt x="102" y="1795"/>
                  </a:lnTo>
                  <a:lnTo>
                    <a:pt x="107" y="1788"/>
                  </a:lnTo>
                  <a:lnTo>
                    <a:pt x="111" y="1788"/>
                  </a:lnTo>
                  <a:lnTo>
                    <a:pt x="111" y="1788"/>
                  </a:lnTo>
                  <a:lnTo>
                    <a:pt x="115" y="1788"/>
                  </a:lnTo>
                  <a:lnTo>
                    <a:pt x="119" y="1782"/>
                  </a:lnTo>
                  <a:lnTo>
                    <a:pt x="123" y="1782"/>
                  </a:lnTo>
                  <a:lnTo>
                    <a:pt x="127" y="1775"/>
                  </a:lnTo>
                  <a:lnTo>
                    <a:pt x="131" y="1775"/>
                  </a:lnTo>
                  <a:lnTo>
                    <a:pt x="135" y="1775"/>
                  </a:lnTo>
                  <a:lnTo>
                    <a:pt x="139" y="1768"/>
                  </a:lnTo>
                  <a:lnTo>
                    <a:pt x="144" y="1768"/>
                  </a:lnTo>
                  <a:lnTo>
                    <a:pt x="148" y="1761"/>
                  </a:lnTo>
                  <a:lnTo>
                    <a:pt x="152" y="1761"/>
                  </a:lnTo>
                  <a:lnTo>
                    <a:pt x="156" y="1761"/>
                  </a:lnTo>
                  <a:lnTo>
                    <a:pt x="160" y="1755"/>
                  </a:lnTo>
                  <a:lnTo>
                    <a:pt x="164" y="1755"/>
                  </a:lnTo>
                  <a:lnTo>
                    <a:pt x="168" y="1748"/>
                  </a:lnTo>
                  <a:lnTo>
                    <a:pt x="172" y="1748"/>
                  </a:lnTo>
                  <a:lnTo>
                    <a:pt x="176" y="1748"/>
                  </a:lnTo>
                  <a:lnTo>
                    <a:pt x="180" y="1741"/>
                  </a:lnTo>
                  <a:lnTo>
                    <a:pt x="185" y="1741"/>
                  </a:lnTo>
                  <a:lnTo>
                    <a:pt x="189" y="1735"/>
                  </a:lnTo>
                  <a:lnTo>
                    <a:pt x="193" y="1735"/>
                  </a:lnTo>
                  <a:lnTo>
                    <a:pt x="197" y="1728"/>
                  </a:lnTo>
                  <a:lnTo>
                    <a:pt x="197" y="1728"/>
                  </a:lnTo>
                  <a:lnTo>
                    <a:pt x="201" y="1728"/>
                  </a:lnTo>
                  <a:lnTo>
                    <a:pt x="205" y="1728"/>
                  </a:lnTo>
                  <a:lnTo>
                    <a:pt x="209" y="1721"/>
                  </a:lnTo>
                  <a:lnTo>
                    <a:pt x="213" y="1721"/>
                  </a:lnTo>
                  <a:lnTo>
                    <a:pt x="217" y="1714"/>
                  </a:lnTo>
                  <a:lnTo>
                    <a:pt x="222" y="1714"/>
                  </a:lnTo>
                  <a:lnTo>
                    <a:pt x="226" y="1714"/>
                  </a:lnTo>
                  <a:lnTo>
                    <a:pt x="230" y="1708"/>
                  </a:lnTo>
                  <a:lnTo>
                    <a:pt x="234" y="1708"/>
                  </a:lnTo>
                  <a:lnTo>
                    <a:pt x="238" y="1708"/>
                  </a:lnTo>
                  <a:lnTo>
                    <a:pt x="242" y="1701"/>
                  </a:lnTo>
                  <a:lnTo>
                    <a:pt x="246" y="1701"/>
                  </a:lnTo>
                  <a:lnTo>
                    <a:pt x="250" y="1694"/>
                  </a:lnTo>
                  <a:lnTo>
                    <a:pt x="254" y="1694"/>
                  </a:lnTo>
                  <a:lnTo>
                    <a:pt x="259" y="1694"/>
                  </a:lnTo>
                  <a:lnTo>
                    <a:pt x="263" y="1688"/>
                  </a:lnTo>
                  <a:lnTo>
                    <a:pt x="267" y="1688"/>
                  </a:lnTo>
                  <a:lnTo>
                    <a:pt x="271" y="1681"/>
                  </a:lnTo>
                  <a:lnTo>
                    <a:pt x="275" y="1681"/>
                  </a:lnTo>
                  <a:lnTo>
                    <a:pt x="279" y="1681"/>
                  </a:lnTo>
                  <a:lnTo>
                    <a:pt x="279" y="1681"/>
                  </a:lnTo>
                  <a:lnTo>
                    <a:pt x="283" y="1674"/>
                  </a:lnTo>
                  <a:lnTo>
                    <a:pt x="287" y="1674"/>
                  </a:lnTo>
                  <a:lnTo>
                    <a:pt x="291" y="1667"/>
                  </a:lnTo>
                  <a:lnTo>
                    <a:pt x="296" y="1667"/>
                  </a:lnTo>
                  <a:lnTo>
                    <a:pt x="300" y="1667"/>
                  </a:lnTo>
                  <a:lnTo>
                    <a:pt x="304" y="1661"/>
                  </a:lnTo>
                  <a:lnTo>
                    <a:pt x="308" y="1661"/>
                  </a:lnTo>
                  <a:lnTo>
                    <a:pt x="312" y="1654"/>
                  </a:lnTo>
                  <a:lnTo>
                    <a:pt x="316" y="1654"/>
                  </a:lnTo>
                  <a:lnTo>
                    <a:pt x="320" y="1647"/>
                  </a:lnTo>
                  <a:lnTo>
                    <a:pt x="324" y="1647"/>
                  </a:lnTo>
                  <a:lnTo>
                    <a:pt x="328" y="1647"/>
                  </a:lnTo>
                  <a:lnTo>
                    <a:pt x="333" y="1640"/>
                  </a:lnTo>
                  <a:lnTo>
                    <a:pt x="337" y="1640"/>
                  </a:lnTo>
                  <a:lnTo>
                    <a:pt x="341" y="1634"/>
                  </a:lnTo>
                  <a:lnTo>
                    <a:pt x="345" y="1634"/>
                  </a:lnTo>
                  <a:lnTo>
                    <a:pt x="349" y="1627"/>
                  </a:lnTo>
                  <a:lnTo>
                    <a:pt x="353" y="1627"/>
                  </a:lnTo>
                  <a:lnTo>
                    <a:pt x="357" y="1620"/>
                  </a:lnTo>
                  <a:lnTo>
                    <a:pt x="361" y="1620"/>
                  </a:lnTo>
                  <a:lnTo>
                    <a:pt x="361" y="1620"/>
                  </a:lnTo>
                  <a:lnTo>
                    <a:pt x="365" y="1614"/>
                  </a:lnTo>
                  <a:lnTo>
                    <a:pt x="370" y="1614"/>
                  </a:lnTo>
                  <a:lnTo>
                    <a:pt x="374" y="1614"/>
                  </a:lnTo>
                  <a:lnTo>
                    <a:pt x="378" y="1607"/>
                  </a:lnTo>
                  <a:lnTo>
                    <a:pt x="382" y="1607"/>
                  </a:lnTo>
                  <a:lnTo>
                    <a:pt x="386" y="1600"/>
                  </a:lnTo>
                  <a:lnTo>
                    <a:pt x="390" y="1600"/>
                  </a:lnTo>
                  <a:lnTo>
                    <a:pt x="394" y="1593"/>
                  </a:lnTo>
                  <a:lnTo>
                    <a:pt x="398" y="1593"/>
                  </a:lnTo>
                  <a:lnTo>
                    <a:pt x="402" y="1587"/>
                  </a:lnTo>
                  <a:lnTo>
                    <a:pt x="406" y="1587"/>
                  </a:lnTo>
                  <a:lnTo>
                    <a:pt x="411" y="1580"/>
                  </a:lnTo>
                  <a:lnTo>
                    <a:pt x="415" y="1580"/>
                  </a:lnTo>
                  <a:lnTo>
                    <a:pt x="419" y="1573"/>
                  </a:lnTo>
                  <a:lnTo>
                    <a:pt x="423" y="1573"/>
                  </a:lnTo>
                  <a:lnTo>
                    <a:pt x="427" y="1567"/>
                  </a:lnTo>
                  <a:lnTo>
                    <a:pt x="431" y="1560"/>
                  </a:lnTo>
                  <a:lnTo>
                    <a:pt x="435" y="1560"/>
                  </a:lnTo>
                  <a:lnTo>
                    <a:pt x="439" y="1553"/>
                  </a:lnTo>
                  <a:lnTo>
                    <a:pt x="443" y="1553"/>
                  </a:lnTo>
                  <a:lnTo>
                    <a:pt x="443" y="1553"/>
                  </a:lnTo>
                  <a:lnTo>
                    <a:pt x="448" y="1546"/>
                  </a:lnTo>
                  <a:lnTo>
                    <a:pt x="452" y="1546"/>
                  </a:lnTo>
                  <a:lnTo>
                    <a:pt x="456" y="1540"/>
                  </a:lnTo>
                  <a:lnTo>
                    <a:pt x="460" y="1540"/>
                  </a:lnTo>
                  <a:lnTo>
                    <a:pt x="464" y="1533"/>
                  </a:lnTo>
                  <a:lnTo>
                    <a:pt x="468" y="1533"/>
                  </a:lnTo>
                  <a:lnTo>
                    <a:pt x="472" y="1526"/>
                  </a:lnTo>
                  <a:lnTo>
                    <a:pt x="476" y="1519"/>
                  </a:lnTo>
                  <a:lnTo>
                    <a:pt x="480" y="1519"/>
                  </a:lnTo>
                  <a:lnTo>
                    <a:pt x="485" y="1513"/>
                  </a:lnTo>
                  <a:lnTo>
                    <a:pt x="489" y="1513"/>
                  </a:lnTo>
                  <a:lnTo>
                    <a:pt x="493" y="1506"/>
                  </a:lnTo>
                  <a:lnTo>
                    <a:pt x="497" y="1499"/>
                  </a:lnTo>
                  <a:lnTo>
                    <a:pt x="501" y="1499"/>
                  </a:lnTo>
                  <a:lnTo>
                    <a:pt x="505" y="1493"/>
                  </a:lnTo>
                  <a:lnTo>
                    <a:pt x="509" y="1486"/>
                  </a:lnTo>
                  <a:lnTo>
                    <a:pt x="513" y="1486"/>
                  </a:lnTo>
                  <a:lnTo>
                    <a:pt x="517" y="1479"/>
                  </a:lnTo>
                  <a:lnTo>
                    <a:pt x="522" y="1472"/>
                  </a:lnTo>
                  <a:lnTo>
                    <a:pt x="526" y="1466"/>
                  </a:lnTo>
                  <a:lnTo>
                    <a:pt x="526" y="1466"/>
                  </a:lnTo>
                  <a:lnTo>
                    <a:pt x="530" y="1466"/>
                  </a:lnTo>
                  <a:lnTo>
                    <a:pt x="534" y="1459"/>
                  </a:lnTo>
                  <a:lnTo>
                    <a:pt x="538" y="1452"/>
                  </a:lnTo>
                  <a:lnTo>
                    <a:pt x="542" y="1446"/>
                  </a:lnTo>
                  <a:lnTo>
                    <a:pt x="546" y="1446"/>
                  </a:lnTo>
                  <a:lnTo>
                    <a:pt x="550" y="1439"/>
                  </a:lnTo>
                  <a:lnTo>
                    <a:pt x="554" y="1432"/>
                  </a:lnTo>
                  <a:lnTo>
                    <a:pt x="559" y="1425"/>
                  </a:lnTo>
                  <a:lnTo>
                    <a:pt x="563" y="1419"/>
                  </a:lnTo>
                  <a:lnTo>
                    <a:pt x="567" y="1412"/>
                  </a:lnTo>
                  <a:lnTo>
                    <a:pt x="571" y="1405"/>
                  </a:lnTo>
                  <a:lnTo>
                    <a:pt x="575" y="1398"/>
                  </a:lnTo>
                  <a:lnTo>
                    <a:pt x="579" y="1392"/>
                  </a:lnTo>
                  <a:lnTo>
                    <a:pt x="583" y="1385"/>
                  </a:lnTo>
                  <a:lnTo>
                    <a:pt x="587" y="1378"/>
                  </a:lnTo>
                  <a:lnTo>
                    <a:pt x="591" y="1372"/>
                  </a:lnTo>
                  <a:lnTo>
                    <a:pt x="596" y="1365"/>
                  </a:lnTo>
                  <a:lnTo>
                    <a:pt x="600" y="1358"/>
                  </a:lnTo>
                  <a:lnTo>
                    <a:pt x="604" y="1351"/>
                  </a:lnTo>
                  <a:lnTo>
                    <a:pt x="608" y="1345"/>
                  </a:lnTo>
                  <a:lnTo>
                    <a:pt x="612" y="1338"/>
                  </a:lnTo>
                  <a:lnTo>
                    <a:pt x="616" y="1331"/>
                  </a:lnTo>
                  <a:lnTo>
                    <a:pt x="616" y="1331"/>
                  </a:lnTo>
                  <a:lnTo>
                    <a:pt x="620" y="1325"/>
                  </a:lnTo>
                  <a:lnTo>
                    <a:pt x="624" y="1318"/>
                  </a:lnTo>
                  <a:lnTo>
                    <a:pt x="628" y="1311"/>
                  </a:lnTo>
                  <a:lnTo>
                    <a:pt x="632" y="1304"/>
                  </a:lnTo>
                  <a:lnTo>
                    <a:pt x="637" y="1291"/>
                  </a:lnTo>
                  <a:lnTo>
                    <a:pt x="641" y="1284"/>
                  </a:lnTo>
                  <a:lnTo>
                    <a:pt x="645" y="1277"/>
                  </a:lnTo>
                  <a:lnTo>
                    <a:pt x="649" y="1271"/>
                  </a:lnTo>
                  <a:lnTo>
                    <a:pt x="653" y="1264"/>
                  </a:lnTo>
                  <a:lnTo>
                    <a:pt x="657" y="1251"/>
                  </a:lnTo>
                  <a:lnTo>
                    <a:pt x="661" y="1244"/>
                  </a:lnTo>
                  <a:lnTo>
                    <a:pt x="665" y="1237"/>
                  </a:lnTo>
                  <a:lnTo>
                    <a:pt x="669" y="1230"/>
                  </a:lnTo>
                  <a:lnTo>
                    <a:pt x="674" y="1217"/>
                  </a:lnTo>
                  <a:lnTo>
                    <a:pt x="678" y="1210"/>
                  </a:lnTo>
                  <a:lnTo>
                    <a:pt x="682" y="1204"/>
                  </a:lnTo>
                  <a:lnTo>
                    <a:pt x="686" y="1190"/>
                  </a:lnTo>
                  <a:lnTo>
                    <a:pt x="690" y="1183"/>
                  </a:lnTo>
                  <a:lnTo>
                    <a:pt x="694" y="1177"/>
                  </a:lnTo>
                  <a:lnTo>
                    <a:pt x="698" y="1163"/>
                  </a:lnTo>
                  <a:lnTo>
                    <a:pt x="702" y="1156"/>
                  </a:lnTo>
                  <a:lnTo>
                    <a:pt x="706" y="1150"/>
                  </a:lnTo>
                  <a:lnTo>
                    <a:pt x="706" y="1150"/>
                  </a:lnTo>
                  <a:lnTo>
                    <a:pt x="711" y="1136"/>
                  </a:lnTo>
                  <a:lnTo>
                    <a:pt x="715" y="1130"/>
                  </a:lnTo>
                  <a:lnTo>
                    <a:pt x="719" y="1116"/>
                  </a:lnTo>
                  <a:lnTo>
                    <a:pt x="723" y="1109"/>
                  </a:lnTo>
                  <a:lnTo>
                    <a:pt x="727" y="1103"/>
                  </a:lnTo>
                  <a:lnTo>
                    <a:pt x="731" y="1089"/>
                  </a:lnTo>
                  <a:lnTo>
                    <a:pt x="735" y="1083"/>
                  </a:lnTo>
                  <a:lnTo>
                    <a:pt x="739" y="1069"/>
                  </a:lnTo>
                  <a:lnTo>
                    <a:pt x="743" y="1062"/>
                  </a:lnTo>
                  <a:lnTo>
                    <a:pt x="748" y="1049"/>
                  </a:lnTo>
                  <a:lnTo>
                    <a:pt x="752" y="1035"/>
                  </a:lnTo>
                  <a:lnTo>
                    <a:pt x="756" y="1029"/>
                  </a:lnTo>
                  <a:lnTo>
                    <a:pt x="760" y="1015"/>
                  </a:lnTo>
                  <a:lnTo>
                    <a:pt x="764" y="1009"/>
                  </a:lnTo>
                  <a:lnTo>
                    <a:pt x="768" y="995"/>
                  </a:lnTo>
                  <a:lnTo>
                    <a:pt x="772" y="982"/>
                  </a:lnTo>
                  <a:lnTo>
                    <a:pt x="776" y="975"/>
                  </a:lnTo>
                  <a:lnTo>
                    <a:pt x="780" y="962"/>
                  </a:lnTo>
                  <a:lnTo>
                    <a:pt x="785" y="948"/>
                  </a:lnTo>
                  <a:lnTo>
                    <a:pt x="789" y="935"/>
                  </a:lnTo>
                  <a:lnTo>
                    <a:pt x="793" y="921"/>
                  </a:lnTo>
                  <a:lnTo>
                    <a:pt x="797" y="914"/>
                  </a:lnTo>
                  <a:lnTo>
                    <a:pt x="801" y="901"/>
                  </a:lnTo>
                  <a:lnTo>
                    <a:pt x="805" y="888"/>
                  </a:lnTo>
                  <a:lnTo>
                    <a:pt x="809" y="874"/>
                  </a:lnTo>
                  <a:lnTo>
                    <a:pt x="813" y="861"/>
                  </a:lnTo>
                  <a:lnTo>
                    <a:pt x="813" y="861"/>
                  </a:lnTo>
                  <a:lnTo>
                    <a:pt x="817" y="847"/>
                  </a:lnTo>
                  <a:lnTo>
                    <a:pt x="822" y="834"/>
                  </a:lnTo>
                  <a:lnTo>
                    <a:pt x="826" y="820"/>
                  </a:lnTo>
                  <a:lnTo>
                    <a:pt x="830" y="807"/>
                  </a:lnTo>
                  <a:lnTo>
                    <a:pt x="834" y="787"/>
                  </a:lnTo>
                  <a:lnTo>
                    <a:pt x="838" y="773"/>
                  </a:lnTo>
                  <a:lnTo>
                    <a:pt x="842" y="760"/>
                  </a:lnTo>
                  <a:lnTo>
                    <a:pt x="846" y="746"/>
                  </a:lnTo>
                  <a:lnTo>
                    <a:pt x="850" y="733"/>
                  </a:lnTo>
                  <a:lnTo>
                    <a:pt x="854" y="713"/>
                  </a:lnTo>
                  <a:lnTo>
                    <a:pt x="858" y="699"/>
                  </a:lnTo>
                  <a:lnTo>
                    <a:pt x="863" y="686"/>
                  </a:lnTo>
                  <a:lnTo>
                    <a:pt x="867" y="666"/>
                  </a:lnTo>
                  <a:lnTo>
                    <a:pt x="871" y="652"/>
                  </a:lnTo>
                  <a:lnTo>
                    <a:pt x="875" y="639"/>
                  </a:lnTo>
                  <a:lnTo>
                    <a:pt x="879" y="619"/>
                  </a:lnTo>
                  <a:lnTo>
                    <a:pt x="883" y="605"/>
                  </a:lnTo>
                  <a:lnTo>
                    <a:pt x="887" y="592"/>
                  </a:lnTo>
                  <a:lnTo>
                    <a:pt x="891" y="572"/>
                  </a:lnTo>
                  <a:lnTo>
                    <a:pt x="895" y="558"/>
                  </a:lnTo>
                  <a:lnTo>
                    <a:pt x="900" y="545"/>
                  </a:lnTo>
                  <a:lnTo>
                    <a:pt x="904" y="525"/>
                  </a:lnTo>
                  <a:lnTo>
                    <a:pt x="908" y="511"/>
                  </a:lnTo>
                  <a:lnTo>
                    <a:pt x="912" y="498"/>
                  </a:lnTo>
                  <a:lnTo>
                    <a:pt x="916" y="484"/>
                  </a:lnTo>
                  <a:lnTo>
                    <a:pt x="920" y="464"/>
                  </a:lnTo>
                  <a:lnTo>
                    <a:pt x="924" y="451"/>
                  </a:lnTo>
                  <a:lnTo>
                    <a:pt x="928" y="437"/>
                  </a:lnTo>
                  <a:lnTo>
                    <a:pt x="928" y="437"/>
                  </a:lnTo>
                  <a:lnTo>
                    <a:pt x="932" y="424"/>
                  </a:lnTo>
                  <a:lnTo>
                    <a:pt x="937" y="410"/>
                  </a:lnTo>
                  <a:lnTo>
                    <a:pt x="941" y="397"/>
                  </a:lnTo>
                  <a:lnTo>
                    <a:pt x="945" y="383"/>
                  </a:lnTo>
                  <a:lnTo>
                    <a:pt x="949" y="370"/>
                  </a:lnTo>
                  <a:lnTo>
                    <a:pt x="953" y="356"/>
                  </a:lnTo>
                  <a:lnTo>
                    <a:pt x="957" y="343"/>
                  </a:lnTo>
                  <a:lnTo>
                    <a:pt x="961" y="330"/>
                  </a:lnTo>
                  <a:lnTo>
                    <a:pt x="965" y="316"/>
                  </a:lnTo>
                  <a:lnTo>
                    <a:pt x="969" y="303"/>
                  </a:lnTo>
                  <a:lnTo>
                    <a:pt x="974" y="289"/>
                  </a:lnTo>
                  <a:lnTo>
                    <a:pt x="978" y="283"/>
                  </a:lnTo>
                  <a:lnTo>
                    <a:pt x="982" y="269"/>
                  </a:lnTo>
                  <a:lnTo>
                    <a:pt x="986" y="256"/>
                  </a:lnTo>
                  <a:lnTo>
                    <a:pt x="990" y="242"/>
                  </a:lnTo>
                  <a:lnTo>
                    <a:pt x="994" y="229"/>
                  </a:lnTo>
                  <a:lnTo>
                    <a:pt x="998" y="222"/>
                  </a:lnTo>
                  <a:lnTo>
                    <a:pt x="1002" y="209"/>
                  </a:lnTo>
                  <a:lnTo>
                    <a:pt x="1006" y="195"/>
                  </a:lnTo>
                  <a:lnTo>
                    <a:pt x="1011" y="182"/>
                  </a:lnTo>
                  <a:lnTo>
                    <a:pt x="1015" y="168"/>
                  </a:lnTo>
                  <a:lnTo>
                    <a:pt x="1019" y="162"/>
                  </a:lnTo>
                  <a:lnTo>
                    <a:pt x="1023" y="148"/>
                  </a:lnTo>
                  <a:lnTo>
                    <a:pt x="1027" y="135"/>
                  </a:lnTo>
                  <a:lnTo>
                    <a:pt x="1031" y="121"/>
                  </a:lnTo>
                  <a:lnTo>
                    <a:pt x="1035" y="114"/>
                  </a:lnTo>
                  <a:lnTo>
                    <a:pt x="1039" y="101"/>
                  </a:lnTo>
                  <a:lnTo>
                    <a:pt x="1043" y="88"/>
                  </a:lnTo>
                  <a:lnTo>
                    <a:pt x="1043" y="88"/>
                  </a:lnTo>
                  <a:lnTo>
                    <a:pt x="1048" y="74"/>
                  </a:lnTo>
                  <a:lnTo>
                    <a:pt x="1052" y="61"/>
                  </a:lnTo>
                  <a:lnTo>
                    <a:pt x="1056" y="47"/>
                  </a:lnTo>
                  <a:lnTo>
                    <a:pt x="1060" y="34"/>
                  </a:lnTo>
                  <a:lnTo>
                    <a:pt x="1064" y="20"/>
                  </a:lnTo>
                  <a:lnTo>
                    <a:pt x="1068" y="7"/>
                  </a:lnTo>
                  <a:lnTo>
                    <a:pt x="1072" y="0"/>
                  </a:lnTo>
                  <a:lnTo>
                    <a:pt x="1076" y="0"/>
                  </a:lnTo>
                  <a:lnTo>
                    <a:pt x="1080" y="0"/>
                  </a:lnTo>
                  <a:lnTo>
                    <a:pt x="1084" y="0"/>
                  </a:lnTo>
                  <a:lnTo>
                    <a:pt x="1089" y="0"/>
                  </a:lnTo>
                  <a:lnTo>
                    <a:pt x="1093" y="0"/>
                  </a:lnTo>
                  <a:lnTo>
                    <a:pt x="1097" y="0"/>
                  </a:lnTo>
                  <a:lnTo>
                    <a:pt x="1101" y="0"/>
                  </a:lnTo>
                  <a:lnTo>
                    <a:pt x="1105" y="0"/>
                  </a:lnTo>
                  <a:lnTo>
                    <a:pt x="1109" y="0"/>
                  </a:lnTo>
                  <a:lnTo>
                    <a:pt x="1113" y="0"/>
                  </a:lnTo>
                  <a:lnTo>
                    <a:pt x="1117" y="0"/>
                  </a:lnTo>
                  <a:lnTo>
                    <a:pt x="1121" y="0"/>
                  </a:lnTo>
                  <a:lnTo>
                    <a:pt x="1126" y="0"/>
                  </a:lnTo>
                  <a:lnTo>
                    <a:pt x="1130" y="0"/>
                  </a:lnTo>
                  <a:lnTo>
                    <a:pt x="1134" y="0"/>
                  </a:lnTo>
                  <a:lnTo>
                    <a:pt x="1138" y="0"/>
                  </a:lnTo>
                  <a:lnTo>
                    <a:pt x="1142" y="0"/>
                  </a:lnTo>
                  <a:lnTo>
                    <a:pt x="1142" y="0"/>
                  </a:lnTo>
                  <a:lnTo>
                    <a:pt x="1146" y="20"/>
                  </a:lnTo>
                  <a:lnTo>
                    <a:pt x="1150" y="41"/>
                  </a:lnTo>
                  <a:lnTo>
                    <a:pt x="1154" y="67"/>
                  </a:lnTo>
                  <a:lnTo>
                    <a:pt x="1158" y="88"/>
                  </a:lnTo>
                  <a:lnTo>
                    <a:pt x="1163" y="114"/>
                  </a:lnTo>
                  <a:lnTo>
                    <a:pt x="1167" y="141"/>
                  </a:lnTo>
                  <a:lnTo>
                    <a:pt x="1171" y="162"/>
                  </a:lnTo>
                  <a:lnTo>
                    <a:pt x="1175" y="188"/>
                  </a:lnTo>
                  <a:lnTo>
                    <a:pt x="1179" y="215"/>
                  </a:lnTo>
                  <a:lnTo>
                    <a:pt x="1183" y="242"/>
                  </a:lnTo>
                  <a:lnTo>
                    <a:pt x="1187" y="269"/>
                  </a:lnTo>
                  <a:lnTo>
                    <a:pt x="1191" y="296"/>
                  </a:lnTo>
                  <a:lnTo>
                    <a:pt x="1195" y="330"/>
                  </a:lnTo>
                  <a:lnTo>
                    <a:pt x="1200" y="356"/>
                  </a:lnTo>
                  <a:lnTo>
                    <a:pt x="1204" y="383"/>
                  </a:lnTo>
                  <a:lnTo>
                    <a:pt x="1208" y="410"/>
                  </a:lnTo>
                  <a:lnTo>
                    <a:pt x="1212" y="444"/>
                  </a:lnTo>
                  <a:lnTo>
                    <a:pt x="1216" y="471"/>
                  </a:lnTo>
                  <a:lnTo>
                    <a:pt x="1220" y="498"/>
                  </a:lnTo>
                  <a:lnTo>
                    <a:pt x="1224" y="525"/>
                  </a:lnTo>
                  <a:lnTo>
                    <a:pt x="1228" y="558"/>
                  </a:lnTo>
                  <a:lnTo>
                    <a:pt x="1232" y="585"/>
                  </a:lnTo>
                  <a:lnTo>
                    <a:pt x="1232" y="585"/>
                  </a:lnTo>
                  <a:lnTo>
                    <a:pt x="1237" y="612"/>
                  </a:lnTo>
                  <a:lnTo>
                    <a:pt x="1241" y="639"/>
                  </a:lnTo>
                  <a:lnTo>
                    <a:pt x="1245" y="666"/>
                  </a:lnTo>
                  <a:lnTo>
                    <a:pt x="1249" y="693"/>
                  </a:lnTo>
                  <a:lnTo>
                    <a:pt x="1253" y="719"/>
                  </a:lnTo>
                  <a:lnTo>
                    <a:pt x="1257" y="753"/>
                  </a:lnTo>
                  <a:lnTo>
                    <a:pt x="1261" y="780"/>
                  </a:lnTo>
                  <a:lnTo>
                    <a:pt x="1265" y="807"/>
                  </a:lnTo>
                  <a:lnTo>
                    <a:pt x="1269" y="834"/>
                  </a:lnTo>
                  <a:lnTo>
                    <a:pt x="1274" y="861"/>
                  </a:lnTo>
                  <a:lnTo>
                    <a:pt x="1278" y="888"/>
                  </a:lnTo>
                  <a:lnTo>
                    <a:pt x="1282" y="921"/>
                  </a:lnTo>
                  <a:lnTo>
                    <a:pt x="1286" y="948"/>
                  </a:lnTo>
                  <a:lnTo>
                    <a:pt x="1290" y="975"/>
                  </a:lnTo>
                  <a:lnTo>
                    <a:pt x="1294" y="1002"/>
                  </a:lnTo>
                  <a:lnTo>
                    <a:pt x="1298" y="1029"/>
                  </a:lnTo>
                  <a:lnTo>
                    <a:pt x="1302" y="1062"/>
                  </a:lnTo>
                  <a:lnTo>
                    <a:pt x="1306" y="1089"/>
                  </a:lnTo>
                  <a:lnTo>
                    <a:pt x="1310" y="1116"/>
                  </a:lnTo>
                  <a:lnTo>
                    <a:pt x="1315" y="1143"/>
                  </a:lnTo>
                  <a:lnTo>
                    <a:pt x="1319" y="1170"/>
                  </a:lnTo>
                  <a:lnTo>
                    <a:pt x="1323" y="1197"/>
                  </a:lnTo>
                  <a:lnTo>
                    <a:pt x="1327" y="1224"/>
                  </a:lnTo>
                  <a:lnTo>
                    <a:pt x="1331" y="1251"/>
                  </a:lnTo>
                  <a:lnTo>
                    <a:pt x="1331" y="1251"/>
                  </a:lnTo>
                  <a:lnTo>
                    <a:pt x="1335" y="1277"/>
                  </a:lnTo>
                  <a:lnTo>
                    <a:pt x="1339" y="1304"/>
                  </a:lnTo>
                  <a:lnTo>
                    <a:pt x="1343" y="1331"/>
                  </a:lnTo>
                  <a:lnTo>
                    <a:pt x="1347" y="1358"/>
                  </a:lnTo>
                  <a:lnTo>
                    <a:pt x="1352" y="1385"/>
                  </a:lnTo>
                  <a:lnTo>
                    <a:pt x="1356" y="1405"/>
                  </a:lnTo>
                  <a:lnTo>
                    <a:pt x="1360" y="1432"/>
                  </a:lnTo>
                  <a:lnTo>
                    <a:pt x="1364" y="1452"/>
                  </a:lnTo>
                  <a:lnTo>
                    <a:pt x="1368" y="1479"/>
                  </a:lnTo>
                  <a:lnTo>
                    <a:pt x="1372" y="1499"/>
                  </a:lnTo>
                  <a:lnTo>
                    <a:pt x="1376" y="1519"/>
                  </a:lnTo>
                  <a:lnTo>
                    <a:pt x="1380" y="1546"/>
                  </a:lnTo>
                  <a:lnTo>
                    <a:pt x="1384" y="1567"/>
                  </a:lnTo>
                  <a:lnTo>
                    <a:pt x="1389" y="1580"/>
                  </a:lnTo>
                  <a:lnTo>
                    <a:pt x="1393" y="1600"/>
                  </a:lnTo>
                  <a:lnTo>
                    <a:pt x="1397" y="1620"/>
                  </a:lnTo>
                  <a:lnTo>
                    <a:pt x="1401" y="1634"/>
                  </a:lnTo>
                  <a:lnTo>
                    <a:pt x="1405" y="1654"/>
                  </a:lnTo>
                  <a:lnTo>
                    <a:pt x="1409" y="1667"/>
                  </a:lnTo>
                  <a:lnTo>
                    <a:pt x="1413" y="1681"/>
                  </a:lnTo>
                  <a:lnTo>
                    <a:pt x="1417" y="1694"/>
                  </a:lnTo>
                  <a:lnTo>
                    <a:pt x="1421" y="1708"/>
                  </a:lnTo>
                  <a:lnTo>
                    <a:pt x="1426" y="1714"/>
                  </a:lnTo>
                  <a:lnTo>
                    <a:pt x="1430" y="1721"/>
                  </a:lnTo>
                  <a:lnTo>
                    <a:pt x="1430" y="1721"/>
                  </a:lnTo>
                  <a:lnTo>
                    <a:pt x="1434" y="1735"/>
                  </a:lnTo>
                  <a:lnTo>
                    <a:pt x="1438" y="1741"/>
                  </a:lnTo>
                  <a:lnTo>
                    <a:pt x="1442" y="1748"/>
                  </a:lnTo>
                  <a:lnTo>
                    <a:pt x="1446" y="1755"/>
                  </a:lnTo>
                  <a:lnTo>
                    <a:pt x="1450" y="1761"/>
                  </a:lnTo>
                  <a:lnTo>
                    <a:pt x="1454" y="1768"/>
                  </a:lnTo>
                  <a:lnTo>
                    <a:pt x="1458" y="1782"/>
                  </a:lnTo>
                  <a:lnTo>
                    <a:pt x="1463" y="1782"/>
                  </a:lnTo>
                  <a:lnTo>
                    <a:pt x="1467" y="1788"/>
                  </a:lnTo>
                  <a:lnTo>
                    <a:pt x="1471" y="1795"/>
                  </a:lnTo>
                  <a:lnTo>
                    <a:pt x="1475" y="1802"/>
                  </a:lnTo>
                  <a:lnTo>
                    <a:pt x="1479" y="1809"/>
                  </a:lnTo>
                  <a:lnTo>
                    <a:pt x="1483" y="1815"/>
                  </a:lnTo>
                  <a:lnTo>
                    <a:pt x="1487" y="1815"/>
                  </a:lnTo>
                  <a:lnTo>
                    <a:pt x="1491" y="1822"/>
                  </a:lnTo>
                  <a:lnTo>
                    <a:pt x="1495" y="1829"/>
                  </a:lnTo>
                  <a:lnTo>
                    <a:pt x="1500" y="1829"/>
                  </a:lnTo>
                  <a:lnTo>
                    <a:pt x="1504" y="1835"/>
                  </a:lnTo>
                  <a:lnTo>
                    <a:pt x="1508" y="1842"/>
                  </a:lnTo>
                  <a:lnTo>
                    <a:pt x="1512" y="1842"/>
                  </a:lnTo>
                  <a:lnTo>
                    <a:pt x="1516" y="1849"/>
                  </a:lnTo>
                  <a:lnTo>
                    <a:pt x="1520" y="1849"/>
                  </a:lnTo>
                  <a:lnTo>
                    <a:pt x="1524" y="1849"/>
                  </a:lnTo>
                  <a:lnTo>
                    <a:pt x="1528" y="1856"/>
                  </a:lnTo>
                  <a:lnTo>
                    <a:pt x="1532" y="1856"/>
                  </a:lnTo>
                  <a:lnTo>
                    <a:pt x="1536" y="1856"/>
                  </a:lnTo>
                  <a:lnTo>
                    <a:pt x="1541" y="1862"/>
                  </a:lnTo>
                  <a:lnTo>
                    <a:pt x="1545" y="1862"/>
                  </a:lnTo>
                  <a:lnTo>
                    <a:pt x="1549" y="1862"/>
                  </a:lnTo>
                  <a:lnTo>
                    <a:pt x="1553" y="1862"/>
                  </a:lnTo>
                  <a:lnTo>
                    <a:pt x="1557" y="1869"/>
                  </a:lnTo>
                  <a:lnTo>
                    <a:pt x="1561" y="1869"/>
                  </a:lnTo>
                  <a:lnTo>
                    <a:pt x="1565" y="1869"/>
                  </a:lnTo>
                  <a:lnTo>
                    <a:pt x="1569" y="1869"/>
                  </a:lnTo>
                  <a:lnTo>
                    <a:pt x="1573" y="1869"/>
                  </a:lnTo>
                  <a:lnTo>
                    <a:pt x="1578" y="1869"/>
                  </a:lnTo>
                  <a:lnTo>
                    <a:pt x="1578" y="1869"/>
                  </a:lnTo>
                  <a:lnTo>
                    <a:pt x="1582" y="1869"/>
                  </a:lnTo>
                  <a:lnTo>
                    <a:pt x="1586" y="1869"/>
                  </a:lnTo>
                  <a:lnTo>
                    <a:pt x="1590" y="1869"/>
                  </a:lnTo>
                  <a:lnTo>
                    <a:pt x="1594" y="1869"/>
                  </a:lnTo>
                  <a:lnTo>
                    <a:pt x="1598" y="1876"/>
                  </a:lnTo>
                  <a:lnTo>
                    <a:pt x="1602" y="1876"/>
                  </a:lnTo>
                  <a:lnTo>
                    <a:pt x="1606" y="1876"/>
                  </a:lnTo>
                  <a:lnTo>
                    <a:pt x="1610" y="1876"/>
                  </a:lnTo>
                  <a:lnTo>
                    <a:pt x="1615" y="1876"/>
                  </a:lnTo>
                  <a:lnTo>
                    <a:pt x="1619" y="1876"/>
                  </a:lnTo>
                  <a:lnTo>
                    <a:pt x="1623" y="1876"/>
                  </a:lnTo>
                  <a:lnTo>
                    <a:pt x="1627" y="1876"/>
                  </a:lnTo>
                  <a:lnTo>
                    <a:pt x="1631" y="1876"/>
                  </a:lnTo>
                  <a:lnTo>
                    <a:pt x="1635" y="1876"/>
                  </a:lnTo>
                  <a:lnTo>
                    <a:pt x="1639" y="1876"/>
                  </a:lnTo>
                  <a:lnTo>
                    <a:pt x="1643" y="1876"/>
                  </a:lnTo>
                  <a:lnTo>
                    <a:pt x="1647" y="1876"/>
                  </a:lnTo>
                  <a:lnTo>
                    <a:pt x="1652" y="1876"/>
                  </a:lnTo>
                  <a:lnTo>
                    <a:pt x="1656" y="1876"/>
                  </a:lnTo>
                  <a:lnTo>
                    <a:pt x="1660" y="1882"/>
                  </a:lnTo>
                  <a:lnTo>
                    <a:pt x="1664" y="1882"/>
                  </a:lnTo>
                  <a:lnTo>
                    <a:pt x="1668" y="1882"/>
                  </a:lnTo>
                  <a:lnTo>
                    <a:pt x="1672" y="1882"/>
                  </a:lnTo>
                  <a:lnTo>
                    <a:pt x="1676" y="1882"/>
                  </a:lnTo>
                  <a:lnTo>
                    <a:pt x="1680" y="1882"/>
                  </a:lnTo>
                  <a:lnTo>
                    <a:pt x="1684" y="1882"/>
                  </a:lnTo>
                  <a:lnTo>
                    <a:pt x="1689" y="1882"/>
                  </a:lnTo>
                  <a:lnTo>
                    <a:pt x="1693" y="1882"/>
                  </a:lnTo>
                  <a:lnTo>
                    <a:pt x="1697" y="1882"/>
                  </a:lnTo>
                  <a:lnTo>
                    <a:pt x="1701" y="1882"/>
                  </a:lnTo>
                  <a:lnTo>
                    <a:pt x="1705" y="1882"/>
                  </a:lnTo>
                  <a:lnTo>
                    <a:pt x="1709" y="1882"/>
                  </a:lnTo>
                  <a:lnTo>
                    <a:pt x="1713" y="1882"/>
                  </a:lnTo>
                  <a:lnTo>
                    <a:pt x="1717" y="1882"/>
                  </a:lnTo>
                  <a:lnTo>
                    <a:pt x="1721" y="1882"/>
                  </a:lnTo>
                  <a:lnTo>
                    <a:pt x="1726" y="1882"/>
                  </a:lnTo>
                  <a:lnTo>
                    <a:pt x="1730" y="1882"/>
                  </a:lnTo>
                  <a:lnTo>
                    <a:pt x="1734" y="1882"/>
                  </a:lnTo>
                  <a:lnTo>
                    <a:pt x="1734" y="1882"/>
                  </a:lnTo>
                  <a:lnTo>
                    <a:pt x="1738" y="1882"/>
                  </a:lnTo>
                  <a:lnTo>
                    <a:pt x="1742" y="1882"/>
                  </a:lnTo>
                  <a:lnTo>
                    <a:pt x="1746" y="1882"/>
                  </a:lnTo>
                  <a:lnTo>
                    <a:pt x="1750" y="1882"/>
                  </a:lnTo>
                  <a:lnTo>
                    <a:pt x="1754" y="1882"/>
                  </a:lnTo>
                  <a:lnTo>
                    <a:pt x="1758" y="1882"/>
                  </a:lnTo>
                  <a:lnTo>
                    <a:pt x="1762" y="1882"/>
                  </a:lnTo>
                  <a:lnTo>
                    <a:pt x="1767" y="1882"/>
                  </a:lnTo>
                  <a:lnTo>
                    <a:pt x="1771" y="1882"/>
                  </a:lnTo>
                  <a:lnTo>
                    <a:pt x="1775" y="1882"/>
                  </a:lnTo>
                  <a:lnTo>
                    <a:pt x="1779" y="1882"/>
                  </a:lnTo>
                  <a:lnTo>
                    <a:pt x="1783" y="1882"/>
                  </a:lnTo>
                  <a:lnTo>
                    <a:pt x="1787" y="1882"/>
                  </a:lnTo>
                  <a:lnTo>
                    <a:pt x="1791" y="1882"/>
                  </a:lnTo>
                  <a:lnTo>
                    <a:pt x="1795" y="1882"/>
                  </a:lnTo>
                  <a:lnTo>
                    <a:pt x="1799" y="1889"/>
                  </a:lnTo>
                  <a:lnTo>
                    <a:pt x="1804" y="1889"/>
                  </a:lnTo>
                  <a:lnTo>
                    <a:pt x="1808" y="1889"/>
                  </a:lnTo>
                  <a:lnTo>
                    <a:pt x="1812" y="1889"/>
                  </a:lnTo>
                  <a:lnTo>
                    <a:pt x="1816" y="1889"/>
                  </a:lnTo>
                  <a:lnTo>
                    <a:pt x="1820" y="1889"/>
                  </a:lnTo>
                  <a:lnTo>
                    <a:pt x="1824" y="1889"/>
                  </a:lnTo>
                  <a:lnTo>
                    <a:pt x="1828" y="1889"/>
                  </a:lnTo>
                  <a:lnTo>
                    <a:pt x="1832" y="1889"/>
                  </a:lnTo>
                  <a:lnTo>
                    <a:pt x="1836" y="1889"/>
                  </a:lnTo>
                  <a:lnTo>
                    <a:pt x="1841" y="1889"/>
                  </a:lnTo>
                  <a:lnTo>
                    <a:pt x="1845" y="1889"/>
                  </a:lnTo>
                  <a:lnTo>
                    <a:pt x="1849" y="1889"/>
                  </a:lnTo>
                  <a:lnTo>
                    <a:pt x="1853" y="1889"/>
                  </a:lnTo>
                  <a:lnTo>
                    <a:pt x="1857" y="1889"/>
                  </a:lnTo>
                  <a:lnTo>
                    <a:pt x="1861" y="1889"/>
                  </a:lnTo>
                  <a:lnTo>
                    <a:pt x="1865" y="1889"/>
                  </a:lnTo>
                  <a:lnTo>
                    <a:pt x="1869" y="1889"/>
                  </a:lnTo>
                  <a:lnTo>
                    <a:pt x="1873" y="1889"/>
                  </a:lnTo>
                  <a:lnTo>
                    <a:pt x="1878" y="1889"/>
                  </a:lnTo>
                  <a:lnTo>
                    <a:pt x="1882" y="1889"/>
                  </a:lnTo>
                  <a:lnTo>
                    <a:pt x="1886" y="1889"/>
                  </a:lnTo>
                  <a:lnTo>
                    <a:pt x="1890" y="1889"/>
                  </a:lnTo>
                  <a:lnTo>
                    <a:pt x="1894" y="1889"/>
                  </a:lnTo>
                  <a:lnTo>
                    <a:pt x="1898" y="1889"/>
                  </a:lnTo>
                  <a:lnTo>
                    <a:pt x="1902" y="1889"/>
                  </a:lnTo>
                  <a:lnTo>
                    <a:pt x="1906" y="1889"/>
                  </a:lnTo>
                  <a:lnTo>
                    <a:pt x="1910" y="1889"/>
                  </a:lnTo>
                  <a:lnTo>
                    <a:pt x="1915" y="1889"/>
                  </a:lnTo>
                  <a:lnTo>
                    <a:pt x="1919" y="1889"/>
                  </a:lnTo>
                  <a:lnTo>
                    <a:pt x="1923" y="1889"/>
                  </a:lnTo>
                  <a:lnTo>
                    <a:pt x="1927" y="1889"/>
                  </a:lnTo>
                  <a:lnTo>
                    <a:pt x="1931" y="1889"/>
                  </a:lnTo>
                  <a:lnTo>
                    <a:pt x="1935" y="1889"/>
                  </a:lnTo>
                  <a:lnTo>
                    <a:pt x="1939" y="1889"/>
                  </a:lnTo>
                  <a:lnTo>
                    <a:pt x="1943" y="1889"/>
                  </a:lnTo>
                  <a:lnTo>
                    <a:pt x="1943" y="1889"/>
                  </a:lnTo>
                  <a:lnTo>
                    <a:pt x="1947" y="1889"/>
                  </a:lnTo>
                  <a:lnTo>
                    <a:pt x="1952" y="1889"/>
                  </a:lnTo>
                  <a:lnTo>
                    <a:pt x="1956" y="1889"/>
                  </a:lnTo>
                  <a:lnTo>
                    <a:pt x="1960" y="1889"/>
                  </a:lnTo>
                  <a:lnTo>
                    <a:pt x="1964" y="1889"/>
                  </a:lnTo>
                  <a:lnTo>
                    <a:pt x="1968" y="1889"/>
                  </a:lnTo>
                  <a:lnTo>
                    <a:pt x="1972" y="1889"/>
                  </a:lnTo>
                  <a:lnTo>
                    <a:pt x="1976" y="1889"/>
                  </a:lnTo>
                  <a:lnTo>
                    <a:pt x="1980" y="1889"/>
                  </a:lnTo>
                  <a:lnTo>
                    <a:pt x="1984" y="1889"/>
                  </a:lnTo>
                  <a:lnTo>
                    <a:pt x="1988" y="1889"/>
                  </a:lnTo>
                  <a:lnTo>
                    <a:pt x="1993" y="1889"/>
                  </a:lnTo>
                  <a:lnTo>
                    <a:pt x="1997" y="1889"/>
                  </a:lnTo>
                  <a:lnTo>
                    <a:pt x="2001" y="1889"/>
                  </a:lnTo>
                  <a:lnTo>
                    <a:pt x="2005" y="1889"/>
                  </a:lnTo>
                  <a:lnTo>
                    <a:pt x="2009" y="1889"/>
                  </a:lnTo>
                  <a:lnTo>
                    <a:pt x="2013" y="1889"/>
                  </a:lnTo>
                  <a:lnTo>
                    <a:pt x="2017" y="1889"/>
                  </a:lnTo>
                  <a:lnTo>
                    <a:pt x="2021" y="1889"/>
                  </a:lnTo>
                  <a:lnTo>
                    <a:pt x="2025" y="1889"/>
                  </a:lnTo>
                  <a:lnTo>
                    <a:pt x="2030" y="1889"/>
                  </a:lnTo>
                  <a:lnTo>
                    <a:pt x="2034" y="1889"/>
                  </a:lnTo>
                  <a:lnTo>
                    <a:pt x="2038" y="1889"/>
                  </a:lnTo>
                  <a:lnTo>
                    <a:pt x="2042" y="1889"/>
                  </a:lnTo>
                  <a:lnTo>
                    <a:pt x="2046" y="1889"/>
                  </a:lnTo>
                  <a:lnTo>
                    <a:pt x="2050" y="1889"/>
                  </a:lnTo>
                  <a:lnTo>
                    <a:pt x="2054" y="1889"/>
                  </a:lnTo>
                  <a:lnTo>
                    <a:pt x="2058" y="1889"/>
                  </a:lnTo>
                  <a:lnTo>
                    <a:pt x="2062" y="1889"/>
                  </a:lnTo>
                  <a:lnTo>
                    <a:pt x="2067" y="1889"/>
                  </a:lnTo>
                  <a:lnTo>
                    <a:pt x="2071" y="1889"/>
                  </a:lnTo>
                  <a:lnTo>
                    <a:pt x="2075" y="1889"/>
                  </a:lnTo>
                  <a:lnTo>
                    <a:pt x="2079" y="1889"/>
                  </a:lnTo>
                  <a:lnTo>
                    <a:pt x="2083" y="1889"/>
                  </a:lnTo>
                  <a:lnTo>
                    <a:pt x="2087" y="1889"/>
                  </a:lnTo>
                  <a:lnTo>
                    <a:pt x="2091" y="1889"/>
                  </a:lnTo>
                  <a:lnTo>
                    <a:pt x="2095" y="1889"/>
                  </a:lnTo>
                  <a:lnTo>
                    <a:pt x="2099" y="1889"/>
                  </a:lnTo>
                  <a:lnTo>
                    <a:pt x="2104" y="1889"/>
                  </a:lnTo>
                  <a:lnTo>
                    <a:pt x="2108" y="1889"/>
                  </a:lnTo>
                  <a:lnTo>
                    <a:pt x="2112" y="1889"/>
                  </a:lnTo>
                  <a:lnTo>
                    <a:pt x="2116" y="1889"/>
                  </a:lnTo>
                  <a:lnTo>
                    <a:pt x="2120" y="1889"/>
                  </a:lnTo>
                  <a:lnTo>
                    <a:pt x="2124" y="1889"/>
                  </a:lnTo>
                  <a:lnTo>
                    <a:pt x="2128" y="1889"/>
                  </a:lnTo>
                  <a:lnTo>
                    <a:pt x="2132" y="1889"/>
                  </a:lnTo>
                  <a:lnTo>
                    <a:pt x="2136" y="1889"/>
                  </a:lnTo>
                  <a:lnTo>
                    <a:pt x="2141" y="1889"/>
                  </a:lnTo>
                  <a:lnTo>
                    <a:pt x="2145" y="1889"/>
                  </a:lnTo>
                  <a:lnTo>
                    <a:pt x="2149" y="1889"/>
                  </a:lnTo>
                  <a:lnTo>
                    <a:pt x="2153" y="1889"/>
                  </a:lnTo>
                  <a:lnTo>
                    <a:pt x="2157" y="1889"/>
                  </a:lnTo>
                  <a:lnTo>
                    <a:pt x="2161" y="1889"/>
                  </a:lnTo>
                  <a:lnTo>
                    <a:pt x="2165" y="1889"/>
                  </a:lnTo>
                  <a:lnTo>
                    <a:pt x="2169" y="1889"/>
                  </a:lnTo>
                  <a:lnTo>
                    <a:pt x="2173" y="1889"/>
                  </a:lnTo>
                  <a:lnTo>
                    <a:pt x="2178" y="1889"/>
                  </a:lnTo>
                  <a:lnTo>
                    <a:pt x="2178" y="1889"/>
                  </a:lnTo>
                  <a:lnTo>
                    <a:pt x="2182" y="1889"/>
                  </a:lnTo>
                  <a:lnTo>
                    <a:pt x="2186" y="1889"/>
                  </a:lnTo>
                  <a:lnTo>
                    <a:pt x="2190" y="1889"/>
                  </a:lnTo>
                  <a:lnTo>
                    <a:pt x="2194" y="1889"/>
                  </a:lnTo>
                  <a:lnTo>
                    <a:pt x="2198" y="1889"/>
                  </a:lnTo>
                  <a:lnTo>
                    <a:pt x="2202" y="1889"/>
                  </a:lnTo>
                  <a:lnTo>
                    <a:pt x="2206" y="1889"/>
                  </a:lnTo>
                  <a:lnTo>
                    <a:pt x="2210" y="1889"/>
                  </a:lnTo>
                  <a:lnTo>
                    <a:pt x="2215" y="1889"/>
                  </a:lnTo>
                  <a:lnTo>
                    <a:pt x="2219" y="1889"/>
                  </a:lnTo>
                  <a:lnTo>
                    <a:pt x="2223" y="1889"/>
                  </a:lnTo>
                  <a:lnTo>
                    <a:pt x="2227" y="1882"/>
                  </a:lnTo>
                  <a:lnTo>
                    <a:pt x="2231" y="1882"/>
                  </a:lnTo>
                  <a:lnTo>
                    <a:pt x="2235" y="1882"/>
                  </a:lnTo>
                  <a:lnTo>
                    <a:pt x="2239" y="1882"/>
                  </a:lnTo>
                  <a:lnTo>
                    <a:pt x="2243" y="1882"/>
                  </a:lnTo>
                  <a:lnTo>
                    <a:pt x="2247" y="1882"/>
                  </a:lnTo>
                  <a:lnTo>
                    <a:pt x="2251" y="1882"/>
                  </a:lnTo>
                  <a:lnTo>
                    <a:pt x="2256" y="1882"/>
                  </a:lnTo>
                  <a:lnTo>
                    <a:pt x="2260" y="1882"/>
                  </a:lnTo>
                  <a:lnTo>
                    <a:pt x="2264" y="1876"/>
                  </a:lnTo>
                  <a:lnTo>
                    <a:pt x="2268" y="1876"/>
                  </a:lnTo>
                  <a:lnTo>
                    <a:pt x="2272" y="1876"/>
                  </a:lnTo>
                  <a:lnTo>
                    <a:pt x="2276" y="1876"/>
                  </a:lnTo>
                  <a:lnTo>
                    <a:pt x="2280" y="1876"/>
                  </a:lnTo>
                  <a:lnTo>
                    <a:pt x="2284" y="1876"/>
                  </a:lnTo>
                  <a:lnTo>
                    <a:pt x="2288" y="1876"/>
                  </a:lnTo>
                  <a:lnTo>
                    <a:pt x="2293" y="1876"/>
                  </a:lnTo>
                  <a:lnTo>
                    <a:pt x="2297" y="1876"/>
                  </a:lnTo>
                  <a:lnTo>
                    <a:pt x="2301" y="1869"/>
                  </a:lnTo>
                  <a:lnTo>
                    <a:pt x="2305" y="1869"/>
                  </a:lnTo>
                  <a:lnTo>
                    <a:pt x="2309" y="1869"/>
                  </a:lnTo>
                  <a:lnTo>
                    <a:pt x="2313" y="1869"/>
                  </a:lnTo>
                  <a:lnTo>
                    <a:pt x="2317" y="1869"/>
                  </a:lnTo>
                  <a:lnTo>
                    <a:pt x="2321" y="1869"/>
                  </a:lnTo>
                  <a:lnTo>
                    <a:pt x="2325" y="1869"/>
                  </a:lnTo>
                  <a:lnTo>
                    <a:pt x="2330" y="1869"/>
                  </a:lnTo>
                  <a:lnTo>
                    <a:pt x="2334" y="1869"/>
                  </a:lnTo>
                  <a:lnTo>
                    <a:pt x="2334" y="1869"/>
                  </a:lnTo>
                  <a:lnTo>
                    <a:pt x="2338" y="1869"/>
                  </a:lnTo>
                  <a:lnTo>
                    <a:pt x="2342" y="1869"/>
                  </a:lnTo>
                  <a:lnTo>
                    <a:pt x="2346" y="1869"/>
                  </a:lnTo>
                  <a:lnTo>
                    <a:pt x="2350" y="1876"/>
                  </a:lnTo>
                  <a:lnTo>
                    <a:pt x="2354" y="1876"/>
                  </a:lnTo>
                  <a:lnTo>
                    <a:pt x="2358" y="1876"/>
                  </a:lnTo>
                  <a:lnTo>
                    <a:pt x="2362" y="1882"/>
                  </a:lnTo>
                  <a:lnTo>
                    <a:pt x="2367" y="1882"/>
                  </a:lnTo>
                  <a:lnTo>
                    <a:pt x="2371" y="1882"/>
                  </a:lnTo>
                  <a:lnTo>
                    <a:pt x="2375" y="1882"/>
                  </a:lnTo>
                  <a:lnTo>
                    <a:pt x="2379" y="1889"/>
                  </a:lnTo>
                  <a:lnTo>
                    <a:pt x="2383" y="1889"/>
                  </a:lnTo>
                  <a:lnTo>
                    <a:pt x="2387" y="1889"/>
                  </a:lnTo>
                  <a:lnTo>
                    <a:pt x="2391" y="1889"/>
                  </a:lnTo>
                  <a:lnTo>
                    <a:pt x="2395" y="1889"/>
                  </a:lnTo>
                  <a:lnTo>
                    <a:pt x="2395" y="1889"/>
                  </a:lnTo>
                  <a:lnTo>
                    <a:pt x="2399" y="1889"/>
                  </a:lnTo>
                  <a:lnTo>
                    <a:pt x="2404" y="1889"/>
                  </a:lnTo>
                  <a:lnTo>
                    <a:pt x="2408" y="1889"/>
                  </a:lnTo>
                  <a:lnTo>
                    <a:pt x="2412" y="1889"/>
                  </a:lnTo>
                  <a:lnTo>
                    <a:pt x="2416" y="1889"/>
                  </a:lnTo>
                  <a:lnTo>
                    <a:pt x="2420" y="1889"/>
                  </a:lnTo>
                  <a:lnTo>
                    <a:pt x="2424" y="1889"/>
                  </a:lnTo>
                  <a:lnTo>
                    <a:pt x="2428" y="1889"/>
                  </a:lnTo>
                  <a:lnTo>
                    <a:pt x="2432" y="1889"/>
                  </a:lnTo>
                  <a:lnTo>
                    <a:pt x="2436" y="1889"/>
                  </a:lnTo>
                  <a:lnTo>
                    <a:pt x="2441" y="1889"/>
                  </a:lnTo>
                  <a:lnTo>
                    <a:pt x="2445" y="1896"/>
                  </a:lnTo>
                  <a:lnTo>
                    <a:pt x="2449" y="1896"/>
                  </a:lnTo>
                  <a:lnTo>
                    <a:pt x="2453" y="1896"/>
                  </a:lnTo>
                  <a:lnTo>
                    <a:pt x="2457" y="1896"/>
                  </a:lnTo>
                  <a:lnTo>
                    <a:pt x="2461" y="1896"/>
                  </a:lnTo>
                  <a:lnTo>
                    <a:pt x="2465" y="1896"/>
                  </a:lnTo>
                  <a:lnTo>
                    <a:pt x="2469" y="1896"/>
                  </a:lnTo>
                  <a:lnTo>
                    <a:pt x="2473" y="1896"/>
                  </a:lnTo>
                  <a:lnTo>
                    <a:pt x="2477" y="1896"/>
                  </a:lnTo>
                  <a:lnTo>
                    <a:pt x="2482" y="1896"/>
                  </a:lnTo>
                  <a:lnTo>
                    <a:pt x="2486" y="1896"/>
                  </a:lnTo>
                  <a:lnTo>
                    <a:pt x="2490" y="1896"/>
                  </a:lnTo>
                  <a:lnTo>
                    <a:pt x="2494" y="1896"/>
                  </a:lnTo>
                  <a:lnTo>
                    <a:pt x="2498" y="1896"/>
                  </a:lnTo>
                  <a:lnTo>
                    <a:pt x="2502" y="1896"/>
                  </a:lnTo>
                  <a:lnTo>
                    <a:pt x="2506" y="1896"/>
                  </a:lnTo>
                  <a:lnTo>
                    <a:pt x="2510" y="1896"/>
                  </a:lnTo>
                  <a:lnTo>
                    <a:pt x="2514" y="1896"/>
                  </a:lnTo>
                  <a:lnTo>
                    <a:pt x="2519" y="1896"/>
                  </a:lnTo>
                  <a:lnTo>
                    <a:pt x="2523" y="1896"/>
                  </a:lnTo>
                  <a:lnTo>
                    <a:pt x="2527" y="1896"/>
                  </a:lnTo>
                  <a:lnTo>
                    <a:pt x="2531" y="1896"/>
                  </a:lnTo>
                  <a:lnTo>
                    <a:pt x="2535" y="1896"/>
                  </a:lnTo>
                  <a:lnTo>
                    <a:pt x="2539" y="1896"/>
                  </a:lnTo>
                  <a:lnTo>
                    <a:pt x="2543" y="1896"/>
                  </a:lnTo>
                  <a:lnTo>
                    <a:pt x="2547" y="1896"/>
                  </a:lnTo>
                  <a:lnTo>
                    <a:pt x="2551" y="1896"/>
                  </a:lnTo>
                  <a:lnTo>
                    <a:pt x="2556" y="1896"/>
                  </a:lnTo>
                  <a:lnTo>
                    <a:pt x="2560" y="1896"/>
                  </a:lnTo>
                  <a:lnTo>
                    <a:pt x="2564" y="1896"/>
                  </a:lnTo>
                  <a:lnTo>
                    <a:pt x="2568" y="1896"/>
                  </a:lnTo>
                  <a:lnTo>
                    <a:pt x="2572" y="1896"/>
                  </a:lnTo>
                  <a:lnTo>
                    <a:pt x="2576" y="1896"/>
                  </a:lnTo>
                  <a:lnTo>
                    <a:pt x="2580" y="1896"/>
                  </a:lnTo>
                  <a:lnTo>
                    <a:pt x="2584" y="1896"/>
                  </a:lnTo>
                  <a:lnTo>
                    <a:pt x="2588" y="1896"/>
                  </a:lnTo>
                  <a:lnTo>
                    <a:pt x="2593" y="1896"/>
                  </a:lnTo>
                  <a:lnTo>
                    <a:pt x="2593" y="1896"/>
                  </a:lnTo>
                  <a:lnTo>
                    <a:pt x="2597" y="1896"/>
                  </a:lnTo>
                  <a:lnTo>
                    <a:pt x="2601" y="1896"/>
                  </a:lnTo>
                  <a:lnTo>
                    <a:pt x="2605" y="1896"/>
                  </a:lnTo>
                  <a:lnTo>
                    <a:pt x="2609" y="1896"/>
                  </a:lnTo>
                  <a:lnTo>
                    <a:pt x="2613" y="1896"/>
                  </a:lnTo>
                  <a:lnTo>
                    <a:pt x="2617" y="1896"/>
                  </a:lnTo>
                  <a:lnTo>
                    <a:pt x="2621" y="1896"/>
                  </a:lnTo>
                  <a:lnTo>
                    <a:pt x="2625" y="1896"/>
                  </a:lnTo>
                  <a:lnTo>
                    <a:pt x="2630" y="1896"/>
                  </a:lnTo>
                  <a:lnTo>
                    <a:pt x="2634" y="1896"/>
                  </a:lnTo>
                  <a:lnTo>
                    <a:pt x="2638" y="1896"/>
                  </a:lnTo>
                  <a:lnTo>
                    <a:pt x="2642" y="1896"/>
                  </a:lnTo>
                  <a:lnTo>
                    <a:pt x="2646" y="1896"/>
                  </a:lnTo>
                  <a:lnTo>
                    <a:pt x="2650" y="1896"/>
                  </a:lnTo>
                  <a:lnTo>
                    <a:pt x="2654" y="1896"/>
                  </a:lnTo>
                  <a:lnTo>
                    <a:pt x="2658" y="1896"/>
                  </a:lnTo>
                  <a:lnTo>
                    <a:pt x="2662" y="1896"/>
                  </a:lnTo>
                  <a:lnTo>
                    <a:pt x="2667" y="1896"/>
                  </a:lnTo>
                  <a:lnTo>
                    <a:pt x="2671" y="1896"/>
                  </a:lnTo>
                  <a:lnTo>
                    <a:pt x="2675" y="1896"/>
                  </a:lnTo>
                  <a:lnTo>
                    <a:pt x="2679" y="1896"/>
                  </a:lnTo>
                  <a:lnTo>
                    <a:pt x="2683" y="1896"/>
                  </a:lnTo>
                  <a:lnTo>
                    <a:pt x="2687" y="1896"/>
                  </a:lnTo>
                  <a:lnTo>
                    <a:pt x="2691" y="1896"/>
                  </a:lnTo>
                  <a:lnTo>
                    <a:pt x="2695" y="1896"/>
                  </a:lnTo>
                  <a:lnTo>
                    <a:pt x="2699" y="1896"/>
                  </a:lnTo>
                  <a:lnTo>
                    <a:pt x="2703" y="1896"/>
                  </a:lnTo>
                  <a:lnTo>
                    <a:pt x="2708" y="1896"/>
                  </a:lnTo>
                  <a:lnTo>
                    <a:pt x="2712" y="1896"/>
                  </a:lnTo>
                  <a:lnTo>
                    <a:pt x="2716" y="1896"/>
                  </a:lnTo>
                  <a:lnTo>
                    <a:pt x="2720" y="1896"/>
                  </a:lnTo>
                  <a:lnTo>
                    <a:pt x="2724" y="1896"/>
                  </a:lnTo>
                  <a:lnTo>
                    <a:pt x="2728" y="1896"/>
                  </a:lnTo>
                  <a:lnTo>
                    <a:pt x="2732" y="1896"/>
                  </a:lnTo>
                  <a:lnTo>
                    <a:pt x="2736" y="1896"/>
                  </a:lnTo>
                  <a:lnTo>
                    <a:pt x="2740" y="1896"/>
                  </a:lnTo>
                  <a:lnTo>
                    <a:pt x="2745" y="1896"/>
                  </a:lnTo>
                  <a:lnTo>
                    <a:pt x="2749" y="1896"/>
                  </a:lnTo>
                  <a:lnTo>
                    <a:pt x="2753" y="1896"/>
                  </a:lnTo>
                  <a:lnTo>
                    <a:pt x="2757" y="1896"/>
                  </a:lnTo>
                  <a:lnTo>
                    <a:pt x="2761" y="1896"/>
                  </a:lnTo>
                  <a:lnTo>
                    <a:pt x="2765" y="1896"/>
                  </a:lnTo>
                  <a:lnTo>
                    <a:pt x="2769" y="1896"/>
                  </a:lnTo>
                  <a:lnTo>
                    <a:pt x="2773" y="1896"/>
                  </a:lnTo>
                  <a:lnTo>
                    <a:pt x="2777" y="1896"/>
                  </a:lnTo>
                  <a:lnTo>
                    <a:pt x="2782" y="1896"/>
                  </a:lnTo>
                  <a:lnTo>
                    <a:pt x="2786" y="1896"/>
                  </a:lnTo>
                  <a:lnTo>
                    <a:pt x="2790" y="1896"/>
                  </a:lnTo>
                  <a:lnTo>
                    <a:pt x="2794" y="1896"/>
                  </a:lnTo>
                  <a:lnTo>
                    <a:pt x="2798" y="1889"/>
                  </a:lnTo>
                  <a:lnTo>
                    <a:pt x="2802" y="1889"/>
                  </a:lnTo>
                  <a:lnTo>
                    <a:pt x="2806" y="1889"/>
                  </a:lnTo>
                  <a:lnTo>
                    <a:pt x="2810" y="1889"/>
                  </a:lnTo>
                  <a:lnTo>
                    <a:pt x="2814" y="1889"/>
                  </a:lnTo>
                  <a:lnTo>
                    <a:pt x="2819" y="1889"/>
                  </a:lnTo>
                  <a:lnTo>
                    <a:pt x="2823" y="1889"/>
                  </a:lnTo>
                  <a:lnTo>
                    <a:pt x="2827" y="1889"/>
                  </a:lnTo>
                  <a:lnTo>
                    <a:pt x="2831" y="1889"/>
                  </a:lnTo>
                  <a:lnTo>
                    <a:pt x="2835" y="1889"/>
                  </a:lnTo>
                  <a:lnTo>
                    <a:pt x="2839" y="1889"/>
                  </a:lnTo>
                  <a:lnTo>
                    <a:pt x="2843" y="1889"/>
                  </a:lnTo>
                  <a:lnTo>
                    <a:pt x="2847" y="1889"/>
                  </a:lnTo>
                  <a:lnTo>
                    <a:pt x="2851" y="1889"/>
                  </a:lnTo>
                  <a:lnTo>
                    <a:pt x="2856" y="1889"/>
                  </a:lnTo>
                  <a:lnTo>
                    <a:pt x="2860" y="1889"/>
                  </a:lnTo>
                  <a:lnTo>
                    <a:pt x="2864" y="1889"/>
                  </a:lnTo>
                  <a:lnTo>
                    <a:pt x="2868" y="1889"/>
                  </a:lnTo>
                  <a:lnTo>
                    <a:pt x="2872" y="1889"/>
                  </a:lnTo>
                  <a:lnTo>
                    <a:pt x="2876" y="1889"/>
                  </a:lnTo>
                  <a:lnTo>
                    <a:pt x="2880" y="1889"/>
                  </a:lnTo>
                  <a:lnTo>
                    <a:pt x="2884" y="1889"/>
                  </a:lnTo>
                  <a:lnTo>
                    <a:pt x="2888" y="1889"/>
                  </a:lnTo>
                  <a:lnTo>
                    <a:pt x="2893" y="1889"/>
                  </a:lnTo>
                  <a:lnTo>
                    <a:pt x="2897" y="1889"/>
                  </a:lnTo>
                  <a:lnTo>
                    <a:pt x="2901" y="1889"/>
                  </a:lnTo>
                  <a:lnTo>
                    <a:pt x="2905" y="1889"/>
                  </a:lnTo>
                  <a:lnTo>
                    <a:pt x="2909" y="1889"/>
                  </a:lnTo>
                  <a:lnTo>
                    <a:pt x="2913" y="1889"/>
                  </a:lnTo>
                  <a:lnTo>
                    <a:pt x="2917" y="1889"/>
                  </a:lnTo>
                  <a:lnTo>
                    <a:pt x="2921" y="1889"/>
                  </a:lnTo>
                  <a:lnTo>
                    <a:pt x="2925" y="1889"/>
                  </a:lnTo>
                  <a:lnTo>
                    <a:pt x="2929" y="1889"/>
                  </a:lnTo>
                  <a:lnTo>
                    <a:pt x="2934" y="1889"/>
                  </a:lnTo>
                  <a:lnTo>
                    <a:pt x="2938" y="1889"/>
                  </a:lnTo>
                  <a:lnTo>
                    <a:pt x="2942" y="1889"/>
                  </a:lnTo>
                  <a:lnTo>
                    <a:pt x="2946" y="1889"/>
                  </a:lnTo>
                  <a:lnTo>
                    <a:pt x="2950" y="1889"/>
                  </a:lnTo>
                  <a:lnTo>
                    <a:pt x="2954" y="1889"/>
                  </a:lnTo>
                  <a:lnTo>
                    <a:pt x="2958" y="1889"/>
                  </a:lnTo>
                  <a:lnTo>
                    <a:pt x="2962" y="1889"/>
                  </a:lnTo>
                  <a:lnTo>
                    <a:pt x="2966" y="1889"/>
                  </a:lnTo>
                  <a:lnTo>
                    <a:pt x="2971" y="1889"/>
                  </a:lnTo>
                  <a:lnTo>
                    <a:pt x="2975" y="1889"/>
                  </a:lnTo>
                  <a:lnTo>
                    <a:pt x="2979" y="1889"/>
                  </a:lnTo>
                  <a:lnTo>
                    <a:pt x="2983" y="1889"/>
                  </a:lnTo>
                  <a:lnTo>
                    <a:pt x="2987" y="1889"/>
                  </a:lnTo>
                  <a:lnTo>
                    <a:pt x="2991" y="1889"/>
                  </a:lnTo>
                  <a:lnTo>
                    <a:pt x="2995" y="1889"/>
                  </a:lnTo>
                  <a:lnTo>
                    <a:pt x="2999" y="1889"/>
                  </a:lnTo>
                  <a:lnTo>
                    <a:pt x="3003" y="1889"/>
                  </a:lnTo>
                  <a:lnTo>
                    <a:pt x="3008" y="1889"/>
                  </a:lnTo>
                  <a:lnTo>
                    <a:pt x="3012" y="1889"/>
                  </a:lnTo>
                  <a:lnTo>
                    <a:pt x="3016" y="1889"/>
                  </a:lnTo>
                  <a:lnTo>
                    <a:pt x="3020" y="1889"/>
                  </a:lnTo>
                  <a:lnTo>
                    <a:pt x="3024" y="1889"/>
                  </a:lnTo>
                  <a:lnTo>
                    <a:pt x="3028" y="1889"/>
                  </a:lnTo>
                  <a:lnTo>
                    <a:pt x="3032" y="1889"/>
                  </a:lnTo>
                  <a:lnTo>
                    <a:pt x="3036" y="1889"/>
                  </a:lnTo>
                  <a:lnTo>
                    <a:pt x="3040" y="1889"/>
                  </a:lnTo>
                  <a:lnTo>
                    <a:pt x="3045" y="1889"/>
                  </a:lnTo>
                  <a:lnTo>
                    <a:pt x="3049" y="1889"/>
                  </a:lnTo>
                  <a:lnTo>
                    <a:pt x="3053" y="1889"/>
                  </a:lnTo>
                  <a:lnTo>
                    <a:pt x="3057" y="1889"/>
                  </a:lnTo>
                  <a:lnTo>
                    <a:pt x="3061" y="1889"/>
                  </a:lnTo>
                  <a:lnTo>
                    <a:pt x="3065" y="1889"/>
                  </a:lnTo>
                  <a:lnTo>
                    <a:pt x="3069" y="1889"/>
                  </a:lnTo>
                  <a:lnTo>
                    <a:pt x="3073" y="1889"/>
                  </a:lnTo>
                  <a:lnTo>
                    <a:pt x="3077" y="1889"/>
                  </a:lnTo>
                  <a:lnTo>
                    <a:pt x="3082" y="1889"/>
                  </a:lnTo>
                  <a:lnTo>
                    <a:pt x="3086" y="1889"/>
                  </a:lnTo>
                  <a:lnTo>
                    <a:pt x="3090" y="1889"/>
                  </a:lnTo>
                  <a:lnTo>
                    <a:pt x="3094" y="1889"/>
                  </a:lnTo>
                  <a:lnTo>
                    <a:pt x="3098" y="1889"/>
                  </a:lnTo>
                  <a:lnTo>
                    <a:pt x="3102" y="1889"/>
                  </a:lnTo>
                  <a:lnTo>
                    <a:pt x="3106" y="1889"/>
                  </a:lnTo>
                  <a:lnTo>
                    <a:pt x="3110" y="1889"/>
                  </a:lnTo>
                  <a:lnTo>
                    <a:pt x="3114" y="1889"/>
                  </a:lnTo>
                  <a:lnTo>
                    <a:pt x="3119" y="1889"/>
                  </a:lnTo>
                  <a:lnTo>
                    <a:pt x="3123" y="1889"/>
                  </a:lnTo>
                  <a:lnTo>
                    <a:pt x="3127" y="1889"/>
                  </a:lnTo>
                  <a:lnTo>
                    <a:pt x="3131" y="1889"/>
                  </a:lnTo>
                  <a:lnTo>
                    <a:pt x="3135" y="1889"/>
                  </a:lnTo>
                  <a:lnTo>
                    <a:pt x="3139" y="1889"/>
                  </a:lnTo>
                  <a:lnTo>
                    <a:pt x="3143" y="1889"/>
                  </a:lnTo>
                  <a:lnTo>
                    <a:pt x="3147" y="1889"/>
                  </a:lnTo>
                  <a:lnTo>
                    <a:pt x="3151" y="1889"/>
                  </a:lnTo>
                  <a:lnTo>
                    <a:pt x="3155" y="18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91240" y="5324400"/>
              <a:ext cx="39960" cy="6372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2" y="0"/>
                  </a:lnTo>
                  <a:lnTo>
                    <a:pt x="25" y="40"/>
                  </a:lnTo>
                  <a:lnTo>
                    <a:pt x="0" y="4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597720" y="5335560"/>
              <a:ext cx="39600" cy="63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3" y="0"/>
                  </a:lnTo>
                  <a:lnTo>
                    <a:pt x="25" y="40"/>
                  </a:lnTo>
                  <a:lnTo>
                    <a:pt x="0" y="4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84880" y="5324400"/>
              <a:ext cx="39600" cy="6372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2" y="0"/>
                  </a:lnTo>
                  <a:lnTo>
                    <a:pt x="25" y="40"/>
                  </a:lnTo>
                  <a:lnTo>
                    <a:pt x="0" y="4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86600" y="5292720"/>
              <a:ext cx="39600" cy="63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3" y="0"/>
                  </a:lnTo>
                  <a:lnTo>
                    <a:pt x="25" y="40"/>
                  </a:lnTo>
                  <a:lnTo>
                    <a:pt x="0" y="4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938920" y="5324400"/>
              <a:ext cx="39600" cy="6372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3" y="0"/>
                  </a:lnTo>
                  <a:lnTo>
                    <a:pt x="25" y="40"/>
                  </a:lnTo>
                  <a:lnTo>
                    <a:pt x="0" y="4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567400" y="5324400"/>
              <a:ext cx="39600" cy="6372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2" y="0"/>
                  </a:lnTo>
                  <a:lnTo>
                    <a:pt x="25" y="40"/>
                  </a:lnTo>
                  <a:lnTo>
                    <a:pt x="0" y="4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234040" y="531324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0" y="41"/>
                  </a:moveTo>
                  <a:lnTo>
                    <a:pt x="13" y="0"/>
                  </a:lnTo>
                  <a:lnTo>
                    <a:pt x="25" y="41"/>
                  </a:lnTo>
                  <a:lnTo>
                    <a:pt x="0" y="4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86360" y="5292720"/>
              <a:ext cx="39600" cy="63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3" y="0"/>
                  </a:lnTo>
                  <a:lnTo>
                    <a:pt x="25" y="40"/>
                  </a:lnTo>
                  <a:lnTo>
                    <a:pt x="0" y="4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751280" y="5057640"/>
              <a:ext cx="39960" cy="6372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3" y="0"/>
                  </a:lnTo>
                  <a:lnTo>
                    <a:pt x="25" y="40"/>
                  </a:lnTo>
                  <a:lnTo>
                    <a:pt x="0" y="4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95760" y="4309920"/>
              <a:ext cx="38160" cy="65160"/>
            </a:xfrm>
            <a:custGeom>
              <a:avLst/>
              <a:gdLst/>
              <a:ahLst/>
              <a:rect l="l" t="t" r="r" b="b"/>
              <a:pathLst>
                <a:path w="24" h="41">
                  <a:moveTo>
                    <a:pt x="0" y="41"/>
                  </a:moveTo>
                  <a:lnTo>
                    <a:pt x="12" y="0"/>
                  </a:lnTo>
                  <a:lnTo>
                    <a:pt x="24" y="41"/>
                  </a:lnTo>
                  <a:lnTo>
                    <a:pt x="0" y="4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38800" y="3254400"/>
              <a:ext cx="39600" cy="63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2" y="0"/>
                  </a:lnTo>
                  <a:lnTo>
                    <a:pt x="25" y="40"/>
                  </a:lnTo>
                  <a:lnTo>
                    <a:pt x="0" y="4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95880" y="2325600"/>
              <a:ext cx="38160" cy="6372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0" y="40"/>
                  </a:moveTo>
                  <a:lnTo>
                    <a:pt x="12" y="0"/>
                  </a:lnTo>
                  <a:lnTo>
                    <a:pt x="24" y="40"/>
                  </a:lnTo>
                  <a:lnTo>
                    <a:pt x="0" y="4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38560" y="246384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0" y="41"/>
                  </a:moveTo>
                  <a:lnTo>
                    <a:pt x="12" y="0"/>
                  </a:lnTo>
                  <a:lnTo>
                    <a:pt x="25" y="41"/>
                  </a:lnTo>
                  <a:lnTo>
                    <a:pt x="0" y="4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956040" y="3019320"/>
              <a:ext cx="39600" cy="6372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2" y="0"/>
                  </a:lnTo>
                  <a:lnTo>
                    <a:pt x="25" y="40"/>
                  </a:lnTo>
                  <a:lnTo>
                    <a:pt x="0" y="4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73520" y="3692520"/>
              <a:ext cx="39600" cy="63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2" y="0"/>
                  </a:lnTo>
                  <a:lnTo>
                    <a:pt x="25" y="40"/>
                  </a:lnTo>
                  <a:lnTo>
                    <a:pt x="0" y="4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03600" y="4151160"/>
              <a:ext cx="39600" cy="6372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2" y="0"/>
                  </a:lnTo>
                  <a:lnTo>
                    <a:pt x="25" y="40"/>
                  </a:lnTo>
                  <a:lnTo>
                    <a:pt x="0" y="4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460680" y="4438800"/>
              <a:ext cx="3816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0" y="40"/>
                  </a:moveTo>
                  <a:lnTo>
                    <a:pt x="12" y="0"/>
                  </a:lnTo>
                  <a:lnTo>
                    <a:pt x="24" y="40"/>
                  </a:lnTo>
                  <a:lnTo>
                    <a:pt x="0" y="4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316320" y="4653000"/>
              <a:ext cx="39600" cy="63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3" y="0"/>
                  </a:lnTo>
                  <a:lnTo>
                    <a:pt x="25" y="40"/>
                  </a:lnTo>
                  <a:lnTo>
                    <a:pt x="0" y="4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186000" y="4791240"/>
              <a:ext cx="39960" cy="63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2" y="0"/>
                  </a:lnTo>
                  <a:lnTo>
                    <a:pt x="25" y="40"/>
                  </a:lnTo>
                  <a:lnTo>
                    <a:pt x="0" y="4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56040" y="4897440"/>
              <a:ext cx="39600" cy="63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2" y="0"/>
                  </a:lnTo>
                  <a:lnTo>
                    <a:pt x="25" y="40"/>
                  </a:lnTo>
                  <a:lnTo>
                    <a:pt x="0" y="4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925720" y="4994280"/>
              <a:ext cx="3816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0" y="40"/>
                  </a:moveTo>
                  <a:lnTo>
                    <a:pt x="12" y="0"/>
                  </a:lnTo>
                  <a:lnTo>
                    <a:pt x="24" y="40"/>
                  </a:lnTo>
                  <a:lnTo>
                    <a:pt x="0" y="4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795760" y="5068800"/>
              <a:ext cx="37800" cy="6372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0" y="40"/>
                  </a:moveTo>
                  <a:lnTo>
                    <a:pt x="12" y="0"/>
                  </a:lnTo>
                  <a:lnTo>
                    <a:pt x="24" y="40"/>
                  </a:lnTo>
                  <a:lnTo>
                    <a:pt x="0" y="4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57520" y="51642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0" y="41"/>
                  </a:moveTo>
                  <a:lnTo>
                    <a:pt x="13" y="0"/>
                  </a:lnTo>
                  <a:lnTo>
                    <a:pt x="25" y="41"/>
                  </a:lnTo>
                  <a:lnTo>
                    <a:pt x="0" y="4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481120" y="5270400"/>
              <a:ext cx="3996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0" y="41"/>
                  </a:moveTo>
                  <a:lnTo>
                    <a:pt x="13" y="0"/>
                  </a:lnTo>
                  <a:lnTo>
                    <a:pt x="25" y="41"/>
                  </a:lnTo>
                  <a:lnTo>
                    <a:pt x="0" y="4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5543640" y="1190520"/>
              <a:ext cx="2174760" cy="1307880"/>
              <a:chOff x="5543640" y="1190520"/>
              <a:chExt cx="2174760" cy="1307880"/>
            </a:xfrm>
          </p:grpSpPr>
          <p:sp>
            <p:nvSpPr>
              <p:cNvPr id="492" name=""/>
              <p:cNvSpPr/>
              <p:nvPr/>
            </p:nvSpPr>
            <p:spPr>
              <a:xfrm>
                <a:off x="5543640" y="1190520"/>
                <a:ext cx="2174760" cy="1307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3" name=""/>
              <p:cNvGrpSpPr/>
              <p:nvPr/>
            </p:nvGrpSpPr>
            <p:grpSpPr>
              <a:xfrm>
                <a:off x="5608440" y="1215720"/>
                <a:ext cx="2105280" cy="1269360"/>
                <a:chOff x="5608440" y="1215720"/>
                <a:chExt cx="2105280" cy="126936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5965560" y="1215720"/>
                  <a:ext cx="1460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ahoma"/>
                    </a:rPr>
                    <a:t>50% SC; Conv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5608440" y="1384200"/>
                  <a:ext cx="339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608440" y="1658880"/>
                  <a:ext cx="339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952960" y="1490400"/>
                  <a:ext cx="176076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ahoma"/>
                    </a:rPr>
                    <a:t>50% SC; Humi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608440" y="2001600"/>
                  <a:ext cx="338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965560" y="1833480"/>
                  <a:ext cx="1460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ahoma"/>
                    </a:rPr>
                    <a:t>70% SC; Conv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608440" y="2315880"/>
                  <a:ext cx="339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952960" y="2147760"/>
                  <a:ext cx="176076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ahoma"/>
                    </a:rPr>
                    <a:t>70% SC; Humi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738760" y="1595160"/>
                  <a:ext cx="79200" cy="128520"/>
                </a:xfrm>
                <a:custGeom>
                  <a:avLst/>
                  <a:gdLst/>
                  <a:ahLst/>
                  <a:rect l="l" t="t" r="r" b="b"/>
                  <a:pathLst>
                    <a:path w="25" h="40">
                      <a:moveTo>
                        <a:pt x="0" y="20"/>
                      </a:moveTo>
                      <a:lnTo>
                        <a:pt x="25" y="20"/>
                      </a:lnTo>
                      <a:lnTo>
                        <a:pt x="13" y="20"/>
                      </a:lnTo>
                      <a:lnTo>
                        <a:pt x="13" y="0"/>
                      </a:lnTo>
                      <a:lnTo>
                        <a:pt x="13" y="40"/>
                      </a:lnTo>
                      <a:lnTo>
                        <a:pt x="13" y="2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738760" y="1320480"/>
                  <a:ext cx="79200" cy="1288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740200" y="1936440"/>
                  <a:ext cx="76320" cy="128880"/>
                </a:xfrm>
                <a:custGeom>
                  <a:avLst/>
                  <a:gdLst/>
                  <a:ahLst/>
                  <a:rect l="l" t="t" r="r" b="b"/>
                  <a:pathLst>
                    <a:path w="24" h="40">
                      <a:moveTo>
                        <a:pt x="0" y="40"/>
                      </a:moveTo>
                      <a:lnTo>
                        <a:pt x="12" y="0"/>
                      </a:lnTo>
                      <a:lnTo>
                        <a:pt x="24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38760" y="2252520"/>
                  <a:ext cx="79200" cy="128520"/>
                </a:xfrm>
                <a:custGeom>
                  <a:avLst/>
                  <a:gdLst/>
                  <a:ahLst/>
                  <a:rect l="l" t="t" r="r" b="b"/>
                  <a:pathLst>
                    <a:path w="25" h="40">
                      <a:moveTo>
                        <a:pt x="0" y="0"/>
                      </a:moveTo>
                      <a:lnTo>
                        <a:pt x="25" y="40"/>
                      </a:lnTo>
                      <a:lnTo>
                        <a:pt x="13" y="20"/>
                      </a:lnTo>
                      <a:lnTo>
                        <a:pt x="25" y="0"/>
                      </a:lnTo>
                      <a:lnTo>
                        <a:pt x="0" y="40"/>
                      </a:lnTo>
                      <a:lnTo>
                        <a:pt x="13" y="2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6" name=""/>
            <p:cNvSpPr/>
            <p:nvPr/>
          </p:nvSpPr>
          <p:spPr>
            <a:xfrm>
              <a:off x="2322360" y="1190520"/>
              <a:ext cx="5399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7719840" y="1195560"/>
              <a:ext cx="0" cy="417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854640" y="579600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1222200" y="987480"/>
            <a:ext cx="6884640" cy="3944880"/>
            <a:chOff x="1222200" y="987480"/>
            <a:chExt cx="6884640" cy="3944880"/>
          </a:xfrm>
        </p:grpSpPr>
        <p:sp>
          <p:nvSpPr>
            <p:cNvPr id="510" name=""/>
            <p:cNvSpPr/>
            <p:nvPr/>
          </p:nvSpPr>
          <p:spPr>
            <a:xfrm>
              <a:off x="1976400" y="1047600"/>
              <a:ext cx="5659560" cy="313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86120" y="3878280"/>
              <a:ext cx="5659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986120" y="3530520"/>
              <a:ext cx="5659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986120" y="3182760"/>
              <a:ext cx="5659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86120" y="2835360"/>
              <a:ext cx="5659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86120" y="2486160"/>
              <a:ext cx="5659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986120" y="2138400"/>
              <a:ext cx="5659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986120" y="1790640"/>
              <a:ext cx="5659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986120" y="1442880"/>
              <a:ext cx="5659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86120" y="1095480"/>
              <a:ext cx="5659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986120" y="1095480"/>
              <a:ext cx="5659200" cy="313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986120" y="1095480"/>
              <a:ext cx="0" cy="3130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27080" y="4226040"/>
              <a:ext cx="59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27080" y="3878280"/>
              <a:ext cx="59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927080" y="3530520"/>
              <a:ext cx="59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27080" y="3182760"/>
              <a:ext cx="59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927080" y="2835360"/>
              <a:ext cx="59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27080" y="2486160"/>
              <a:ext cx="59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927080" y="2138400"/>
              <a:ext cx="59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927080" y="1790640"/>
              <a:ext cx="59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927080" y="1442880"/>
              <a:ext cx="59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927080" y="1095480"/>
              <a:ext cx="59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986120" y="4226040"/>
              <a:ext cx="5659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1986120" y="4225680"/>
              <a:ext cx="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2692440" y="4225680"/>
              <a:ext cx="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3400560" y="4225680"/>
              <a:ext cx="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4106880" y="4225680"/>
              <a:ext cx="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4815000" y="4225680"/>
              <a:ext cx="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5522760" y="4225680"/>
              <a:ext cx="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6230880" y="4225680"/>
              <a:ext cx="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6937200" y="4225680"/>
              <a:ext cx="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7645320" y="4225680"/>
              <a:ext cx="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499000" y="2811600"/>
              <a:ext cx="4788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0"/>
                  </a:moveTo>
                  <a:lnTo>
                    <a:pt x="30" y="15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70600" y="2671920"/>
              <a:ext cx="4788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0"/>
                  </a:moveTo>
                  <a:lnTo>
                    <a:pt x="30" y="15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124760" y="2602080"/>
              <a:ext cx="4752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0"/>
                  </a:moveTo>
                  <a:lnTo>
                    <a:pt x="30" y="15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267680" y="2584440"/>
              <a:ext cx="47520" cy="4932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15" y="0"/>
                  </a:moveTo>
                  <a:lnTo>
                    <a:pt x="30" y="16"/>
                  </a:lnTo>
                  <a:lnTo>
                    <a:pt x="15" y="31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965320" y="3316320"/>
              <a:ext cx="4788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0"/>
                  </a:moveTo>
                  <a:lnTo>
                    <a:pt x="30" y="15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419640" y="3209760"/>
              <a:ext cx="47520" cy="4932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15" y="0"/>
                  </a:moveTo>
                  <a:lnTo>
                    <a:pt x="30" y="16"/>
                  </a:lnTo>
                  <a:lnTo>
                    <a:pt x="15" y="31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37080" y="301932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0"/>
                  </a:moveTo>
                  <a:lnTo>
                    <a:pt x="30" y="15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499000" y="2811600"/>
              <a:ext cx="4788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0"/>
                  </a:moveTo>
                  <a:lnTo>
                    <a:pt x="30" y="15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672240" y="248112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0"/>
                  </a:moveTo>
                  <a:lnTo>
                    <a:pt x="30" y="15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196040" y="2114640"/>
              <a:ext cx="49320" cy="48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31" y="15"/>
                  </a:lnTo>
                  <a:lnTo>
                    <a:pt x="16" y="31"/>
                  </a:lnTo>
                  <a:lnTo>
                    <a:pt x="0" y="1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507440" y="3089160"/>
              <a:ext cx="47520" cy="4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489720" y="3176640"/>
              <a:ext cx="4608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913440" y="3349800"/>
              <a:ext cx="46080" cy="4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182000" y="2986200"/>
              <a:ext cx="4752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027920" y="3193920"/>
              <a:ext cx="4608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365960" y="3106800"/>
              <a:ext cx="4752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535880" y="2879640"/>
              <a:ext cx="47520" cy="4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64600" y="2741760"/>
              <a:ext cx="47520" cy="4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423200" y="3019320"/>
              <a:ext cx="46080" cy="4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13160" y="3751200"/>
              <a:ext cx="47520" cy="46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219720" y="3627360"/>
              <a:ext cx="47880" cy="47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527800" y="3681360"/>
              <a:ext cx="46080" cy="46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76960" y="3506760"/>
              <a:ext cx="47520" cy="47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267680" y="2220840"/>
              <a:ext cx="46080" cy="46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294680" y="1541520"/>
              <a:ext cx="47520" cy="47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621560" y="1419120"/>
              <a:ext cx="46080" cy="47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34840" y="41180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629720" y="3770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29720" y="34225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629720" y="30751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629720" y="27273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23160" y="23781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523160" y="20304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523160" y="1682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523160" y="1335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523160" y="987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99280" y="439092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.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507040" y="439092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5.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215160" y="439092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0.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921480" y="439092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5.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29600" y="439092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.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37720" y="439092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5.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44040" y="439092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0.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752160" y="439092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5.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05920" y="439092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.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927960" y="4703760"/>
              <a:ext cx="178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Relative density / %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6200000">
              <a:off x="465840" y="2545560"/>
              <a:ext cx="174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Avg grain size / n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49520" y="1298520"/>
              <a:ext cx="4924440" cy="2444760"/>
            </a:xfrm>
            <a:custGeom>
              <a:avLst/>
              <a:gdLst/>
              <a:ahLst/>
              <a:rect l="l" t="t" r="r" b="b"/>
              <a:pathLst>
                <a:path w="3102" h="1540">
                  <a:moveTo>
                    <a:pt x="0" y="1540"/>
                  </a:moveTo>
                  <a:cubicBezTo>
                    <a:pt x="775" y="1526"/>
                    <a:pt x="1550" y="1512"/>
                    <a:pt x="1954" y="1491"/>
                  </a:cubicBezTo>
                  <a:cubicBezTo>
                    <a:pt x="2358" y="1470"/>
                    <a:pt x="2305" y="1457"/>
                    <a:pt x="2423" y="1414"/>
                  </a:cubicBezTo>
                  <a:cubicBezTo>
                    <a:pt x="2541" y="1371"/>
                    <a:pt x="2581" y="1336"/>
                    <a:pt x="2662" y="1234"/>
                  </a:cubicBezTo>
                  <a:cubicBezTo>
                    <a:pt x="2744" y="1132"/>
                    <a:pt x="2838" y="1007"/>
                    <a:pt x="2911" y="802"/>
                  </a:cubicBezTo>
                  <a:cubicBezTo>
                    <a:pt x="2984" y="596"/>
                    <a:pt x="3043" y="298"/>
                    <a:pt x="310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000240" y="2139840"/>
              <a:ext cx="4200840" cy="1185840"/>
            </a:xfrm>
            <a:custGeom>
              <a:avLst/>
              <a:gdLst/>
              <a:ahLst/>
              <a:rect l="l" t="t" r="r" b="b"/>
              <a:pathLst>
                <a:path w="2646" h="747">
                  <a:moveTo>
                    <a:pt x="0" y="738"/>
                  </a:moveTo>
                  <a:lnTo>
                    <a:pt x="9" y="737"/>
                  </a:lnTo>
                  <a:lnTo>
                    <a:pt x="10" y="745"/>
                  </a:lnTo>
                  <a:lnTo>
                    <a:pt x="2" y="747"/>
                  </a:lnTo>
                  <a:lnTo>
                    <a:pt x="0" y="738"/>
                  </a:lnTo>
                  <a:close/>
                  <a:moveTo>
                    <a:pt x="18" y="735"/>
                  </a:moveTo>
                  <a:lnTo>
                    <a:pt x="27" y="733"/>
                  </a:lnTo>
                  <a:lnTo>
                    <a:pt x="28" y="742"/>
                  </a:lnTo>
                  <a:lnTo>
                    <a:pt x="19" y="744"/>
                  </a:lnTo>
                  <a:lnTo>
                    <a:pt x="18" y="735"/>
                  </a:lnTo>
                  <a:close/>
                  <a:moveTo>
                    <a:pt x="35" y="732"/>
                  </a:moveTo>
                  <a:lnTo>
                    <a:pt x="44" y="730"/>
                  </a:lnTo>
                  <a:lnTo>
                    <a:pt x="46" y="739"/>
                  </a:lnTo>
                  <a:lnTo>
                    <a:pt x="37" y="741"/>
                  </a:lnTo>
                  <a:lnTo>
                    <a:pt x="35" y="732"/>
                  </a:lnTo>
                  <a:close/>
                  <a:moveTo>
                    <a:pt x="53" y="729"/>
                  </a:moveTo>
                  <a:lnTo>
                    <a:pt x="62" y="727"/>
                  </a:lnTo>
                  <a:lnTo>
                    <a:pt x="63" y="736"/>
                  </a:lnTo>
                  <a:lnTo>
                    <a:pt x="55" y="738"/>
                  </a:lnTo>
                  <a:lnTo>
                    <a:pt x="53" y="729"/>
                  </a:lnTo>
                  <a:close/>
                  <a:moveTo>
                    <a:pt x="71" y="725"/>
                  </a:moveTo>
                  <a:lnTo>
                    <a:pt x="79" y="724"/>
                  </a:lnTo>
                  <a:lnTo>
                    <a:pt x="81" y="733"/>
                  </a:lnTo>
                  <a:lnTo>
                    <a:pt x="72" y="734"/>
                  </a:lnTo>
                  <a:lnTo>
                    <a:pt x="71" y="725"/>
                  </a:lnTo>
                  <a:close/>
                  <a:moveTo>
                    <a:pt x="88" y="722"/>
                  </a:moveTo>
                  <a:lnTo>
                    <a:pt x="97" y="721"/>
                  </a:lnTo>
                  <a:lnTo>
                    <a:pt x="99" y="729"/>
                  </a:lnTo>
                  <a:lnTo>
                    <a:pt x="90" y="731"/>
                  </a:lnTo>
                  <a:lnTo>
                    <a:pt x="88" y="722"/>
                  </a:lnTo>
                  <a:close/>
                  <a:moveTo>
                    <a:pt x="106" y="719"/>
                  </a:moveTo>
                  <a:lnTo>
                    <a:pt x="115" y="717"/>
                  </a:lnTo>
                  <a:lnTo>
                    <a:pt x="116" y="726"/>
                  </a:lnTo>
                  <a:lnTo>
                    <a:pt x="107" y="728"/>
                  </a:lnTo>
                  <a:lnTo>
                    <a:pt x="106" y="719"/>
                  </a:lnTo>
                  <a:close/>
                  <a:moveTo>
                    <a:pt x="124" y="716"/>
                  </a:moveTo>
                  <a:lnTo>
                    <a:pt x="132" y="714"/>
                  </a:lnTo>
                  <a:lnTo>
                    <a:pt x="134" y="723"/>
                  </a:lnTo>
                  <a:lnTo>
                    <a:pt x="125" y="725"/>
                  </a:lnTo>
                  <a:lnTo>
                    <a:pt x="124" y="716"/>
                  </a:lnTo>
                  <a:close/>
                  <a:moveTo>
                    <a:pt x="141" y="713"/>
                  </a:moveTo>
                  <a:lnTo>
                    <a:pt x="150" y="711"/>
                  </a:lnTo>
                  <a:lnTo>
                    <a:pt x="152" y="720"/>
                  </a:lnTo>
                  <a:lnTo>
                    <a:pt x="143" y="722"/>
                  </a:lnTo>
                  <a:lnTo>
                    <a:pt x="141" y="713"/>
                  </a:lnTo>
                  <a:close/>
                  <a:moveTo>
                    <a:pt x="159" y="709"/>
                  </a:moveTo>
                  <a:lnTo>
                    <a:pt x="168" y="708"/>
                  </a:lnTo>
                  <a:lnTo>
                    <a:pt x="169" y="717"/>
                  </a:lnTo>
                  <a:lnTo>
                    <a:pt x="161" y="718"/>
                  </a:lnTo>
                  <a:lnTo>
                    <a:pt x="159" y="709"/>
                  </a:lnTo>
                  <a:close/>
                  <a:moveTo>
                    <a:pt x="177" y="706"/>
                  </a:moveTo>
                  <a:lnTo>
                    <a:pt x="185" y="705"/>
                  </a:lnTo>
                  <a:lnTo>
                    <a:pt x="187" y="714"/>
                  </a:lnTo>
                  <a:lnTo>
                    <a:pt x="178" y="715"/>
                  </a:lnTo>
                  <a:lnTo>
                    <a:pt x="177" y="706"/>
                  </a:lnTo>
                  <a:close/>
                  <a:moveTo>
                    <a:pt x="194" y="703"/>
                  </a:moveTo>
                  <a:lnTo>
                    <a:pt x="203" y="702"/>
                  </a:lnTo>
                  <a:lnTo>
                    <a:pt x="205" y="710"/>
                  </a:lnTo>
                  <a:lnTo>
                    <a:pt x="196" y="712"/>
                  </a:lnTo>
                  <a:lnTo>
                    <a:pt x="194" y="703"/>
                  </a:lnTo>
                  <a:close/>
                  <a:moveTo>
                    <a:pt x="212" y="700"/>
                  </a:moveTo>
                  <a:lnTo>
                    <a:pt x="221" y="698"/>
                  </a:lnTo>
                  <a:lnTo>
                    <a:pt x="222" y="707"/>
                  </a:lnTo>
                  <a:lnTo>
                    <a:pt x="214" y="709"/>
                  </a:lnTo>
                  <a:lnTo>
                    <a:pt x="212" y="700"/>
                  </a:lnTo>
                  <a:close/>
                  <a:moveTo>
                    <a:pt x="229" y="697"/>
                  </a:moveTo>
                  <a:lnTo>
                    <a:pt x="238" y="695"/>
                  </a:lnTo>
                  <a:lnTo>
                    <a:pt x="240" y="704"/>
                  </a:lnTo>
                  <a:lnTo>
                    <a:pt x="231" y="705"/>
                  </a:lnTo>
                  <a:lnTo>
                    <a:pt x="229" y="697"/>
                  </a:lnTo>
                  <a:close/>
                  <a:moveTo>
                    <a:pt x="247" y="693"/>
                  </a:moveTo>
                  <a:lnTo>
                    <a:pt x="256" y="692"/>
                  </a:lnTo>
                  <a:lnTo>
                    <a:pt x="258" y="701"/>
                  </a:lnTo>
                  <a:lnTo>
                    <a:pt x="249" y="702"/>
                  </a:lnTo>
                  <a:lnTo>
                    <a:pt x="247" y="693"/>
                  </a:lnTo>
                  <a:close/>
                  <a:moveTo>
                    <a:pt x="265" y="690"/>
                  </a:moveTo>
                  <a:lnTo>
                    <a:pt x="274" y="689"/>
                  </a:lnTo>
                  <a:lnTo>
                    <a:pt x="275" y="698"/>
                  </a:lnTo>
                  <a:lnTo>
                    <a:pt x="266" y="699"/>
                  </a:lnTo>
                  <a:lnTo>
                    <a:pt x="265" y="690"/>
                  </a:lnTo>
                  <a:close/>
                  <a:moveTo>
                    <a:pt x="283" y="687"/>
                  </a:moveTo>
                  <a:lnTo>
                    <a:pt x="291" y="685"/>
                  </a:lnTo>
                  <a:lnTo>
                    <a:pt x="293" y="694"/>
                  </a:lnTo>
                  <a:lnTo>
                    <a:pt x="284" y="696"/>
                  </a:lnTo>
                  <a:lnTo>
                    <a:pt x="283" y="687"/>
                  </a:lnTo>
                  <a:close/>
                  <a:moveTo>
                    <a:pt x="300" y="684"/>
                  </a:moveTo>
                  <a:lnTo>
                    <a:pt x="309" y="682"/>
                  </a:lnTo>
                  <a:lnTo>
                    <a:pt x="311" y="691"/>
                  </a:lnTo>
                  <a:lnTo>
                    <a:pt x="302" y="693"/>
                  </a:lnTo>
                  <a:lnTo>
                    <a:pt x="300" y="684"/>
                  </a:lnTo>
                  <a:close/>
                  <a:moveTo>
                    <a:pt x="318" y="681"/>
                  </a:moveTo>
                  <a:lnTo>
                    <a:pt x="327" y="679"/>
                  </a:lnTo>
                  <a:lnTo>
                    <a:pt x="328" y="688"/>
                  </a:lnTo>
                  <a:lnTo>
                    <a:pt x="319" y="689"/>
                  </a:lnTo>
                  <a:lnTo>
                    <a:pt x="318" y="681"/>
                  </a:lnTo>
                  <a:close/>
                  <a:moveTo>
                    <a:pt x="336" y="677"/>
                  </a:moveTo>
                  <a:lnTo>
                    <a:pt x="343" y="676"/>
                  </a:lnTo>
                  <a:lnTo>
                    <a:pt x="344" y="676"/>
                  </a:lnTo>
                  <a:lnTo>
                    <a:pt x="346" y="685"/>
                  </a:lnTo>
                  <a:lnTo>
                    <a:pt x="344" y="685"/>
                  </a:lnTo>
                  <a:lnTo>
                    <a:pt x="337" y="686"/>
                  </a:lnTo>
                  <a:lnTo>
                    <a:pt x="336" y="677"/>
                  </a:lnTo>
                  <a:close/>
                  <a:moveTo>
                    <a:pt x="353" y="674"/>
                  </a:moveTo>
                  <a:lnTo>
                    <a:pt x="362" y="673"/>
                  </a:lnTo>
                  <a:lnTo>
                    <a:pt x="364" y="682"/>
                  </a:lnTo>
                  <a:lnTo>
                    <a:pt x="355" y="683"/>
                  </a:lnTo>
                  <a:lnTo>
                    <a:pt x="353" y="674"/>
                  </a:lnTo>
                  <a:close/>
                  <a:moveTo>
                    <a:pt x="371" y="671"/>
                  </a:moveTo>
                  <a:lnTo>
                    <a:pt x="380" y="669"/>
                  </a:lnTo>
                  <a:lnTo>
                    <a:pt x="381" y="678"/>
                  </a:lnTo>
                  <a:lnTo>
                    <a:pt x="373" y="680"/>
                  </a:lnTo>
                  <a:lnTo>
                    <a:pt x="371" y="671"/>
                  </a:lnTo>
                  <a:close/>
                  <a:moveTo>
                    <a:pt x="389" y="668"/>
                  </a:moveTo>
                  <a:lnTo>
                    <a:pt x="397" y="666"/>
                  </a:lnTo>
                  <a:lnTo>
                    <a:pt x="399" y="675"/>
                  </a:lnTo>
                  <a:lnTo>
                    <a:pt x="390" y="677"/>
                  </a:lnTo>
                  <a:lnTo>
                    <a:pt x="389" y="668"/>
                  </a:lnTo>
                  <a:close/>
                  <a:moveTo>
                    <a:pt x="406" y="665"/>
                  </a:moveTo>
                  <a:lnTo>
                    <a:pt x="415" y="663"/>
                  </a:lnTo>
                  <a:lnTo>
                    <a:pt x="416" y="672"/>
                  </a:lnTo>
                  <a:lnTo>
                    <a:pt x="408" y="673"/>
                  </a:lnTo>
                  <a:lnTo>
                    <a:pt x="406" y="665"/>
                  </a:lnTo>
                  <a:close/>
                  <a:moveTo>
                    <a:pt x="424" y="661"/>
                  </a:moveTo>
                  <a:lnTo>
                    <a:pt x="433" y="660"/>
                  </a:lnTo>
                  <a:lnTo>
                    <a:pt x="434" y="669"/>
                  </a:lnTo>
                  <a:lnTo>
                    <a:pt x="425" y="670"/>
                  </a:lnTo>
                  <a:lnTo>
                    <a:pt x="424" y="661"/>
                  </a:lnTo>
                  <a:close/>
                  <a:moveTo>
                    <a:pt x="441" y="658"/>
                  </a:moveTo>
                  <a:lnTo>
                    <a:pt x="450" y="656"/>
                  </a:lnTo>
                  <a:lnTo>
                    <a:pt x="452" y="665"/>
                  </a:lnTo>
                  <a:lnTo>
                    <a:pt x="443" y="667"/>
                  </a:lnTo>
                  <a:lnTo>
                    <a:pt x="441" y="658"/>
                  </a:lnTo>
                  <a:close/>
                  <a:moveTo>
                    <a:pt x="459" y="655"/>
                  </a:moveTo>
                  <a:lnTo>
                    <a:pt x="468" y="653"/>
                  </a:lnTo>
                  <a:lnTo>
                    <a:pt x="470" y="662"/>
                  </a:lnTo>
                  <a:lnTo>
                    <a:pt x="461" y="664"/>
                  </a:lnTo>
                  <a:lnTo>
                    <a:pt x="459" y="655"/>
                  </a:lnTo>
                  <a:close/>
                  <a:moveTo>
                    <a:pt x="477" y="652"/>
                  </a:moveTo>
                  <a:lnTo>
                    <a:pt x="486" y="650"/>
                  </a:lnTo>
                  <a:lnTo>
                    <a:pt x="487" y="659"/>
                  </a:lnTo>
                  <a:lnTo>
                    <a:pt x="478" y="660"/>
                  </a:lnTo>
                  <a:lnTo>
                    <a:pt x="477" y="652"/>
                  </a:lnTo>
                  <a:close/>
                  <a:moveTo>
                    <a:pt x="494" y="648"/>
                  </a:moveTo>
                  <a:lnTo>
                    <a:pt x="503" y="647"/>
                  </a:lnTo>
                  <a:lnTo>
                    <a:pt x="505" y="656"/>
                  </a:lnTo>
                  <a:lnTo>
                    <a:pt x="496" y="657"/>
                  </a:lnTo>
                  <a:lnTo>
                    <a:pt x="494" y="648"/>
                  </a:lnTo>
                  <a:close/>
                  <a:moveTo>
                    <a:pt x="512" y="645"/>
                  </a:moveTo>
                  <a:lnTo>
                    <a:pt x="521" y="644"/>
                  </a:lnTo>
                  <a:lnTo>
                    <a:pt x="523" y="653"/>
                  </a:lnTo>
                  <a:lnTo>
                    <a:pt x="514" y="654"/>
                  </a:lnTo>
                  <a:lnTo>
                    <a:pt x="512" y="645"/>
                  </a:lnTo>
                  <a:close/>
                  <a:moveTo>
                    <a:pt x="530" y="642"/>
                  </a:moveTo>
                  <a:lnTo>
                    <a:pt x="539" y="640"/>
                  </a:lnTo>
                  <a:lnTo>
                    <a:pt x="540" y="649"/>
                  </a:lnTo>
                  <a:lnTo>
                    <a:pt x="531" y="651"/>
                  </a:lnTo>
                  <a:lnTo>
                    <a:pt x="530" y="642"/>
                  </a:lnTo>
                  <a:close/>
                  <a:moveTo>
                    <a:pt x="547" y="639"/>
                  </a:moveTo>
                  <a:lnTo>
                    <a:pt x="556" y="637"/>
                  </a:lnTo>
                  <a:lnTo>
                    <a:pt x="558" y="646"/>
                  </a:lnTo>
                  <a:lnTo>
                    <a:pt x="549" y="648"/>
                  </a:lnTo>
                  <a:lnTo>
                    <a:pt x="547" y="639"/>
                  </a:lnTo>
                  <a:close/>
                  <a:moveTo>
                    <a:pt x="565" y="635"/>
                  </a:moveTo>
                  <a:lnTo>
                    <a:pt x="567" y="635"/>
                  </a:lnTo>
                  <a:lnTo>
                    <a:pt x="574" y="634"/>
                  </a:lnTo>
                  <a:lnTo>
                    <a:pt x="576" y="643"/>
                  </a:lnTo>
                  <a:lnTo>
                    <a:pt x="569" y="644"/>
                  </a:lnTo>
                  <a:lnTo>
                    <a:pt x="567" y="644"/>
                  </a:lnTo>
                  <a:lnTo>
                    <a:pt x="565" y="635"/>
                  </a:lnTo>
                  <a:close/>
                  <a:moveTo>
                    <a:pt x="583" y="632"/>
                  </a:moveTo>
                  <a:lnTo>
                    <a:pt x="591" y="631"/>
                  </a:lnTo>
                  <a:lnTo>
                    <a:pt x="593" y="640"/>
                  </a:lnTo>
                  <a:lnTo>
                    <a:pt x="584" y="641"/>
                  </a:lnTo>
                  <a:lnTo>
                    <a:pt x="583" y="632"/>
                  </a:lnTo>
                  <a:close/>
                  <a:moveTo>
                    <a:pt x="600" y="629"/>
                  </a:moveTo>
                  <a:lnTo>
                    <a:pt x="609" y="627"/>
                  </a:lnTo>
                  <a:lnTo>
                    <a:pt x="611" y="636"/>
                  </a:lnTo>
                  <a:lnTo>
                    <a:pt x="602" y="638"/>
                  </a:lnTo>
                  <a:lnTo>
                    <a:pt x="600" y="629"/>
                  </a:lnTo>
                  <a:close/>
                  <a:moveTo>
                    <a:pt x="618" y="626"/>
                  </a:moveTo>
                  <a:lnTo>
                    <a:pt x="627" y="624"/>
                  </a:lnTo>
                  <a:lnTo>
                    <a:pt x="628" y="633"/>
                  </a:lnTo>
                  <a:lnTo>
                    <a:pt x="620" y="635"/>
                  </a:lnTo>
                  <a:lnTo>
                    <a:pt x="618" y="626"/>
                  </a:lnTo>
                  <a:close/>
                  <a:moveTo>
                    <a:pt x="636" y="622"/>
                  </a:moveTo>
                  <a:lnTo>
                    <a:pt x="644" y="621"/>
                  </a:lnTo>
                  <a:lnTo>
                    <a:pt x="646" y="630"/>
                  </a:lnTo>
                  <a:lnTo>
                    <a:pt x="637" y="631"/>
                  </a:lnTo>
                  <a:lnTo>
                    <a:pt x="636" y="622"/>
                  </a:lnTo>
                  <a:close/>
                  <a:moveTo>
                    <a:pt x="653" y="619"/>
                  </a:moveTo>
                  <a:lnTo>
                    <a:pt x="662" y="618"/>
                  </a:lnTo>
                  <a:lnTo>
                    <a:pt x="664" y="626"/>
                  </a:lnTo>
                  <a:lnTo>
                    <a:pt x="655" y="628"/>
                  </a:lnTo>
                  <a:lnTo>
                    <a:pt x="653" y="619"/>
                  </a:lnTo>
                  <a:close/>
                  <a:moveTo>
                    <a:pt x="671" y="616"/>
                  </a:moveTo>
                  <a:lnTo>
                    <a:pt x="677" y="615"/>
                  </a:lnTo>
                  <a:lnTo>
                    <a:pt x="680" y="614"/>
                  </a:lnTo>
                  <a:lnTo>
                    <a:pt x="681" y="623"/>
                  </a:lnTo>
                  <a:lnTo>
                    <a:pt x="679" y="624"/>
                  </a:lnTo>
                  <a:lnTo>
                    <a:pt x="673" y="625"/>
                  </a:lnTo>
                  <a:lnTo>
                    <a:pt x="671" y="616"/>
                  </a:lnTo>
                  <a:close/>
                  <a:moveTo>
                    <a:pt x="689" y="613"/>
                  </a:moveTo>
                  <a:lnTo>
                    <a:pt x="697" y="611"/>
                  </a:lnTo>
                  <a:lnTo>
                    <a:pt x="699" y="620"/>
                  </a:lnTo>
                  <a:lnTo>
                    <a:pt x="690" y="622"/>
                  </a:lnTo>
                  <a:lnTo>
                    <a:pt x="689" y="613"/>
                  </a:lnTo>
                  <a:close/>
                  <a:moveTo>
                    <a:pt x="706" y="609"/>
                  </a:moveTo>
                  <a:lnTo>
                    <a:pt x="715" y="608"/>
                  </a:lnTo>
                  <a:lnTo>
                    <a:pt x="717" y="617"/>
                  </a:lnTo>
                  <a:lnTo>
                    <a:pt x="708" y="618"/>
                  </a:lnTo>
                  <a:lnTo>
                    <a:pt x="706" y="609"/>
                  </a:lnTo>
                  <a:close/>
                  <a:moveTo>
                    <a:pt x="724" y="606"/>
                  </a:moveTo>
                  <a:lnTo>
                    <a:pt x="733" y="604"/>
                  </a:lnTo>
                  <a:lnTo>
                    <a:pt x="734" y="613"/>
                  </a:lnTo>
                  <a:lnTo>
                    <a:pt x="726" y="615"/>
                  </a:lnTo>
                  <a:lnTo>
                    <a:pt x="724" y="606"/>
                  </a:lnTo>
                  <a:close/>
                  <a:moveTo>
                    <a:pt x="742" y="603"/>
                  </a:moveTo>
                  <a:lnTo>
                    <a:pt x="750" y="601"/>
                  </a:lnTo>
                  <a:lnTo>
                    <a:pt x="752" y="610"/>
                  </a:lnTo>
                  <a:lnTo>
                    <a:pt x="743" y="612"/>
                  </a:lnTo>
                  <a:lnTo>
                    <a:pt x="742" y="603"/>
                  </a:lnTo>
                  <a:close/>
                  <a:moveTo>
                    <a:pt x="759" y="600"/>
                  </a:moveTo>
                  <a:lnTo>
                    <a:pt x="768" y="598"/>
                  </a:lnTo>
                  <a:lnTo>
                    <a:pt x="770" y="607"/>
                  </a:lnTo>
                  <a:lnTo>
                    <a:pt x="761" y="608"/>
                  </a:lnTo>
                  <a:lnTo>
                    <a:pt x="759" y="600"/>
                  </a:lnTo>
                  <a:close/>
                  <a:moveTo>
                    <a:pt x="777" y="596"/>
                  </a:moveTo>
                  <a:lnTo>
                    <a:pt x="785" y="595"/>
                  </a:lnTo>
                  <a:lnTo>
                    <a:pt x="786" y="595"/>
                  </a:lnTo>
                  <a:lnTo>
                    <a:pt x="787" y="604"/>
                  </a:lnTo>
                  <a:lnTo>
                    <a:pt x="787" y="604"/>
                  </a:lnTo>
                  <a:lnTo>
                    <a:pt x="778" y="605"/>
                  </a:lnTo>
                  <a:lnTo>
                    <a:pt x="777" y="596"/>
                  </a:lnTo>
                  <a:close/>
                  <a:moveTo>
                    <a:pt x="794" y="593"/>
                  </a:moveTo>
                  <a:lnTo>
                    <a:pt x="803" y="591"/>
                  </a:lnTo>
                  <a:lnTo>
                    <a:pt x="805" y="600"/>
                  </a:lnTo>
                  <a:lnTo>
                    <a:pt x="796" y="602"/>
                  </a:lnTo>
                  <a:lnTo>
                    <a:pt x="794" y="593"/>
                  </a:lnTo>
                  <a:close/>
                  <a:moveTo>
                    <a:pt x="812" y="590"/>
                  </a:moveTo>
                  <a:lnTo>
                    <a:pt x="821" y="588"/>
                  </a:lnTo>
                  <a:lnTo>
                    <a:pt x="823" y="597"/>
                  </a:lnTo>
                  <a:lnTo>
                    <a:pt x="814" y="598"/>
                  </a:lnTo>
                  <a:lnTo>
                    <a:pt x="812" y="590"/>
                  </a:lnTo>
                  <a:close/>
                  <a:moveTo>
                    <a:pt x="830" y="586"/>
                  </a:moveTo>
                  <a:lnTo>
                    <a:pt x="839" y="585"/>
                  </a:lnTo>
                  <a:lnTo>
                    <a:pt x="840" y="593"/>
                  </a:lnTo>
                  <a:lnTo>
                    <a:pt x="831" y="595"/>
                  </a:lnTo>
                  <a:lnTo>
                    <a:pt x="830" y="586"/>
                  </a:lnTo>
                  <a:close/>
                  <a:moveTo>
                    <a:pt x="847" y="583"/>
                  </a:moveTo>
                  <a:lnTo>
                    <a:pt x="856" y="581"/>
                  </a:lnTo>
                  <a:lnTo>
                    <a:pt x="858" y="590"/>
                  </a:lnTo>
                  <a:lnTo>
                    <a:pt x="849" y="592"/>
                  </a:lnTo>
                  <a:lnTo>
                    <a:pt x="847" y="583"/>
                  </a:lnTo>
                  <a:close/>
                  <a:moveTo>
                    <a:pt x="865" y="580"/>
                  </a:moveTo>
                  <a:lnTo>
                    <a:pt x="874" y="578"/>
                  </a:lnTo>
                  <a:lnTo>
                    <a:pt x="875" y="587"/>
                  </a:lnTo>
                  <a:lnTo>
                    <a:pt x="867" y="588"/>
                  </a:lnTo>
                  <a:lnTo>
                    <a:pt x="865" y="580"/>
                  </a:lnTo>
                  <a:close/>
                  <a:moveTo>
                    <a:pt x="883" y="576"/>
                  </a:moveTo>
                  <a:lnTo>
                    <a:pt x="890" y="575"/>
                  </a:lnTo>
                  <a:lnTo>
                    <a:pt x="891" y="575"/>
                  </a:lnTo>
                  <a:lnTo>
                    <a:pt x="893" y="584"/>
                  </a:lnTo>
                  <a:lnTo>
                    <a:pt x="892" y="584"/>
                  </a:lnTo>
                  <a:lnTo>
                    <a:pt x="884" y="585"/>
                  </a:lnTo>
                  <a:lnTo>
                    <a:pt x="883" y="576"/>
                  </a:lnTo>
                  <a:close/>
                  <a:moveTo>
                    <a:pt x="900" y="573"/>
                  </a:moveTo>
                  <a:lnTo>
                    <a:pt x="909" y="571"/>
                  </a:lnTo>
                  <a:lnTo>
                    <a:pt x="911" y="580"/>
                  </a:lnTo>
                  <a:lnTo>
                    <a:pt x="902" y="582"/>
                  </a:lnTo>
                  <a:lnTo>
                    <a:pt x="900" y="573"/>
                  </a:lnTo>
                  <a:close/>
                  <a:moveTo>
                    <a:pt x="918" y="570"/>
                  </a:moveTo>
                  <a:lnTo>
                    <a:pt x="927" y="568"/>
                  </a:lnTo>
                  <a:lnTo>
                    <a:pt x="928" y="577"/>
                  </a:lnTo>
                  <a:lnTo>
                    <a:pt x="920" y="579"/>
                  </a:lnTo>
                  <a:lnTo>
                    <a:pt x="918" y="570"/>
                  </a:lnTo>
                  <a:close/>
                  <a:moveTo>
                    <a:pt x="936" y="566"/>
                  </a:moveTo>
                  <a:lnTo>
                    <a:pt x="943" y="565"/>
                  </a:lnTo>
                  <a:lnTo>
                    <a:pt x="944" y="565"/>
                  </a:lnTo>
                  <a:lnTo>
                    <a:pt x="946" y="573"/>
                  </a:lnTo>
                  <a:lnTo>
                    <a:pt x="944" y="574"/>
                  </a:lnTo>
                  <a:lnTo>
                    <a:pt x="937" y="575"/>
                  </a:lnTo>
                  <a:lnTo>
                    <a:pt x="936" y="566"/>
                  </a:lnTo>
                  <a:close/>
                  <a:moveTo>
                    <a:pt x="953" y="563"/>
                  </a:moveTo>
                  <a:lnTo>
                    <a:pt x="962" y="561"/>
                  </a:lnTo>
                  <a:lnTo>
                    <a:pt x="964" y="570"/>
                  </a:lnTo>
                  <a:lnTo>
                    <a:pt x="955" y="572"/>
                  </a:lnTo>
                  <a:lnTo>
                    <a:pt x="953" y="563"/>
                  </a:lnTo>
                  <a:close/>
                  <a:moveTo>
                    <a:pt x="971" y="560"/>
                  </a:moveTo>
                  <a:lnTo>
                    <a:pt x="980" y="558"/>
                  </a:lnTo>
                  <a:lnTo>
                    <a:pt x="981" y="567"/>
                  </a:lnTo>
                  <a:lnTo>
                    <a:pt x="972" y="568"/>
                  </a:lnTo>
                  <a:lnTo>
                    <a:pt x="971" y="560"/>
                  </a:lnTo>
                  <a:close/>
                  <a:moveTo>
                    <a:pt x="988" y="556"/>
                  </a:moveTo>
                  <a:lnTo>
                    <a:pt x="994" y="555"/>
                  </a:lnTo>
                  <a:lnTo>
                    <a:pt x="997" y="555"/>
                  </a:lnTo>
                  <a:lnTo>
                    <a:pt x="999" y="563"/>
                  </a:lnTo>
                  <a:lnTo>
                    <a:pt x="995" y="564"/>
                  </a:lnTo>
                  <a:lnTo>
                    <a:pt x="990" y="565"/>
                  </a:lnTo>
                  <a:lnTo>
                    <a:pt x="988" y="556"/>
                  </a:lnTo>
                  <a:close/>
                  <a:moveTo>
                    <a:pt x="1006" y="553"/>
                  </a:moveTo>
                  <a:lnTo>
                    <a:pt x="1015" y="551"/>
                  </a:lnTo>
                  <a:lnTo>
                    <a:pt x="1017" y="560"/>
                  </a:lnTo>
                  <a:lnTo>
                    <a:pt x="1008" y="562"/>
                  </a:lnTo>
                  <a:lnTo>
                    <a:pt x="1006" y="553"/>
                  </a:lnTo>
                  <a:close/>
                  <a:moveTo>
                    <a:pt x="1024" y="550"/>
                  </a:moveTo>
                  <a:lnTo>
                    <a:pt x="1032" y="548"/>
                  </a:lnTo>
                  <a:lnTo>
                    <a:pt x="1034" y="557"/>
                  </a:lnTo>
                  <a:lnTo>
                    <a:pt x="1025" y="558"/>
                  </a:lnTo>
                  <a:lnTo>
                    <a:pt x="1024" y="550"/>
                  </a:lnTo>
                  <a:close/>
                  <a:moveTo>
                    <a:pt x="1041" y="546"/>
                  </a:moveTo>
                  <a:lnTo>
                    <a:pt x="1044" y="546"/>
                  </a:lnTo>
                  <a:lnTo>
                    <a:pt x="1050" y="544"/>
                  </a:lnTo>
                  <a:lnTo>
                    <a:pt x="1052" y="553"/>
                  </a:lnTo>
                  <a:lnTo>
                    <a:pt x="1046" y="554"/>
                  </a:lnTo>
                  <a:lnTo>
                    <a:pt x="1043" y="555"/>
                  </a:lnTo>
                  <a:lnTo>
                    <a:pt x="1041" y="546"/>
                  </a:lnTo>
                  <a:close/>
                  <a:moveTo>
                    <a:pt x="1059" y="543"/>
                  </a:moveTo>
                  <a:lnTo>
                    <a:pt x="1068" y="541"/>
                  </a:lnTo>
                  <a:lnTo>
                    <a:pt x="1069" y="550"/>
                  </a:lnTo>
                  <a:lnTo>
                    <a:pt x="1061" y="551"/>
                  </a:lnTo>
                  <a:lnTo>
                    <a:pt x="1059" y="543"/>
                  </a:lnTo>
                  <a:close/>
                  <a:moveTo>
                    <a:pt x="1077" y="539"/>
                  </a:moveTo>
                  <a:lnTo>
                    <a:pt x="1085" y="537"/>
                  </a:lnTo>
                  <a:lnTo>
                    <a:pt x="1087" y="546"/>
                  </a:lnTo>
                  <a:lnTo>
                    <a:pt x="1078" y="548"/>
                  </a:lnTo>
                  <a:lnTo>
                    <a:pt x="1077" y="539"/>
                  </a:lnTo>
                  <a:close/>
                  <a:moveTo>
                    <a:pt x="1094" y="536"/>
                  </a:moveTo>
                  <a:lnTo>
                    <a:pt x="1103" y="534"/>
                  </a:lnTo>
                  <a:lnTo>
                    <a:pt x="1105" y="543"/>
                  </a:lnTo>
                  <a:lnTo>
                    <a:pt x="1096" y="545"/>
                  </a:lnTo>
                  <a:lnTo>
                    <a:pt x="1094" y="536"/>
                  </a:lnTo>
                  <a:close/>
                  <a:moveTo>
                    <a:pt x="1112" y="532"/>
                  </a:moveTo>
                  <a:lnTo>
                    <a:pt x="1121" y="531"/>
                  </a:lnTo>
                  <a:lnTo>
                    <a:pt x="1122" y="539"/>
                  </a:lnTo>
                  <a:lnTo>
                    <a:pt x="1114" y="541"/>
                  </a:lnTo>
                  <a:lnTo>
                    <a:pt x="1112" y="532"/>
                  </a:lnTo>
                  <a:close/>
                  <a:moveTo>
                    <a:pt x="1129" y="529"/>
                  </a:moveTo>
                  <a:lnTo>
                    <a:pt x="1138" y="527"/>
                  </a:lnTo>
                  <a:lnTo>
                    <a:pt x="1140" y="536"/>
                  </a:lnTo>
                  <a:lnTo>
                    <a:pt x="1131" y="538"/>
                  </a:lnTo>
                  <a:lnTo>
                    <a:pt x="1129" y="529"/>
                  </a:lnTo>
                  <a:close/>
                  <a:moveTo>
                    <a:pt x="1147" y="525"/>
                  </a:moveTo>
                  <a:lnTo>
                    <a:pt x="1156" y="524"/>
                  </a:lnTo>
                  <a:lnTo>
                    <a:pt x="1158" y="533"/>
                  </a:lnTo>
                  <a:lnTo>
                    <a:pt x="1149" y="534"/>
                  </a:lnTo>
                  <a:lnTo>
                    <a:pt x="1147" y="525"/>
                  </a:lnTo>
                  <a:close/>
                  <a:moveTo>
                    <a:pt x="1165" y="522"/>
                  </a:moveTo>
                  <a:lnTo>
                    <a:pt x="1173" y="520"/>
                  </a:lnTo>
                  <a:lnTo>
                    <a:pt x="1175" y="529"/>
                  </a:lnTo>
                  <a:lnTo>
                    <a:pt x="1166" y="531"/>
                  </a:lnTo>
                  <a:lnTo>
                    <a:pt x="1165" y="522"/>
                  </a:lnTo>
                  <a:close/>
                  <a:moveTo>
                    <a:pt x="1182" y="519"/>
                  </a:moveTo>
                  <a:lnTo>
                    <a:pt x="1191" y="517"/>
                  </a:lnTo>
                  <a:lnTo>
                    <a:pt x="1191" y="517"/>
                  </a:lnTo>
                  <a:lnTo>
                    <a:pt x="1193" y="526"/>
                  </a:lnTo>
                  <a:lnTo>
                    <a:pt x="1193" y="526"/>
                  </a:lnTo>
                  <a:lnTo>
                    <a:pt x="1184" y="527"/>
                  </a:lnTo>
                  <a:lnTo>
                    <a:pt x="1182" y="519"/>
                  </a:lnTo>
                  <a:close/>
                  <a:moveTo>
                    <a:pt x="1200" y="515"/>
                  </a:moveTo>
                  <a:lnTo>
                    <a:pt x="1209" y="513"/>
                  </a:lnTo>
                  <a:lnTo>
                    <a:pt x="1210" y="522"/>
                  </a:lnTo>
                  <a:lnTo>
                    <a:pt x="1201" y="524"/>
                  </a:lnTo>
                  <a:lnTo>
                    <a:pt x="1200" y="515"/>
                  </a:lnTo>
                  <a:close/>
                  <a:moveTo>
                    <a:pt x="1217" y="512"/>
                  </a:moveTo>
                  <a:lnTo>
                    <a:pt x="1226" y="510"/>
                  </a:lnTo>
                  <a:lnTo>
                    <a:pt x="1228" y="519"/>
                  </a:lnTo>
                  <a:lnTo>
                    <a:pt x="1219" y="520"/>
                  </a:lnTo>
                  <a:lnTo>
                    <a:pt x="1217" y="512"/>
                  </a:lnTo>
                  <a:close/>
                  <a:moveTo>
                    <a:pt x="1235" y="508"/>
                  </a:moveTo>
                  <a:lnTo>
                    <a:pt x="1238" y="507"/>
                  </a:lnTo>
                  <a:lnTo>
                    <a:pt x="1244" y="506"/>
                  </a:lnTo>
                  <a:lnTo>
                    <a:pt x="1246" y="515"/>
                  </a:lnTo>
                  <a:lnTo>
                    <a:pt x="1240" y="516"/>
                  </a:lnTo>
                  <a:lnTo>
                    <a:pt x="1237" y="517"/>
                  </a:lnTo>
                  <a:lnTo>
                    <a:pt x="1235" y="508"/>
                  </a:lnTo>
                  <a:close/>
                  <a:moveTo>
                    <a:pt x="1253" y="504"/>
                  </a:moveTo>
                  <a:lnTo>
                    <a:pt x="1261" y="503"/>
                  </a:lnTo>
                  <a:lnTo>
                    <a:pt x="1263" y="512"/>
                  </a:lnTo>
                  <a:lnTo>
                    <a:pt x="1254" y="513"/>
                  </a:lnTo>
                  <a:lnTo>
                    <a:pt x="1253" y="504"/>
                  </a:lnTo>
                  <a:close/>
                  <a:moveTo>
                    <a:pt x="1270" y="501"/>
                  </a:moveTo>
                  <a:lnTo>
                    <a:pt x="1279" y="499"/>
                  </a:lnTo>
                  <a:lnTo>
                    <a:pt x="1281" y="508"/>
                  </a:lnTo>
                  <a:lnTo>
                    <a:pt x="1272" y="510"/>
                  </a:lnTo>
                  <a:lnTo>
                    <a:pt x="1270" y="501"/>
                  </a:lnTo>
                  <a:close/>
                  <a:moveTo>
                    <a:pt x="1288" y="497"/>
                  </a:moveTo>
                  <a:lnTo>
                    <a:pt x="1297" y="495"/>
                  </a:lnTo>
                  <a:lnTo>
                    <a:pt x="1298" y="504"/>
                  </a:lnTo>
                  <a:lnTo>
                    <a:pt x="1290" y="506"/>
                  </a:lnTo>
                  <a:lnTo>
                    <a:pt x="1288" y="497"/>
                  </a:lnTo>
                  <a:close/>
                  <a:moveTo>
                    <a:pt x="1305" y="494"/>
                  </a:moveTo>
                  <a:lnTo>
                    <a:pt x="1314" y="492"/>
                  </a:lnTo>
                  <a:lnTo>
                    <a:pt x="1316" y="501"/>
                  </a:lnTo>
                  <a:lnTo>
                    <a:pt x="1307" y="502"/>
                  </a:lnTo>
                  <a:lnTo>
                    <a:pt x="1305" y="494"/>
                  </a:lnTo>
                  <a:close/>
                  <a:moveTo>
                    <a:pt x="1323" y="490"/>
                  </a:moveTo>
                  <a:lnTo>
                    <a:pt x="1330" y="489"/>
                  </a:lnTo>
                  <a:lnTo>
                    <a:pt x="1332" y="488"/>
                  </a:lnTo>
                  <a:lnTo>
                    <a:pt x="1334" y="497"/>
                  </a:lnTo>
                  <a:lnTo>
                    <a:pt x="1331" y="498"/>
                  </a:lnTo>
                  <a:lnTo>
                    <a:pt x="1325" y="499"/>
                  </a:lnTo>
                  <a:lnTo>
                    <a:pt x="1323" y="490"/>
                  </a:lnTo>
                  <a:close/>
                  <a:moveTo>
                    <a:pt x="1341" y="486"/>
                  </a:moveTo>
                  <a:lnTo>
                    <a:pt x="1349" y="485"/>
                  </a:lnTo>
                  <a:lnTo>
                    <a:pt x="1351" y="493"/>
                  </a:lnTo>
                  <a:lnTo>
                    <a:pt x="1342" y="495"/>
                  </a:lnTo>
                  <a:lnTo>
                    <a:pt x="1341" y="486"/>
                  </a:lnTo>
                  <a:close/>
                  <a:moveTo>
                    <a:pt x="1358" y="483"/>
                  </a:moveTo>
                  <a:lnTo>
                    <a:pt x="1367" y="481"/>
                  </a:lnTo>
                  <a:lnTo>
                    <a:pt x="1369" y="490"/>
                  </a:lnTo>
                  <a:lnTo>
                    <a:pt x="1360" y="492"/>
                  </a:lnTo>
                  <a:lnTo>
                    <a:pt x="1358" y="483"/>
                  </a:lnTo>
                  <a:close/>
                  <a:moveTo>
                    <a:pt x="1376" y="479"/>
                  </a:moveTo>
                  <a:lnTo>
                    <a:pt x="1384" y="477"/>
                  </a:lnTo>
                  <a:lnTo>
                    <a:pt x="1386" y="486"/>
                  </a:lnTo>
                  <a:lnTo>
                    <a:pt x="1378" y="488"/>
                  </a:lnTo>
                  <a:lnTo>
                    <a:pt x="1376" y="479"/>
                  </a:lnTo>
                  <a:close/>
                  <a:moveTo>
                    <a:pt x="1393" y="475"/>
                  </a:moveTo>
                  <a:lnTo>
                    <a:pt x="1402" y="474"/>
                  </a:lnTo>
                  <a:lnTo>
                    <a:pt x="1404" y="483"/>
                  </a:lnTo>
                  <a:lnTo>
                    <a:pt x="1395" y="484"/>
                  </a:lnTo>
                  <a:lnTo>
                    <a:pt x="1393" y="475"/>
                  </a:lnTo>
                  <a:close/>
                  <a:moveTo>
                    <a:pt x="1411" y="472"/>
                  </a:moveTo>
                  <a:lnTo>
                    <a:pt x="1417" y="471"/>
                  </a:lnTo>
                  <a:lnTo>
                    <a:pt x="1420" y="470"/>
                  </a:lnTo>
                  <a:lnTo>
                    <a:pt x="1421" y="479"/>
                  </a:lnTo>
                  <a:lnTo>
                    <a:pt x="1419" y="479"/>
                  </a:lnTo>
                  <a:lnTo>
                    <a:pt x="1413" y="481"/>
                  </a:lnTo>
                  <a:lnTo>
                    <a:pt x="1411" y="472"/>
                  </a:lnTo>
                  <a:close/>
                  <a:moveTo>
                    <a:pt x="1428" y="468"/>
                  </a:moveTo>
                  <a:lnTo>
                    <a:pt x="1437" y="466"/>
                  </a:lnTo>
                  <a:lnTo>
                    <a:pt x="1439" y="475"/>
                  </a:lnTo>
                  <a:lnTo>
                    <a:pt x="1430" y="477"/>
                  </a:lnTo>
                  <a:lnTo>
                    <a:pt x="1428" y="468"/>
                  </a:lnTo>
                  <a:close/>
                  <a:moveTo>
                    <a:pt x="1446" y="464"/>
                  </a:moveTo>
                  <a:lnTo>
                    <a:pt x="1455" y="463"/>
                  </a:lnTo>
                  <a:lnTo>
                    <a:pt x="1457" y="472"/>
                  </a:lnTo>
                  <a:lnTo>
                    <a:pt x="1448" y="473"/>
                  </a:lnTo>
                  <a:lnTo>
                    <a:pt x="1446" y="464"/>
                  </a:lnTo>
                  <a:close/>
                  <a:moveTo>
                    <a:pt x="1464" y="461"/>
                  </a:moveTo>
                  <a:lnTo>
                    <a:pt x="1472" y="459"/>
                  </a:lnTo>
                  <a:lnTo>
                    <a:pt x="1474" y="468"/>
                  </a:lnTo>
                  <a:lnTo>
                    <a:pt x="1465" y="470"/>
                  </a:lnTo>
                  <a:lnTo>
                    <a:pt x="1464" y="461"/>
                  </a:lnTo>
                  <a:close/>
                  <a:moveTo>
                    <a:pt x="1481" y="457"/>
                  </a:moveTo>
                  <a:lnTo>
                    <a:pt x="1490" y="455"/>
                  </a:lnTo>
                  <a:lnTo>
                    <a:pt x="1492" y="464"/>
                  </a:lnTo>
                  <a:lnTo>
                    <a:pt x="1483" y="466"/>
                  </a:lnTo>
                  <a:lnTo>
                    <a:pt x="1481" y="457"/>
                  </a:lnTo>
                  <a:close/>
                  <a:moveTo>
                    <a:pt x="1498" y="453"/>
                  </a:moveTo>
                  <a:lnTo>
                    <a:pt x="1500" y="453"/>
                  </a:lnTo>
                  <a:lnTo>
                    <a:pt x="1507" y="451"/>
                  </a:lnTo>
                  <a:lnTo>
                    <a:pt x="1509" y="460"/>
                  </a:lnTo>
                  <a:lnTo>
                    <a:pt x="1502" y="462"/>
                  </a:lnTo>
                  <a:lnTo>
                    <a:pt x="1500" y="462"/>
                  </a:lnTo>
                  <a:lnTo>
                    <a:pt x="1498" y="453"/>
                  </a:lnTo>
                  <a:close/>
                  <a:moveTo>
                    <a:pt x="1516" y="449"/>
                  </a:moveTo>
                  <a:lnTo>
                    <a:pt x="1525" y="447"/>
                  </a:lnTo>
                  <a:lnTo>
                    <a:pt x="1527" y="456"/>
                  </a:lnTo>
                  <a:lnTo>
                    <a:pt x="1518" y="458"/>
                  </a:lnTo>
                  <a:lnTo>
                    <a:pt x="1516" y="449"/>
                  </a:lnTo>
                  <a:close/>
                  <a:moveTo>
                    <a:pt x="1534" y="446"/>
                  </a:moveTo>
                  <a:lnTo>
                    <a:pt x="1540" y="444"/>
                  </a:lnTo>
                  <a:lnTo>
                    <a:pt x="1542" y="444"/>
                  </a:lnTo>
                  <a:lnTo>
                    <a:pt x="1544" y="452"/>
                  </a:lnTo>
                  <a:lnTo>
                    <a:pt x="1542" y="453"/>
                  </a:lnTo>
                  <a:lnTo>
                    <a:pt x="1535" y="454"/>
                  </a:lnTo>
                  <a:lnTo>
                    <a:pt x="1534" y="446"/>
                  </a:lnTo>
                  <a:close/>
                  <a:moveTo>
                    <a:pt x="1551" y="442"/>
                  </a:moveTo>
                  <a:lnTo>
                    <a:pt x="1560" y="440"/>
                  </a:lnTo>
                  <a:lnTo>
                    <a:pt x="1562" y="448"/>
                  </a:lnTo>
                  <a:lnTo>
                    <a:pt x="1553" y="450"/>
                  </a:lnTo>
                  <a:lnTo>
                    <a:pt x="1551" y="442"/>
                  </a:lnTo>
                  <a:close/>
                  <a:moveTo>
                    <a:pt x="1569" y="438"/>
                  </a:moveTo>
                  <a:lnTo>
                    <a:pt x="1577" y="436"/>
                  </a:lnTo>
                  <a:lnTo>
                    <a:pt x="1579" y="445"/>
                  </a:lnTo>
                  <a:lnTo>
                    <a:pt x="1571" y="446"/>
                  </a:lnTo>
                  <a:lnTo>
                    <a:pt x="1569" y="438"/>
                  </a:lnTo>
                  <a:close/>
                  <a:moveTo>
                    <a:pt x="1586" y="434"/>
                  </a:moveTo>
                  <a:lnTo>
                    <a:pt x="1595" y="432"/>
                  </a:lnTo>
                  <a:lnTo>
                    <a:pt x="1597" y="441"/>
                  </a:lnTo>
                  <a:lnTo>
                    <a:pt x="1588" y="443"/>
                  </a:lnTo>
                  <a:lnTo>
                    <a:pt x="1586" y="434"/>
                  </a:lnTo>
                  <a:close/>
                  <a:moveTo>
                    <a:pt x="1604" y="430"/>
                  </a:moveTo>
                  <a:lnTo>
                    <a:pt x="1612" y="428"/>
                  </a:lnTo>
                  <a:lnTo>
                    <a:pt x="1614" y="437"/>
                  </a:lnTo>
                  <a:lnTo>
                    <a:pt x="1606" y="439"/>
                  </a:lnTo>
                  <a:lnTo>
                    <a:pt x="1604" y="430"/>
                  </a:lnTo>
                  <a:close/>
                  <a:moveTo>
                    <a:pt x="1621" y="426"/>
                  </a:moveTo>
                  <a:lnTo>
                    <a:pt x="1630" y="424"/>
                  </a:lnTo>
                  <a:lnTo>
                    <a:pt x="1632" y="433"/>
                  </a:lnTo>
                  <a:lnTo>
                    <a:pt x="1623" y="435"/>
                  </a:lnTo>
                  <a:lnTo>
                    <a:pt x="1621" y="426"/>
                  </a:lnTo>
                  <a:close/>
                  <a:moveTo>
                    <a:pt x="1639" y="422"/>
                  </a:moveTo>
                  <a:lnTo>
                    <a:pt x="1647" y="420"/>
                  </a:lnTo>
                  <a:lnTo>
                    <a:pt x="1649" y="428"/>
                  </a:lnTo>
                  <a:lnTo>
                    <a:pt x="1641" y="431"/>
                  </a:lnTo>
                  <a:lnTo>
                    <a:pt x="1639" y="422"/>
                  </a:lnTo>
                  <a:close/>
                  <a:moveTo>
                    <a:pt x="1656" y="418"/>
                  </a:moveTo>
                  <a:lnTo>
                    <a:pt x="1665" y="416"/>
                  </a:lnTo>
                  <a:lnTo>
                    <a:pt x="1667" y="425"/>
                  </a:lnTo>
                  <a:lnTo>
                    <a:pt x="1658" y="426"/>
                  </a:lnTo>
                  <a:lnTo>
                    <a:pt x="1656" y="418"/>
                  </a:lnTo>
                  <a:close/>
                  <a:moveTo>
                    <a:pt x="1673" y="414"/>
                  </a:moveTo>
                  <a:lnTo>
                    <a:pt x="1682" y="412"/>
                  </a:lnTo>
                  <a:lnTo>
                    <a:pt x="1684" y="420"/>
                  </a:lnTo>
                  <a:lnTo>
                    <a:pt x="1676" y="422"/>
                  </a:lnTo>
                  <a:lnTo>
                    <a:pt x="1673" y="414"/>
                  </a:lnTo>
                  <a:close/>
                  <a:moveTo>
                    <a:pt x="1691" y="410"/>
                  </a:moveTo>
                  <a:lnTo>
                    <a:pt x="1700" y="407"/>
                  </a:lnTo>
                  <a:lnTo>
                    <a:pt x="1702" y="416"/>
                  </a:lnTo>
                  <a:lnTo>
                    <a:pt x="1693" y="418"/>
                  </a:lnTo>
                  <a:lnTo>
                    <a:pt x="1691" y="410"/>
                  </a:lnTo>
                  <a:close/>
                  <a:moveTo>
                    <a:pt x="1708" y="405"/>
                  </a:moveTo>
                  <a:lnTo>
                    <a:pt x="1717" y="403"/>
                  </a:lnTo>
                  <a:lnTo>
                    <a:pt x="1719" y="412"/>
                  </a:lnTo>
                  <a:lnTo>
                    <a:pt x="1710" y="414"/>
                  </a:lnTo>
                  <a:lnTo>
                    <a:pt x="1708" y="405"/>
                  </a:lnTo>
                  <a:close/>
                  <a:moveTo>
                    <a:pt x="1726" y="401"/>
                  </a:moveTo>
                  <a:lnTo>
                    <a:pt x="1734" y="399"/>
                  </a:lnTo>
                  <a:lnTo>
                    <a:pt x="1737" y="408"/>
                  </a:lnTo>
                  <a:lnTo>
                    <a:pt x="1728" y="410"/>
                  </a:lnTo>
                  <a:lnTo>
                    <a:pt x="1726" y="401"/>
                  </a:lnTo>
                  <a:close/>
                  <a:moveTo>
                    <a:pt x="1743" y="397"/>
                  </a:moveTo>
                  <a:lnTo>
                    <a:pt x="1752" y="395"/>
                  </a:lnTo>
                  <a:lnTo>
                    <a:pt x="1754" y="403"/>
                  </a:lnTo>
                  <a:lnTo>
                    <a:pt x="1745" y="406"/>
                  </a:lnTo>
                  <a:lnTo>
                    <a:pt x="1743" y="397"/>
                  </a:lnTo>
                  <a:close/>
                  <a:moveTo>
                    <a:pt x="1761" y="392"/>
                  </a:moveTo>
                  <a:lnTo>
                    <a:pt x="1769" y="390"/>
                  </a:lnTo>
                  <a:lnTo>
                    <a:pt x="1772" y="399"/>
                  </a:lnTo>
                  <a:lnTo>
                    <a:pt x="1763" y="401"/>
                  </a:lnTo>
                  <a:lnTo>
                    <a:pt x="1761" y="392"/>
                  </a:lnTo>
                  <a:close/>
                  <a:moveTo>
                    <a:pt x="1778" y="388"/>
                  </a:moveTo>
                  <a:lnTo>
                    <a:pt x="1785" y="387"/>
                  </a:lnTo>
                  <a:lnTo>
                    <a:pt x="1787" y="386"/>
                  </a:lnTo>
                  <a:lnTo>
                    <a:pt x="1789" y="395"/>
                  </a:lnTo>
                  <a:lnTo>
                    <a:pt x="1787" y="395"/>
                  </a:lnTo>
                  <a:lnTo>
                    <a:pt x="1780" y="397"/>
                  </a:lnTo>
                  <a:lnTo>
                    <a:pt x="1778" y="388"/>
                  </a:lnTo>
                  <a:close/>
                  <a:moveTo>
                    <a:pt x="1796" y="384"/>
                  </a:moveTo>
                  <a:lnTo>
                    <a:pt x="1804" y="381"/>
                  </a:lnTo>
                  <a:lnTo>
                    <a:pt x="1806" y="390"/>
                  </a:lnTo>
                  <a:lnTo>
                    <a:pt x="1798" y="392"/>
                  </a:lnTo>
                  <a:lnTo>
                    <a:pt x="1796" y="384"/>
                  </a:lnTo>
                  <a:close/>
                  <a:moveTo>
                    <a:pt x="1813" y="379"/>
                  </a:moveTo>
                  <a:lnTo>
                    <a:pt x="1815" y="379"/>
                  </a:lnTo>
                  <a:lnTo>
                    <a:pt x="1822" y="377"/>
                  </a:lnTo>
                  <a:lnTo>
                    <a:pt x="1824" y="386"/>
                  </a:lnTo>
                  <a:lnTo>
                    <a:pt x="1817" y="387"/>
                  </a:lnTo>
                  <a:lnTo>
                    <a:pt x="1815" y="388"/>
                  </a:lnTo>
                  <a:lnTo>
                    <a:pt x="1813" y="379"/>
                  </a:lnTo>
                  <a:close/>
                  <a:moveTo>
                    <a:pt x="1830" y="375"/>
                  </a:moveTo>
                  <a:lnTo>
                    <a:pt x="1839" y="372"/>
                  </a:lnTo>
                  <a:lnTo>
                    <a:pt x="1841" y="381"/>
                  </a:lnTo>
                  <a:lnTo>
                    <a:pt x="1832" y="383"/>
                  </a:lnTo>
                  <a:lnTo>
                    <a:pt x="1830" y="375"/>
                  </a:lnTo>
                  <a:close/>
                  <a:moveTo>
                    <a:pt x="1848" y="370"/>
                  </a:moveTo>
                  <a:lnTo>
                    <a:pt x="1856" y="368"/>
                  </a:lnTo>
                  <a:lnTo>
                    <a:pt x="1859" y="377"/>
                  </a:lnTo>
                  <a:lnTo>
                    <a:pt x="1850" y="379"/>
                  </a:lnTo>
                  <a:lnTo>
                    <a:pt x="1848" y="370"/>
                  </a:lnTo>
                  <a:close/>
                  <a:moveTo>
                    <a:pt x="1865" y="366"/>
                  </a:moveTo>
                  <a:lnTo>
                    <a:pt x="1873" y="363"/>
                  </a:lnTo>
                  <a:lnTo>
                    <a:pt x="1874" y="363"/>
                  </a:lnTo>
                  <a:lnTo>
                    <a:pt x="1876" y="372"/>
                  </a:lnTo>
                  <a:lnTo>
                    <a:pt x="1875" y="372"/>
                  </a:lnTo>
                  <a:lnTo>
                    <a:pt x="1867" y="374"/>
                  </a:lnTo>
                  <a:lnTo>
                    <a:pt x="1865" y="366"/>
                  </a:lnTo>
                  <a:close/>
                  <a:moveTo>
                    <a:pt x="1882" y="361"/>
                  </a:moveTo>
                  <a:lnTo>
                    <a:pt x="1891" y="359"/>
                  </a:lnTo>
                  <a:lnTo>
                    <a:pt x="1893" y="367"/>
                  </a:lnTo>
                  <a:lnTo>
                    <a:pt x="1885" y="370"/>
                  </a:lnTo>
                  <a:lnTo>
                    <a:pt x="1882" y="361"/>
                  </a:lnTo>
                  <a:close/>
                  <a:moveTo>
                    <a:pt x="1899" y="356"/>
                  </a:moveTo>
                  <a:lnTo>
                    <a:pt x="1900" y="356"/>
                  </a:lnTo>
                  <a:lnTo>
                    <a:pt x="1908" y="354"/>
                  </a:lnTo>
                  <a:lnTo>
                    <a:pt x="1911" y="362"/>
                  </a:lnTo>
                  <a:lnTo>
                    <a:pt x="1902" y="365"/>
                  </a:lnTo>
                  <a:lnTo>
                    <a:pt x="1902" y="365"/>
                  </a:lnTo>
                  <a:lnTo>
                    <a:pt x="1899" y="356"/>
                  </a:lnTo>
                  <a:close/>
                  <a:moveTo>
                    <a:pt x="1917" y="351"/>
                  </a:moveTo>
                  <a:lnTo>
                    <a:pt x="1925" y="349"/>
                  </a:lnTo>
                  <a:lnTo>
                    <a:pt x="1928" y="358"/>
                  </a:lnTo>
                  <a:lnTo>
                    <a:pt x="1919" y="360"/>
                  </a:lnTo>
                  <a:lnTo>
                    <a:pt x="1917" y="351"/>
                  </a:lnTo>
                  <a:close/>
                  <a:moveTo>
                    <a:pt x="1934" y="347"/>
                  </a:moveTo>
                  <a:lnTo>
                    <a:pt x="1943" y="344"/>
                  </a:lnTo>
                  <a:lnTo>
                    <a:pt x="1945" y="353"/>
                  </a:lnTo>
                  <a:lnTo>
                    <a:pt x="1936" y="355"/>
                  </a:lnTo>
                  <a:lnTo>
                    <a:pt x="1934" y="347"/>
                  </a:lnTo>
                  <a:close/>
                  <a:moveTo>
                    <a:pt x="1951" y="341"/>
                  </a:moveTo>
                  <a:lnTo>
                    <a:pt x="1952" y="341"/>
                  </a:lnTo>
                  <a:lnTo>
                    <a:pt x="1960" y="339"/>
                  </a:lnTo>
                  <a:lnTo>
                    <a:pt x="1962" y="348"/>
                  </a:lnTo>
                  <a:lnTo>
                    <a:pt x="1954" y="350"/>
                  </a:lnTo>
                  <a:lnTo>
                    <a:pt x="1954" y="350"/>
                  </a:lnTo>
                  <a:lnTo>
                    <a:pt x="1951" y="341"/>
                  </a:lnTo>
                  <a:close/>
                  <a:moveTo>
                    <a:pt x="1969" y="336"/>
                  </a:moveTo>
                  <a:lnTo>
                    <a:pt x="1976" y="334"/>
                  </a:lnTo>
                  <a:lnTo>
                    <a:pt x="1977" y="334"/>
                  </a:lnTo>
                  <a:lnTo>
                    <a:pt x="1980" y="343"/>
                  </a:lnTo>
                  <a:lnTo>
                    <a:pt x="1979" y="343"/>
                  </a:lnTo>
                  <a:lnTo>
                    <a:pt x="1971" y="345"/>
                  </a:lnTo>
                  <a:lnTo>
                    <a:pt x="1969" y="336"/>
                  </a:lnTo>
                  <a:close/>
                  <a:moveTo>
                    <a:pt x="1986" y="331"/>
                  </a:moveTo>
                  <a:lnTo>
                    <a:pt x="1994" y="329"/>
                  </a:lnTo>
                  <a:lnTo>
                    <a:pt x="1997" y="338"/>
                  </a:lnTo>
                  <a:lnTo>
                    <a:pt x="1988" y="340"/>
                  </a:lnTo>
                  <a:lnTo>
                    <a:pt x="1986" y="331"/>
                  </a:lnTo>
                  <a:close/>
                  <a:moveTo>
                    <a:pt x="2003" y="326"/>
                  </a:moveTo>
                  <a:lnTo>
                    <a:pt x="2011" y="324"/>
                  </a:lnTo>
                  <a:lnTo>
                    <a:pt x="2014" y="332"/>
                  </a:lnTo>
                  <a:lnTo>
                    <a:pt x="2005" y="335"/>
                  </a:lnTo>
                  <a:lnTo>
                    <a:pt x="2003" y="326"/>
                  </a:lnTo>
                  <a:close/>
                  <a:moveTo>
                    <a:pt x="2020" y="321"/>
                  </a:moveTo>
                  <a:lnTo>
                    <a:pt x="2023" y="320"/>
                  </a:lnTo>
                  <a:lnTo>
                    <a:pt x="2029" y="318"/>
                  </a:lnTo>
                  <a:lnTo>
                    <a:pt x="2031" y="327"/>
                  </a:lnTo>
                  <a:lnTo>
                    <a:pt x="2026" y="329"/>
                  </a:lnTo>
                  <a:lnTo>
                    <a:pt x="2023" y="330"/>
                  </a:lnTo>
                  <a:lnTo>
                    <a:pt x="2020" y="321"/>
                  </a:lnTo>
                  <a:close/>
                  <a:moveTo>
                    <a:pt x="2037" y="316"/>
                  </a:moveTo>
                  <a:lnTo>
                    <a:pt x="2046" y="313"/>
                  </a:lnTo>
                  <a:lnTo>
                    <a:pt x="2046" y="313"/>
                  </a:lnTo>
                  <a:lnTo>
                    <a:pt x="2048" y="322"/>
                  </a:lnTo>
                  <a:lnTo>
                    <a:pt x="2048" y="322"/>
                  </a:lnTo>
                  <a:lnTo>
                    <a:pt x="2040" y="324"/>
                  </a:lnTo>
                  <a:lnTo>
                    <a:pt x="2037" y="316"/>
                  </a:lnTo>
                  <a:close/>
                  <a:moveTo>
                    <a:pt x="2054" y="310"/>
                  </a:moveTo>
                  <a:lnTo>
                    <a:pt x="2063" y="308"/>
                  </a:lnTo>
                  <a:lnTo>
                    <a:pt x="2065" y="316"/>
                  </a:lnTo>
                  <a:lnTo>
                    <a:pt x="2057" y="319"/>
                  </a:lnTo>
                  <a:lnTo>
                    <a:pt x="2054" y="310"/>
                  </a:lnTo>
                  <a:close/>
                  <a:moveTo>
                    <a:pt x="2071" y="305"/>
                  </a:moveTo>
                  <a:lnTo>
                    <a:pt x="2080" y="302"/>
                  </a:lnTo>
                  <a:lnTo>
                    <a:pt x="2083" y="310"/>
                  </a:lnTo>
                  <a:lnTo>
                    <a:pt x="2074" y="313"/>
                  </a:lnTo>
                  <a:lnTo>
                    <a:pt x="2071" y="305"/>
                  </a:lnTo>
                  <a:close/>
                  <a:moveTo>
                    <a:pt x="2088" y="299"/>
                  </a:moveTo>
                  <a:lnTo>
                    <a:pt x="2097" y="296"/>
                  </a:lnTo>
                  <a:lnTo>
                    <a:pt x="2100" y="305"/>
                  </a:lnTo>
                  <a:lnTo>
                    <a:pt x="2091" y="308"/>
                  </a:lnTo>
                  <a:lnTo>
                    <a:pt x="2088" y="299"/>
                  </a:lnTo>
                  <a:close/>
                  <a:moveTo>
                    <a:pt x="2105" y="294"/>
                  </a:moveTo>
                  <a:lnTo>
                    <a:pt x="2109" y="292"/>
                  </a:lnTo>
                  <a:lnTo>
                    <a:pt x="2114" y="291"/>
                  </a:lnTo>
                  <a:lnTo>
                    <a:pt x="2117" y="299"/>
                  </a:lnTo>
                  <a:lnTo>
                    <a:pt x="2111" y="301"/>
                  </a:lnTo>
                  <a:lnTo>
                    <a:pt x="2108" y="302"/>
                  </a:lnTo>
                  <a:lnTo>
                    <a:pt x="2105" y="294"/>
                  </a:lnTo>
                  <a:close/>
                  <a:moveTo>
                    <a:pt x="2122" y="288"/>
                  </a:moveTo>
                  <a:lnTo>
                    <a:pt x="2131" y="285"/>
                  </a:lnTo>
                  <a:lnTo>
                    <a:pt x="2134" y="293"/>
                  </a:lnTo>
                  <a:lnTo>
                    <a:pt x="2125" y="296"/>
                  </a:lnTo>
                  <a:lnTo>
                    <a:pt x="2122" y="288"/>
                  </a:lnTo>
                  <a:close/>
                  <a:moveTo>
                    <a:pt x="2139" y="282"/>
                  </a:moveTo>
                  <a:lnTo>
                    <a:pt x="2148" y="279"/>
                  </a:lnTo>
                  <a:lnTo>
                    <a:pt x="2151" y="287"/>
                  </a:lnTo>
                  <a:lnTo>
                    <a:pt x="2142" y="290"/>
                  </a:lnTo>
                  <a:lnTo>
                    <a:pt x="2139" y="282"/>
                  </a:lnTo>
                  <a:close/>
                  <a:moveTo>
                    <a:pt x="2156" y="276"/>
                  </a:moveTo>
                  <a:lnTo>
                    <a:pt x="2164" y="273"/>
                  </a:lnTo>
                  <a:lnTo>
                    <a:pt x="2168" y="281"/>
                  </a:lnTo>
                  <a:lnTo>
                    <a:pt x="2159" y="284"/>
                  </a:lnTo>
                  <a:lnTo>
                    <a:pt x="2156" y="276"/>
                  </a:lnTo>
                  <a:close/>
                  <a:moveTo>
                    <a:pt x="2173" y="270"/>
                  </a:moveTo>
                  <a:lnTo>
                    <a:pt x="2181" y="267"/>
                  </a:lnTo>
                  <a:lnTo>
                    <a:pt x="2184" y="275"/>
                  </a:lnTo>
                  <a:lnTo>
                    <a:pt x="2176" y="278"/>
                  </a:lnTo>
                  <a:lnTo>
                    <a:pt x="2173" y="270"/>
                  </a:lnTo>
                  <a:close/>
                  <a:moveTo>
                    <a:pt x="2190" y="264"/>
                  </a:moveTo>
                  <a:lnTo>
                    <a:pt x="2198" y="260"/>
                  </a:lnTo>
                  <a:lnTo>
                    <a:pt x="2201" y="269"/>
                  </a:lnTo>
                  <a:lnTo>
                    <a:pt x="2193" y="272"/>
                  </a:lnTo>
                  <a:lnTo>
                    <a:pt x="2190" y="264"/>
                  </a:lnTo>
                  <a:close/>
                  <a:moveTo>
                    <a:pt x="2207" y="257"/>
                  </a:moveTo>
                  <a:lnTo>
                    <a:pt x="2215" y="254"/>
                  </a:lnTo>
                  <a:lnTo>
                    <a:pt x="2218" y="263"/>
                  </a:lnTo>
                  <a:lnTo>
                    <a:pt x="2210" y="266"/>
                  </a:lnTo>
                  <a:lnTo>
                    <a:pt x="2207" y="257"/>
                  </a:lnTo>
                  <a:close/>
                  <a:moveTo>
                    <a:pt x="2223" y="251"/>
                  </a:moveTo>
                  <a:lnTo>
                    <a:pt x="2232" y="248"/>
                  </a:lnTo>
                  <a:lnTo>
                    <a:pt x="2235" y="256"/>
                  </a:lnTo>
                  <a:lnTo>
                    <a:pt x="2227" y="259"/>
                  </a:lnTo>
                  <a:lnTo>
                    <a:pt x="2223" y="251"/>
                  </a:lnTo>
                  <a:close/>
                  <a:moveTo>
                    <a:pt x="2240" y="244"/>
                  </a:moveTo>
                  <a:lnTo>
                    <a:pt x="2248" y="241"/>
                  </a:lnTo>
                  <a:lnTo>
                    <a:pt x="2252" y="250"/>
                  </a:lnTo>
                  <a:lnTo>
                    <a:pt x="2243" y="253"/>
                  </a:lnTo>
                  <a:lnTo>
                    <a:pt x="2240" y="244"/>
                  </a:lnTo>
                  <a:close/>
                  <a:moveTo>
                    <a:pt x="2257" y="238"/>
                  </a:moveTo>
                  <a:lnTo>
                    <a:pt x="2265" y="235"/>
                  </a:lnTo>
                  <a:lnTo>
                    <a:pt x="2268" y="243"/>
                  </a:lnTo>
                  <a:lnTo>
                    <a:pt x="2260" y="246"/>
                  </a:lnTo>
                  <a:lnTo>
                    <a:pt x="2257" y="238"/>
                  </a:lnTo>
                  <a:close/>
                  <a:moveTo>
                    <a:pt x="2273" y="231"/>
                  </a:moveTo>
                  <a:lnTo>
                    <a:pt x="2282" y="228"/>
                  </a:lnTo>
                  <a:lnTo>
                    <a:pt x="2285" y="236"/>
                  </a:lnTo>
                  <a:lnTo>
                    <a:pt x="2277" y="240"/>
                  </a:lnTo>
                  <a:lnTo>
                    <a:pt x="2273" y="231"/>
                  </a:lnTo>
                  <a:close/>
                  <a:moveTo>
                    <a:pt x="2290" y="225"/>
                  </a:moveTo>
                  <a:lnTo>
                    <a:pt x="2298" y="221"/>
                  </a:lnTo>
                  <a:lnTo>
                    <a:pt x="2302" y="229"/>
                  </a:lnTo>
                  <a:lnTo>
                    <a:pt x="2294" y="233"/>
                  </a:lnTo>
                  <a:lnTo>
                    <a:pt x="2290" y="225"/>
                  </a:lnTo>
                  <a:close/>
                  <a:moveTo>
                    <a:pt x="2307" y="218"/>
                  </a:moveTo>
                  <a:lnTo>
                    <a:pt x="2315" y="214"/>
                  </a:lnTo>
                  <a:lnTo>
                    <a:pt x="2318" y="223"/>
                  </a:lnTo>
                  <a:lnTo>
                    <a:pt x="2310" y="226"/>
                  </a:lnTo>
                  <a:lnTo>
                    <a:pt x="2307" y="218"/>
                  </a:lnTo>
                  <a:close/>
                  <a:moveTo>
                    <a:pt x="2323" y="211"/>
                  </a:moveTo>
                  <a:lnTo>
                    <a:pt x="2332" y="207"/>
                  </a:lnTo>
                  <a:lnTo>
                    <a:pt x="2335" y="216"/>
                  </a:lnTo>
                  <a:lnTo>
                    <a:pt x="2327" y="219"/>
                  </a:lnTo>
                  <a:lnTo>
                    <a:pt x="2323" y="211"/>
                  </a:lnTo>
                  <a:close/>
                  <a:moveTo>
                    <a:pt x="2340" y="204"/>
                  </a:moveTo>
                  <a:lnTo>
                    <a:pt x="2348" y="201"/>
                  </a:lnTo>
                  <a:lnTo>
                    <a:pt x="2352" y="209"/>
                  </a:lnTo>
                  <a:lnTo>
                    <a:pt x="2343" y="212"/>
                  </a:lnTo>
                  <a:lnTo>
                    <a:pt x="2340" y="204"/>
                  </a:lnTo>
                  <a:close/>
                  <a:moveTo>
                    <a:pt x="2356" y="197"/>
                  </a:moveTo>
                  <a:lnTo>
                    <a:pt x="2365" y="194"/>
                  </a:lnTo>
                  <a:lnTo>
                    <a:pt x="2368" y="202"/>
                  </a:lnTo>
                  <a:lnTo>
                    <a:pt x="2360" y="205"/>
                  </a:lnTo>
                  <a:lnTo>
                    <a:pt x="2356" y="197"/>
                  </a:lnTo>
                  <a:close/>
                  <a:moveTo>
                    <a:pt x="2373" y="190"/>
                  </a:moveTo>
                  <a:lnTo>
                    <a:pt x="2381" y="186"/>
                  </a:lnTo>
                  <a:lnTo>
                    <a:pt x="2385" y="195"/>
                  </a:lnTo>
                  <a:lnTo>
                    <a:pt x="2376" y="198"/>
                  </a:lnTo>
                  <a:lnTo>
                    <a:pt x="2373" y="190"/>
                  </a:lnTo>
                  <a:close/>
                  <a:moveTo>
                    <a:pt x="2389" y="183"/>
                  </a:moveTo>
                  <a:lnTo>
                    <a:pt x="2397" y="179"/>
                  </a:lnTo>
                  <a:lnTo>
                    <a:pt x="2401" y="187"/>
                  </a:lnTo>
                  <a:lnTo>
                    <a:pt x="2393" y="191"/>
                  </a:lnTo>
                  <a:lnTo>
                    <a:pt x="2389" y="183"/>
                  </a:lnTo>
                  <a:close/>
                  <a:moveTo>
                    <a:pt x="2405" y="175"/>
                  </a:moveTo>
                  <a:lnTo>
                    <a:pt x="2412" y="172"/>
                  </a:lnTo>
                  <a:lnTo>
                    <a:pt x="2413" y="171"/>
                  </a:lnTo>
                  <a:lnTo>
                    <a:pt x="2417" y="179"/>
                  </a:lnTo>
                  <a:lnTo>
                    <a:pt x="2416" y="180"/>
                  </a:lnTo>
                  <a:lnTo>
                    <a:pt x="2409" y="183"/>
                  </a:lnTo>
                  <a:lnTo>
                    <a:pt x="2405" y="175"/>
                  </a:lnTo>
                  <a:close/>
                  <a:moveTo>
                    <a:pt x="2421" y="167"/>
                  </a:moveTo>
                  <a:lnTo>
                    <a:pt x="2425" y="165"/>
                  </a:lnTo>
                  <a:lnTo>
                    <a:pt x="2429" y="163"/>
                  </a:lnTo>
                  <a:lnTo>
                    <a:pt x="2434" y="171"/>
                  </a:lnTo>
                  <a:lnTo>
                    <a:pt x="2429" y="173"/>
                  </a:lnTo>
                  <a:lnTo>
                    <a:pt x="2425" y="175"/>
                  </a:lnTo>
                  <a:lnTo>
                    <a:pt x="2421" y="167"/>
                  </a:lnTo>
                  <a:close/>
                  <a:moveTo>
                    <a:pt x="2437" y="159"/>
                  </a:moveTo>
                  <a:lnTo>
                    <a:pt x="2438" y="159"/>
                  </a:lnTo>
                  <a:lnTo>
                    <a:pt x="2445" y="155"/>
                  </a:lnTo>
                  <a:lnTo>
                    <a:pt x="2449" y="163"/>
                  </a:lnTo>
                  <a:lnTo>
                    <a:pt x="2442" y="167"/>
                  </a:lnTo>
                  <a:lnTo>
                    <a:pt x="2441" y="167"/>
                  </a:lnTo>
                  <a:lnTo>
                    <a:pt x="2437" y="159"/>
                  </a:lnTo>
                  <a:close/>
                  <a:moveTo>
                    <a:pt x="2453" y="151"/>
                  </a:moveTo>
                  <a:lnTo>
                    <a:pt x="2461" y="146"/>
                  </a:lnTo>
                  <a:lnTo>
                    <a:pt x="2465" y="154"/>
                  </a:lnTo>
                  <a:lnTo>
                    <a:pt x="2457" y="159"/>
                  </a:lnTo>
                  <a:lnTo>
                    <a:pt x="2453" y="151"/>
                  </a:lnTo>
                  <a:close/>
                  <a:moveTo>
                    <a:pt x="2469" y="142"/>
                  </a:moveTo>
                  <a:lnTo>
                    <a:pt x="2473" y="139"/>
                  </a:lnTo>
                  <a:lnTo>
                    <a:pt x="2476" y="137"/>
                  </a:lnTo>
                  <a:lnTo>
                    <a:pt x="2481" y="145"/>
                  </a:lnTo>
                  <a:lnTo>
                    <a:pt x="2478" y="147"/>
                  </a:lnTo>
                  <a:lnTo>
                    <a:pt x="2473" y="150"/>
                  </a:lnTo>
                  <a:lnTo>
                    <a:pt x="2469" y="142"/>
                  </a:lnTo>
                  <a:close/>
                  <a:moveTo>
                    <a:pt x="2484" y="133"/>
                  </a:moveTo>
                  <a:lnTo>
                    <a:pt x="2484" y="133"/>
                  </a:lnTo>
                  <a:lnTo>
                    <a:pt x="2492" y="128"/>
                  </a:lnTo>
                  <a:lnTo>
                    <a:pt x="2496" y="136"/>
                  </a:lnTo>
                  <a:lnTo>
                    <a:pt x="2489" y="141"/>
                  </a:lnTo>
                  <a:lnTo>
                    <a:pt x="2489" y="141"/>
                  </a:lnTo>
                  <a:lnTo>
                    <a:pt x="2484" y="133"/>
                  </a:lnTo>
                  <a:close/>
                  <a:moveTo>
                    <a:pt x="2499" y="123"/>
                  </a:moveTo>
                  <a:lnTo>
                    <a:pt x="2504" y="120"/>
                  </a:lnTo>
                  <a:lnTo>
                    <a:pt x="2507" y="119"/>
                  </a:lnTo>
                  <a:lnTo>
                    <a:pt x="2512" y="126"/>
                  </a:lnTo>
                  <a:lnTo>
                    <a:pt x="2509" y="128"/>
                  </a:lnTo>
                  <a:lnTo>
                    <a:pt x="2504" y="131"/>
                  </a:lnTo>
                  <a:lnTo>
                    <a:pt x="2499" y="123"/>
                  </a:lnTo>
                  <a:close/>
                  <a:moveTo>
                    <a:pt x="2514" y="113"/>
                  </a:moveTo>
                  <a:lnTo>
                    <a:pt x="2521" y="108"/>
                  </a:lnTo>
                  <a:lnTo>
                    <a:pt x="2526" y="116"/>
                  </a:lnTo>
                  <a:lnTo>
                    <a:pt x="2519" y="121"/>
                  </a:lnTo>
                  <a:lnTo>
                    <a:pt x="2514" y="113"/>
                  </a:lnTo>
                  <a:close/>
                  <a:moveTo>
                    <a:pt x="2529" y="103"/>
                  </a:moveTo>
                  <a:lnTo>
                    <a:pt x="2532" y="101"/>
                  </a:lnTo>
                  <a:lnTo>
                    <a:pt x="2536" y="98"/>
                  </a:lnTo>
                  <a:lnTo>
                    <a:pt x="2541" y="105"/>
                  </a:lnTo>
                  <a:lnTo>
                    <a:pt x="2537" y="108"/>
                  </a:lnTo>
                  <a:lnTo>
                    <a:pt x="2534" y="111"/>
                  </a:lnTo>
                  <a:lnTo>
                    <a:pt x="2529" y="103"/>
                  </a:lnTo>
                  <a:close/>
                  <a:moveTo>
                    <a:pt x="2543" y="93"/>
                  </a:moveTo>
                  <a:lnTo>
                    <a:pt x="2548" y="88"/>
                  </a:lnTo>
                  <a:lnTo>
                    <a:pt x="2550" y="87"/>
                  </a:lnTo>
                  <a:lnTo>
                    <a:pt x="2556" y="94"/>
                  </a:lnTo>
                  <a:lnTo>
                    <a:pt x="2554" y="96"/>
                  </a:lnTo>
                  <a:lnTo>
                    <a:pt x="2548" y="100"/>
                  </a:lnTo>
                  <a:lnTo>
                    <a:pt x="2543" y="93"/>
                  </a:lnTo>
                  <a:close/>
                  <a:moveTo>
                    <a:pt x="2557" y="81"/>
                  </a:moveTo>
                  <a:lnTo>
                    <a:pt x="2563" y="76"/>
                  </a:lnTo>
                  <a:lnTo>
                    <a:pt x="2564" y="76"/>
                  </a:lnTo>
                  <a:lnTo>
                    <a:pt x="2569" y="82"/>
                  </a:lnTo>
                  <a:lnTo>
                    <a:pt x="2569" y="83"/>
                  </a:lnTo>
                  <a:lnTo>
                    <a:pt x="2563" y="88"/>
                  </a:lnTo>
                  <a:lnTo>
                    <a:pt x="2557" y="81"/>
                  </a:lnTo>
                  <a:close/>
                  <a:moveTo>
                    <a:pt x="2570" y="70"/>
                  </a:moveTo>
                  <a:lnTo>
                    <a:pt x="2570" y="70"/>
                  </a:lnTo>
                  <a:lnTo>
                    <a:pt x="2577" y="64"/>
                  </a:lnTo>
                  <a:lnTo>
                    <a:pt x="2583" y="71"/>
                  </a:lnTo>
                  <a:lnTo>
                    <a:pt x="2576" y="77"/>
                  </a:lnTo>
                  <a:lnTo>
                    <a:pt x="2576" y="77"/>
                  </a:lnTo>
                  <a:lnTo>
                    <a:pt x="2570" y="70"/>
                  </a:lnTo>
                  <a:close/>
                  <a:moveTo>
                    <a:pt x="2584" y="58"/>
                  </a:moveTo>
                  <a:lnTo>
                    <a:pt x="2584" y="57"/>
                  </a:lnTo>
                  <a:lnTo>
                    <a:pt x="2590" y="52"/>
                  </a:lnTo>
                  <a:lnTo>
                    <a:pt x="2596" y="58"/>
                  </a:lnTo>
                  <a:lnTo>
                    <a:pt x="2590" y="64"/>
                  </a:lnTo>
                  <a:lnTo>
                    <a:pt x="2590" y="64"/>
                  </a:lnTo>
                  <a:lnTo>
                    <a:pt x="2584" y="58"/>
                  </a:lnTo>
                  <a:close/>
                  <a:moveTo>
                    <a:pt x="2596" y="46"/>
                  </a:moveTo>
                  <a:lnTo>
                    <a:pt x="2597" y="45"/>
                  </a:lnTo>
                  <a:lnTo>
                    <a:pt x="2603" y="39"/>
                  </a:lnTo>
                  <a:lnTo>
                    <a:pt x="2609" y="46"/>
                  </a:lnTo>
                  <a:lnTo>
                    <a:pt x="2603" y="51"/>
                  </a:lnTo>
                  <a:lnTo>
                    <a:pt x="2603" y="52"/>
                  </a:lnTo>
                  <a:lnTo>
                    <a:pt x="2596" y="46"/>
                  </a:lnTo>
                  <a:close/>
                  <a:moveTo>
                    <a:pt x="2609" y="33"/>
                  </a:moveTo>
                  <a:lnTo>
                    <a:pt x="2610" y="32"/>
                  </a:lnTo>
                  <a:lnTo>
                    <a:pt x="2615" y="26"/>
                  </a:lnTo>
                  <a:lnTo>
                    <a:pt x="2622" y="33"/>
                  </a:lnTo>
                  <a:lnTo>
                    <a:pt x="2616" y="39"/>
                  </a:lnTo>
                  <a:lnTo>
                    <a:pt x="2615" y="39"/>
                  </a:lnTo>
                  <a:lnTo>
                    <a:pt x="2609" y="33"/>
                  </a:lnTo>
                  <a:close/>
                  <a:moveTo>
                    <a:pt x="2621" y="20"/>
                  </a:moveTo>
                  <a:lnTo>
                    <a:pt x="2628" y="13"/>
                  </a:lnTo>
                  <a:lnTo>
                    <a:pt x="2634" y="20"/>
                  </a:lnTo>
                  <a:lnTo>
                    <a:pt x="2628" y="26"/>
                  </a:lnTo>
                  <a:lnTo>
                    <a:pt x="2621" y="20"/>
                  </a:lnTo>
                  <a:close/>
                  <a:moveTo>
                    <a:pt x="2634" y="7"/>
                  </a:moveTo>
                  <a:lnTo>
                    <a:pt x="2640" y="0"/>
                  </a:lnTo>
                  <a:lnTo>
                    <a:pt x="2646" y="6"/>
                  </a:lnTo>
                  <a:lnTo>
                    <a:pt x="2640" y="13"/>
                  </a:lnTo>
                  <a:lnTo>
                    <a:pt x="2634" y="7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27800" y="2585880"/>
              <a:ext cx="1757160" cy="255600"/>
            </a:xfrm>
            <a:custGeom>
              <a:avLst/>
              <a:gdLst/>
              <a:ahLst/>
              <a:rect l="l" t="t" r="r" b="b"/>
              <a:pathLst>
                <a:path w="1107" h="161">
                  <a:moveTo>
                    <a:pt x="0" y="152"/>
                  </a:moveTo>
                  <a:lnTo>
                    <a:pt x="9" y="151"/>
                  </a:lnTo>
                  <a:lnTo>
                    <a:pt x="10" y="160"/>
                  </a:lnTo>
                  <a:lnTo>
                    <a:pt x="1" y="161"/>
                  </a:lnTo>
                  <a:lnTo>
                    <a:pt x="0" y="152"/>
                  </a:lnTo>
                  <a:close/>
                  <a:moveTo>
                    <a:pt x="18" y="150"/>
                  </a:moveTo>
                  <a:lnTo>
                    <a:pt x="27" y="149"/>
                  </a:lnTo>
                  <a:lnTo>
                    <a:pt x="27" y="158"/>
                  </a:lnTo>
                  <a:lnTo>
                    <a:pt x="19" y="159"/>
                  </a:lnTo>
                  <a:lnTo>
                    <a:pt x="18" y="150"/>
                  </a:lnTo>
                  <a:close/>
                  <a:moveTo>
                    <a:pt x="36" y="148"/>
                  </a:moveTo>
                  <a:lnTo>
                    <a:pt x="44" y="147"/>
                  </a:lnTo>
                  <a:lnTo>
                    <a:pt x="45" y="156"/>
                  </a:lnTo>
                  <a:lnTo>
                    <a:pt x="36" y="157"/>
                  </a:lnTo>
                  <a:lnTo>
                    <a:pt x="36" y="148"/>
                  </a:lnTo>
                  <a:close/>
                  <a:moveTo>
                    <a:pt x="53" y="146"/>
                  </a:moveTo>
                  <a:lnTo>
                    <a:pt x="62" y="145"/>
                  </a:lnTo>
                  <a:lnTo>
                    <a:pt x="63" y="154"/>
                  </a:lnTo>
                  <a:lnTo>
                    <a:pt x="54" y="155"/>
                  </a:lnTo>
                  <a:lnTo>
                    <a:pt x="53" y="146"/>
                  </a:lnTo>
                  <a:close/>
                  <a:moveTo>
                    <a:pt x="71" y="144"/>
                  </a:moveTo>
                  <a:lnTo>
                    <a:pt x="80" y="143"/>
                  </a:lnTo>
                  <a:lnTo>
                    <a:pt x="81" y="152"/>
                  </a:lnTo>
                  <a:lnTo>
                    <a:pt x="72" y="153"/>
                  </a:lnTo>
                  <a:lnTo>
                    <a:pt x="71" y="144"/>
                  </a:lnTo>
                  <a:close/>
                  <a:moveTo>
                    <a:pt x="89" y="142"/>
                  </a:moveTo>
                  <a:lnTo>
                    <a:pt x="98" y="141"/>
                  </a:lnTo>
                  <a:lnTo>
                    <a:pt x="99" y="150"/>
                  </a:lnTo>
                  <a:lnTo>
                    <a:pt x="90" y="151"/>
                  </a:lnTo>
                  <a:lnTo>
                    <a:pt x="89" y="142"/>
                  </a:lnTo>
                  <a:close/>
                  <a:moveTo>
                    <a:pt x="107" y="140"/>
                  </a:moveTo>
                  <a:lnTo>
                    <a:pt x="116" y="139"/>
                  </a:lnTo>
                  <a:lnTo>
                    <a:pt x="117" y="148"/>
                  </a:lnTo>
                  <a:lnTo>
                    <a:pt x="108" y="149"/>
                  </a:lnTo>
                  <a:lnTo>
                    <a:pt x="107" y="140"/>
                  </a:lnTo>
                  <a:close/>
                  <a:moveTo>
                    <a:pt x="125" y="138"/>
                  </a:moveTo>
                  <a:lnTo>
                    <a:pt x="128" y="138"/>
                  </a:lnTo>
                  <a:lnTo>
                    <a:pt x="134" y="138"/>
                  </a:lnTo>
                  <a:lnTo>
                    <a:pt x="135" y="147"/>
                  </a:lnTo>
                  <a:lnTo>
                    <a:pt x="129" y="147"/>
                  </a:lnTo>
                  <a:lnTo>
                    <a:pt x="126" y="147"/>
                  </a:lnTo>
                  <a:lnTo>
                    <a:pt x="125" y="138"/>
                  </a:lnTo>
                  <a:close/>
                  <a:moveTo>
                    <a:pt x="142" y="137"/>
                  </a:moveTo>
                  <a:lnTo>
                    <a:pt x="151" y="136"/>
                  </a:lnTo>
                  <a:lnTo>
                    <a:pt x="152" y="145"/>
                  </a:lnTo>
                  <a:lnTo>
                    <a:pt x="144" y="145"/>
                  </a:lnTo>
                  <a:lnTo>
                    <a:pt x="142" y="137"/>
                  </a:lnTo>
                  <a:close/>
                  <a:moveTo>
                    <a:pt x="160" y="135"/>
                  </a:moveTo>
                  <a:lnTo>
                    <a:pt x="169" y="134"/>
                  </a:lnTo>
                  <a:lnTo>
                    <a:pt x="170" y="143"/>
                  </a:lnTo>
                  <a:lnTo>
                    <a:pt x="161" y="144"/>
                  </a:lnTo>
                  <a:lnTo>
                    <a:pt x="160" y="135"/>
                  </a:lnTo>
                  <a:close/>
                  <a:moveTo>
                    <a:pt x="178" y="133"/>
                  </a:moveTo>
                  <a:lnTo>
                    <a:pt x="187" y="132"/>
                  </a:lnTo>
                  <a:lnTo>
                    <a:pt x="188" y="141"/>
                  </a:lnTo>
                  <a:lnTo>
                    <a:pt x="179" y="142"/>
                  </a:lnTo>
                  <a:lnTo>
                    <a:pt x="178" y="133"/>
                  </a:lnTo>
                  <a:close/>
                  <a:moveTo>
                    <a:pt x="196" y="131"/>
                  </a:moveTo>
                  <a:lnTo>
                    <a:pt x="205" y="130"/>
                  </a:lnTo>
                  <a:lnTo>
                    <a:pt x="206" y="139"/>
                  </a:lnTo>
                  <a:lnTo>
                    <a:pt x="197" y="140"/>
                  </a:lnTo>
                  <a:lnTo>
                    <a:pt x="196" y="131"/>
                  </a:lnTo>
                  <a:close/>
                  <a:moveTo>
                    <a:pt x="214" y="129"/>
                  </a:moveTo>
                  <a:lnTo>
                    <a:pt x="223" y="128"/>
                  </a:lnTo>
                  <a:lnTo>
                    <a:pt x="224" y="137"/>
                  </a:lnTo>
                  <a:lnTo>
                    <a:pt x="215" y="138"/>
                  </a:lnTo>
                  <a:lnTo>
                    <a:pt x="214" y="129"/>
                  </a:lnTo>
                  <a:close/>
                  <a:moveTo>
                    <a:pt x="232" y="127"/>
                  </a:moveTo>
                  <a:lnTo>
                    <a:pt x="241" y="126"/>
                  </a:lnTo>
                  <a:lnTo>
                    <a:pt x="242" y="135"/>
                  </a:lnTo>
                  <a:lnTo>
                    <a:pt x="233" y="136"/>
                  </a:lnTo>
                  <a:lnTo>
                    <a:pt x="232" y="127"/>
                  </a:lnTo>
                  <a:close/>
                  <a:moveTo>
                    <a:pt x="250" y="125"/>
                  </a:moveTo>
                  <a:lnTo>
                    <a:pt x="255" y="125"/>
                  </a:lnTo>
                  <a:lnTo>
                    <a:pt x="259" y="124"/>
                  </a:lnTo>
                  <a:lnTo>
                    <a:pt x="260" y="133"/>
                  </a:lnTo>
                  <a:lnTo>
                    <a:pt x="256" y="134"/>
                  </a:lnTo>
                  <a:lnTo>
                    <a:pt x="251" y="134"/>
                  </a:lnTo>
                  <a:lnTo>
                    <a:pt x="250" y="125"/>
                  </a:lnTo>
                  <a:close/>
                  <a:moveTo>
                    <a:pt x="267" y="123"/>
                  </a:moveTo>
                  <a:lnTo>
                    <a:pt x="276" y="122"/>
                  </a:lnTo>
                  <a:lnTo>
                    <a:pt x="277" y="131"/>
                  </a:lnTo>
                  <a:lnTo>
                    <a:pt x="268" y="132"/>
                  </a:lnTo>
                  <a:lnTo>
                    <a:pt x="267" y="123"/>
                  </a:lnTo>
                  <a:close/>
                  <a:moveTo>
                    <a:pt x="285" y="121"/>
                  </a:moveTo>
                  <a:lnTo>
                    <a:pt x="294" y="120"/>
                  </a:lnTo>
                  <a:lnTo>
                    <a:pt x="295" y="129"/>
                  </a:lnTo>
                  <a:lnTo>
                    <a:pt x="286" y="130"/>
                  </a:lnTo>
                  <a:lnTo>
                    <a:pt x="285" y="121"/>
                  </a:lnTo>
                  <a:close/>
                  <a:moveTo>
                    <a:pt x="303" y="119"/>
                  </a:moveTo>
                  <a:lnTo>
                    <a:pt x="312" y="118"/>
                  </a:lnTo>
                  <a:lnTo>
                    <a:pt x="313" y="127"/>
                  </a:lnTo>
                  <a:lnTo>
                    <a:pt x="304" y="128"/>
                  </a:lnTo>
                  <a:lnTo>
                    <a:pt x="303" y="119"/>
                  </a:lnTo>
                  <a:close/>
                  <a:moveTo>
                    <a:pt x="321" y="118"/>
                  </a:moveTo>
                  <a:lnTo>
                    <a:pt x="330" y="116"/>
                  </a:lnTo>
                  <a:lnTo>
                    <a:pt x="331" y="125"/>
                  </a:lnTo>
                  <a:lnTo>
                    <a:pt x="322" y="126"/>
                  </a:lnTo>
                  <a:lnTo>
                    <a:pt x="321" y="118"/>
                  </a:lnTo>
                  <a:close/>
                  <a:moveTo>
                    <a:pt x="339" y="116"/>
                  </a:moveTo>
                  <a:lnTo>
                    <a:pt x="348" y="115"/>
                  </a:lnTo>
                  <a:lnTo>
                    <a:pt x="349" y="124"/>
                  </a:lnTo>
                  <a:lnTo>
                    <a:pt x="340" y="125"/>
                  </a:lnTo>
                  <a:lnTo>
                    <a:pt x="339" y="116"/>
                  </a:lnTo>
                  <a:close/>
                  <a:moveTo>
                    <a:pt x="357" y="114"/>
                  </a:moveTo>
                  <a:lnTo>
                    <a:pt x="366" y="113"/>
                  </a:lnTo>
                  <a:lnTo>
                    <a:pt x="367" y="122"/>
                  </a:lnTo>
                  <a:lnTo>
                    <a:pt x="358" y="123"/>
                  </a:lnTo>
                  <a:lnTo>
                    <a:pt x="357" y="114"/>
                  </a:lnTo>
                  <a:close/>
                  <a:moveTo>
                    <a:pt x="375" y="112"/>
                  </a:moveTo>
                  <a:lnTo>
                    <a:pt x="377" y="111"/>
                  </a:lnTo>
                  <a:lnTo>
                    <a:pt x="384" y="111"/>
                  </a:lnTo>
                  <a:lnTo>
                    <a:pt x="384" y="120"/>
                  </a:lnTo>
                  <a:lnTo>
                    <a:pt x="378" y="120"/>
                  </a:lnTo>
                  <a:lnTo>
                    <a:pt x="375" y="121"/>
                  </a:lnTo>
                  <a:lnTo>
                    <a:pt x="375" y="112"/>
                  </a:lnTo>
                  <a:close/>
                  <a:moveTo>
                    <a:pt x="392" y="110"/>
                  </a:moveTo>
                  <a:lnTo>
                    <a:pt x="401" y="109"/>
                  </a:lnTo>
                  <a:lnTo>
                    <a:pt x="402" y="118"/>
                  </a:lnTo>
                  <a:lnTo>
                    <a:pt x="393" y="119"/>
                  </a:lnTo>
                  <a:lnTo>
                    <a:pt x="392" y="110"/>
                  </a:lnTo>
                  <a:close/>
                  <a:moveTo>
                    <a:pt x="410" y="108"/>
                  </a:moveTo>
                  <a:lnTo>
                    <a:pt x="419" y="107"/>
                  </a:lnTo>
                  <a:lnTo>
                    <a:pt x="420" y="116"/>
                  </a:lnTo>
                  <a:lnTo>
                    <a:pt x="411" y="117"/>
                  </a:lnTo>
                  <a:lnTo>
                    <a:pt x="410" y="108"/>
                  </a:lnTo>
                  <a:close/>
                  <a:moveTo>
                    <a:pt x="428" y="106"/>
                  </a:moveTo>
                  <a:lnTo>
                    <a:pt x="437" y="105"/>
                  </a:lnTo>
                  <a:lnTo>
                    <a:pt x="437" y="105"/>
                  </a:lnTo>
                  <a:lnTo>
                    <a:pt x="438" y="114"/>
                  </a:lnTo>
                  <a:lnTo>
                    <a:pt x="438" y="114"/>
                  </a:lnTo>
                  <a:lnTo>
                    <a:pt x="429" y="115"/>
                  </a:lnTo>
                  <a:lnTo>
                    <a:pt x="428" y="106"/>
                  </a:lnTo>
                  <a:close/>
                  <a:moveTo>
                    <a:pt x="446" y="104"/>
                  </a:moveTo>
                  <a:lnTo>
                    <a:pt x="455" y="103"/>
                  </a:lnTo>
                  <a:lnTo>
                    <a:pt x="456" y="112"/>
                  </a:lnTo>
                  <a:lnTo>
                    <a:pt x="447" y="113"/>
                  </a:lnTo>
                  <a:lnTo>
                    <a:pt x="446" y="104"/>
                  </a:lnTo>
                  <a:close/>
                  <a:moveTo>
                    <a:pt x="464" y="102"/>
                  </a:moveTo>
                  <a:lnTo>
                    <a:pt x="473" y="101"/>
                  </a:lnTo>
                  <a:lnTo>
                    <a:pt x="474" y="110"/>
                  </a:lnTo>
                  <a:lnTo>
                    <a:pt x="465" y="111"/>
                  </a:lnTo>
                  <a:lnTo>
                    <a:pt x="464" y="102"/>
                  </a:lnTo>
                  <a:close/>
                  <a:moveTo>
                    <a:pt x="482" y="100"/>
                  </a:moveTo>
                  <a:lnTo>
                    <a:pt x="490" y="99"/>
                  </a:lnTo>
                  <a:lnTo>
                    <a:pt x="492" y="108"/>
                  </a:lnTo>
                  <a:lnTo>
                    <a:pt x="483" y="109"/>
                  </a:lnTo>
                  <a:lnTo>
                    <a:pt x="482" y="100"/>
                  </a:lnTo>
                  <a:close/>
                  <a:moveTo>
                    <a:pt x="499" y="98"/>
                  </a:moveTo>
                  <a:lnTo>
                    <a:pt x="508" y="97"/>
                  </a:lnTo>
                  <a:lnTo>
                    <a:pt x="509" y="106"/>
                  </a:lnTo>
                  <a:lnTo>
                    <a:pt x="500" y="107"/>
                  </a:lnTo>
                  <a:lnTo>
                    <a:pt x="499" y="98"/>
                  </a:lnTo>
                  <a:close/>
                  <a:moveTo>
                    <a:pt x="517" y="96"/>
                  </a:moveTo>
                  <a:lnTo>
                    <a:pt x="526" y="95"/>
                  </a:lnTo>
                  <a:lnTo>
                    <a:pt x="527" y="104"/>
                  </a:lnTo>
                  <a:lnTo>
                    <a:pt x="518" y="105"/>
                  </a:lnTo>
                  <a:lnTo>
                    <a:pt x="517" y="96"/>
                  </a:lnTo>
                  <a:close/>
                  <a:moveTo>
                    <a:pt x="535" y="94"/>
                  </a:moveTo>
                  <a:lnTo>
                    <a:pt x="544" y="93"/>
                  </a:lnTo>
                  <a:lnTo>
                    <a:pt x="545" y="102"/>
                  </a:lnTo>
                  <a:lnTo>
                    <a:pt x="536" y="103"/>
                  </a:lnTo>
                  <a:lnTo>
                    <a:pt x="535" y="94"/>
                  </a:lnTo>
                  <a:close/>
                  <a:moveTo>
                    <a:pt x="553" y="92"/>
                  </a:moveTo>
                  <a:lnTo>
                    <a:pt x="562" y="91"/>
                  </a:lnTo>
                  <a:lnTo>
                    <a:pt x="563" y="100"/>
                  </a:lnTo>
                  <a:lnTo>
                    <a:pt x="554" y="101"/>
                  </a:lnTo>
                  <a:lnTo>
                    <a:pt x="553" y="92"/>
                  </a:lnTo>
                  <a:close/>
                  <a:moveTo>
                    <a:pt x="571" y="90"/>
                  </a:moveTo>
                  <a:lnTo>
                    <a:pt x="580" y="89"/>
                  </a:lnTo>
                  <a:lnTo>
                    <a:pt x="581" y="98"/>
                  </a:lnTo>
                  <a:lnTo>
                    <a:pt x="572" y="99"/>
                  </a:lnTo>
                  <a:lnTo>
                    <a:pt x="571" y="90"/>
                  </a:lnTo>
                  <a:close/>
                  <a:moveTo>
                    <a:pt x="589" y="88"/>
                  </a:moveTo>
                  <a:lnTo>
                    <a:pt x="597" y="87"/>
                  </a:lnTo>
                  <a:lnTo>
                    <a:pt x="599" y="96"/>
                  </a:lnTo>
                  <a:lnTo>
                    <a:pt x="590" y="97"/>
                  </a:lnTo>
                  <a:lnTo>
                    <a:pt x="589" y="88"/>
                  </a:lnTo>
                  <a:close/>
                  <a:moveTo>
                    <a:pt x="606" y="86"/>
                  </a:moveTo>
                  <a:lnTo>
                    <a:pt x="615" y="85"/>
                  </a:lnTo>
                  <a:lnTo>
                    <a:pt x="616" y="94"/>
                  </a:lnTo>
                  <a:lnTo>
                    <a:pt x="607" y="95"/>
                  </a:lnTo>
                  <a:lnTo>
                    <a:pt x="606" y="86"/>
                  </a:lnTo>
                  <a:close/>
                  <a:moveTo>
                    <a:pt x="624" y="84"/>
                  </a:moveTo>
                  <a:lnTo>
                    <a:pt x="633" y="83"/>
                  </a:lnTo>
                  <a:lnTo>
                    <a:pt x="634" y="92"/>
                  </a:lnTo>
                  <a:lnTo>
                    <a:pt x="625" y="93"/>
                  </a:lnTo>
                  <a:lnTo>
                    <a:pt x="624" y="84"/>
                  </a:lnTo>
                  <a:close/>
                  <a:moveTo>
                    <a:pt x="642" y="82"/>
                  </a:moveTo>
                  <a:lnTo>
                    <a:pt x="651" y="81"/>
                  </a:lnTo>
                  <a:lnTo>
                    <a:pt x="652" y="90"/>
                  </a:lnTo>
                  <a:lnTo>
                    <a:pt x="643" y="91"/>
                  </a:lnTo>
                  <a:lnTo>
                    <a:pt x="642" y="82"/>
                  </a:lnTo>
                  <a:close/>
                  <a:moveTo>
                    <a:pt x="660" y="80"/>
                  </a:moveTo>
                  <a:lnTo>
                    <a:pt x="669" y="79"/>
                  </a:lnTo>
                  <a:lnTo>
                    <a:pt x="670" y="88"/>
                  </a:lnTo>
                  <a:lnTo>
                    <a:pt x="661" y="89"/>
                  </a:lnTo>
                  <a:lnTo>
                    <a:pt x="660" y="80"/>
                  </a:lnTo>
                  <a:close/>
                  <a:moveTo>
                    <a:pt x="678" y="78"/>
                  </a:moveTo>
                  <a:lnTo>
                    <a:pt x="687" y="77"/>
                  </a:lnTo>
                  <a:lnTo>
                    <a:pt x="688" y="86"/>
                  </a:lnTo>
                  <a:lnTo>
                    <a:pt x="679" y="87"/>
                  </a:lnTo>
                  <a:lnTo>
                    <a:pt x="678" y="78"/>
                  </a:lnTo>
                  <a:close/>
                  <a:moveTo>
                    <a:pt x="696" y="76"/>
                  </a:moveTo>
                  <a:lnTo>
                    <a:pt x="704" y="75"/>
                  </a:lnTo>
                  <a:lnTo>
                    <a:pt x="705" y="84"/>
                  </a:lnTo>
                  <a:lnTo>
                    <a:pt x="697" y="85"/>
                  </a:lnTo>
                  <a:lnTo>
                    <a:pt x="696" y="76"/>
                  </a:lnTo>
                  <a:close/>
                  <a:moveTo>
                    <a:pt x="713" y="73"/>
                  </a:moveTo>
                  <a:lnTo>
                    <a:pt x="722" y="72"/>
                  </a:lnTo>
                  <a:lnTo>
                    <a:pt x="723" y="81"/>
                  </a:lnTo>
                  <a:lnTo>
                    <a:pt x="714" y="82"/>
                  </a:lnTo>
                  <a:lnTo>
                    <a:pt x="713" y="73"/>
                  </a:lnTo>
                  <a:close/>
                  <a:moveTo>
                    <a:pt x="731" y="71"/>
                  </a:moveTo>
                  <a:lnTo>
                    <a:pt x="740" y="70"/>
                  </a:lnTo>
                  <a:lnTo>
                    <a:pt x="741" y="79"/>
                  </a:lnTo>
                  <a:lnTo>
                    <a:pt x="732" y="80"/>
                  </a:lnTo>
                  <a:lnTo>
                    <a:pt x="731" y="71"/>
                  </a:lnTo>
                  <a:close/>
                  <a:moveTo>
                    <a:pt x="749" y="69"/>
                  </a:moveTo>
                  <a:lnTo>
                    <a:pt x="751" y="69"/>
                  </a:lnTo>
                  <a:lnTo>
                    <a:pt x="758" y="68"/>
                  </a:lnTo>
                  <a:lnTo>
                    <a:pt x="759" y="77"/>
                  </a:lnTo>
                  <a:lnTo>
                    <a:pt x="752" y="78"/>
                  </a:lnTo>
                  <a:lnTo>
                    <a:pt x="750" y="78"/>
                  </a:lnTo>
                  <a:lnTo>
                    <a:pt x="749" y="69"/>
                  </a:lnTo>
                  <a:close/>
                  <a:moveTo>
                    <a:pt x="767" y="67"/>
                  </a:moveTo>
                  <a:lnTo>
                    <a:pt x="773" y="66"/>
                  </a:lnTo>
                  <a:lnTo>
                    <a:pt x="776" y="66"/>
                  </a:lnTo>
                  <a:lnTo>
                    <a:pt x="777" y="75"/>
                  </a:lnTo>
                  <a:lnTo>
                    <a:pt x="774" y="75"/>
                  </a:lnTo>
                  <a:lnTo>
                    <a:pt x="768" y="76"/>
                  </a:lnTo>
                  <a:lnTo>
                    <a:pt x="767" y="67"/>
                  </a:lnTo>
                  <a:close/>
                  <a:moveTo>
                    <a:pt x="785" y="65"/>
                  </a:moveTo>
                  <a:lnTo>
                    <a:pt x="793" y="64"/>
                  </a:lnTo>
                  <a:lnTo>
                    <a:pt x="795" y="73"/>
                  </a:lnTo>
                  <a:lnTo>
                    <a:pt x="786" y="74"/>
                  </a:lnTo>
                  <a:lnTo>
                    <a:pt x="785" y="65"/>
                  </a:lnTo>
                  <a:close/>
                  <a:moveTo>
                    <a:pt x="802" y="63"/>
                  </a:moveTo>
                  <a:lnTo>
                    <a:pt x="811" y="61"/>
                  </a:lnTo>
                  <a:lnTo>
                    <a:pt x="812" y="70"/>
                  </a:lnTo>
                  <a:lnTo>
                    <a:pt x="803" y="71"/>
                  </a:lnTo>
                  <a:lnTo>
                    <a:pt x="802" y="63"/>
                  </a:lnTo>
                  <a:close/>
                  <a:moveTo>
                    <a:pt x="820" y="60"/>
                  </a:moveTo>
                  <a:lnTo>
                    <a:pt x="829" y="59"/>
                  </a:lnTo>
                  <a:lnTo>
                    <a:pt x="830" y="68"/>
                  </a:lnTo>
                  <a:lnTo>
                    <a:pt x="821" y="69"/>
                  </a:lnTo>
                  <a:lnTo>
                    <a:pt x="820" y="60"/>
                  </a:lnTo>
                  <a:close/>
                  <a:moveTo>
                    <a:pt x="838" y="58"/>
                  </a:moveTo>
                  <a:lnTo>
                    <a:pt x="847" y="57"/>
                  </a:lnTo>
                  <a:lnTo>
                    <a:pt x="848" y="66"/>
                  </a:lnTo>
                  <a:lnTo>
                    <a:pt x="839" y="67"/>
                  </a:lnTo>
                  <a:lnTo>
                    <a:pt x="838" y="58"/>
                  </a:lnTo>
                  <a:close/>
                  <a:moveTo>
                    <a:pt x="856" y="56"/>
                  </a:moveTo>
                  <a:lnTo>
                    <a:pt x="865" y="54"/>
                  </a:lnTo>
                  <a:lnTo>
                    <a:pt x="866" y="63"/>
                  </a:lnTo>
                  <a:lnTo>
                    <a:pt x="857" y="64"/>
                  </a:lnTo>
                  <a:lnTo>
                    <a:pt x="856" y="56"/>
                  </a:lnTo>
                  <a:close/>
                  <a:moveTo>
                    <a:pt x="873" y="53"/>
                  </a:moveTo>
                  <a:lnTo>
                    <a:pt x="882" y="52"/>
                  </a:lnTo>
                  <a:lnTo>
                    <a:pt x="884" y="61"/>
                  </a:lnTo>
                  <a:lnTo>
                    <a:pt x="875" y="62"/>
                  </a:lnTo>
                  <a:lnTo>
                    <a:pt x="873" y="53"/>
                  </a:lnTo>
                  <a:close/>
                  <a:moveTo>
                    <a:pt x="891" y="51"/>
                  </a:moveTo>
                  <a:lnTo>
                    <a:pt x="900" y="49"/>
                  </a:lnTo>
                  <a:lnTo>
                    <a:pt x="901" y="58"/>
                  </a:lnTo>
                  <a:lnTo>
                    <a:pt x="892" y="60"/>
                  </a:lnTo>
                  <a:lnTo>
                    <a:pt x="891" y="51"/>
                  </a:lnTo>
                  <a:close/>
                  <a:moveTo>
                    <a:pt x="909" y="48"/>
                  </a:moveTo>
                  <a:lnTo>
                    <a:pt x="918" y="47"/>
                  </a:lnTo>
                  <a:lnTo>
                    <a:pt x="918" y="47"/>
                  </a:lnTo>
                  <a:lnTo>
                    <a:pt x="919" y="56"/>
                  </a:lnTo>
                  <a:lnTo>
                    <a:pt x="919" y="56"/>
                  </a:lnTo>
                  <a:lnTo>
                    <a:pt x="910" y="57"/>
                  </a:lnTo>
                  <a:lnTo>
                    <a:pt x="909" y="48"/>
                  </a:lnTo>
                  <a:close/>
                  <a:moveTo>
                    <a:pt x="927" y="45"/>
                  </a:moveTo>
                  <a:lnTo>
                    <a:pt x="932" y="45"/>
                  </a:lnTo>
                  <a:lnTo>
                    <a:pt x="936" y="44"/>
                  </a:lnTo>
                  <a:lnTo>
                    <a:pt x="937" y="53"/>
                  </a:lnTo>
                  <a:lnTo>
                    <a:pt x="933" y="54"/>
                  </a:lnTo>
                  <a:lnTo>
                    <a:pt x="928" y="54"/>
                  </a:lnTo>
                  <a:lnTo>
                    <a:pt x="927" y="45"/>
                  </a:lnTo>
                  <a:close/>
                  <a:moveTo>
                    <a:pt x="945" y="43"/>
                  </a:moveTo>
                  <a:lnTo>
                    <a:pt x="945" y="43"/>
                  </a:lnTo>
                  <a:lnTo>
                    <a:pt x="953" y="41"/>
                  </a:lnTo>
                  <a:lnTo>
                    <a:pt x="955" y="50"/>
                  </a:lnTo>
                  <a:lnTo>
                    <a:pt x="947" y="51"/>
                  </a:lnTo>
                  <a:lnTo>
                    <a:pt x="946" y="52"/>
                  </a:lnTo>
                  <a:lnTo>
                    <a:pt x="945" y="43"/>
                  </a:lnTo>
                  <a:close/>
                  <a:moveTo>
                    <a:pt x="962" y="40"/>
                  </a:moveTo>
                  <a:lnTo>
                    <a:pt x="969" y="39"/>
                  </a:lnTo>
                  <a:lnTo>
                    <a:pt x="971" y="38"/>
                  </a:lnTo>
                  <a:lnTo>
                    <a:pt x="973" y="47"/>
                  </a:lnTo>
                  <a:lnTo>
                    <a:pt x="971" y="48"/>
                  </a:lnTo>
                  <a:lnTo>
                    <a:pt x="964" y="49"/>
                  </a:lnTo>
                  <a:lnTo>
                    <a:pt x="962" y="40"/>
                  </a:lnTo>
                  <a:close/>
                  <a:moveTo>
                    <a:pt x="980" y="37"/>
                  </a:moveTo>
                  <a:lnTo>
                    <a:pt x="980" y="37"/>
                  </a:lnTo>
                  <a:lnTo>
                    <a:pt x="988" y="35"/>
                  </a:lnTo>
                  <a:lnTo>
                    <a:pt x="990" y="44"/>
                  </a:lnTo>
                  <a:lnTo>
                    <a:pt x="982" y="46"/>
                  </a:lnTo>
                  <a:lnTo>
                    <a:pt x="981" y="46"/>
                  </a:lnTo>
                  <a:lnTo>
                    <a:pt x="980" y="37"/>
                  </a:lnTo>
                  <a:close/>
                  <a:moveTo>
                    <a:pt x="997" y="33"/>
                  </a:moveTo>
                  <a:lnTo>
                    <a:pt x="1001" y="33"/>
                  </a:lnTo>
                  <a:lnTo>
                    <a:pt x="1006" y="32"/>
                  </a:lnTo>
                  <a:lnTo>
                    <a:pt x="1008" y="41"/>
                  </a:lnTo>
                  <a:lnTo>
                    <a:pt x="1002" y="42"/>
                  </a:lnTo>
                  <a:lnTo>
                    <a:pt x="999" y="42"/>
                  </a:lnTo>
                  <a:lnTo>
                    <a:pt x="997" y="33"/>
                  </a:lnTo>
                  <a:close/>
                  <a:moveTo>
                    <a:pt x="1015" y="30"/>
                  </a:moveTo>
                  <a:lnTo>
                    <a:pt x="1018" y="29"/>
                  </a:lnTo>
                  <a:lnTo>
                    <a:pt x="1024" y="28"/>
                  </a:lnTo>
                  <a:lnTo>
                    <a:pt x="1025" y="37"/>
                  </a:lnTo>
                  <a:lnTo>
                    <a:pt x="1020" y="38"/>
                  </a:lnTo>
                  <a:lnTo>
                    <a:pt x="1017" y="39"/>
                  </a:lnTo>
                  <a:lnTo>
                    <a:pt x="1015" y="30"/>
                  </a:lnTo>
                  <a:close/>
                  <a:moveTo>
                    <a:pt x="1032" y="26"/>
                  </a:moveTo>
                  <a:lnTo>
                    <a:pt x="1033" y="26"/>
                  </a:lnTo>
                  <a:lnTo>
                    <a:pt x="1040" y="24"/>
                  </a:lnTo>
                  <a:lnTo>
                    <a:pt x="1041" y="24"/>
                  </a:lnTo>
                  <a:lnTo>
                    <a:pt x="1043" y="33"/>
                  </a:lnTo>
                  <a:lnTo>
                    <a:pt x="1042" y="33"/>
                  </a:lnTo>
                  <a:lnTo>
                    <a:pt x="1035" y="35"/>
                  </a:lnTo>
                  <a:lnTo>
                    <a:pt x="1034" y="35"/>
                  </a:lnTo>
                  <a:lnTo>
                    <a:pt x="1032" y="26"/>
                  </a:lnTo>
                  <a:close/>
                  <a:moveTo>
                    <a:pt x="1050" y="22"/>
                  </a:moveTo>
                  <a:lnTo>
                    <a:pt x="1052" y="21"/>
                  </a:lnTo>
                  <a:lnTo>
                    <a:pt x="1057" y="20"/>
                  </a:lnTo>
                  <a:lnTo>
                    <a:pt x="1058" y="19"/>
                  </a:lnTo>
                  <a:lnTo>
                    <a:pt x="1061" y="28"/>
                  </a:lnTo>
                  <a:lnTo>
                    <a:pt x="1060" y="28"/>
                  </a:lnTo>
                  <a:lnTo>
                    <a:pt x="1054" y="30"/>
                  </a:lnTo>
                  <a:lnTo>
                    <a:pt x="1052" y="30"/>
                  </a:lnTo>
                  <a:lnTo>
                    <a:pt x="1050" y="22"/>
                  </a:lnTo>
                  <a:close/>
                  <a:moveTo>
                    <a:pt x="1067" y="17"/>
                  </a:moveTo>
                  <a:lnTo>
                    <a:pt x="1067" y="17"/>
                  </a:lnTo>
                  <a:lnTo>
                    <a:pt x="1071" y="15"/>
                  </a:lnTo>
                  <a:lnTo>
                    <a:pt x="1075" y="14"/>
                  </a:lnTo>
                  <a:lnTo>
                    <a:pt x="1078" y="22"/>
                  </a:lnTo>
                  <a:lnTo>
                    <a:pt x="1074" y="24"/>
                  </a:lnTo>
                  <a:lnTo>
                    <a:pt x="1070" y="25"/>
                  </a:lnTo>
                  <a:lnTo>
                    <a:pt x="1069" y="25"/>
                  </a:lnTo>
                  <a:lnTo>
                    <a:pt x="1067" y="17"/>
                  </a:lnTo>
                  <a:close/>
                  <a:moveTo>
                    <a:pt x="1083" y="11"/>
                  </a:moveTo>
                  <a:lnTo>
                    <a:pt x="1088" y="8"/>
                  </a:lnTo>
                  <a:lnTo>
                    <a:pt x="1091" y="7"/>
                  </a:lnTo>
                  <a:lnTo>
                    <a:pt x="1095" y="15"/>
                  </a:lnTo>
                  <a:lnTo>
                    <a:pt x="1092" y="16"/>
                  </a:lnTo>
                  <a:lnTo>
                    <a:pt x="1086" y="19"/>
                  </a:lnTo>
                  <a:lnTo>
                    <a:pt x="1083" y="11"/>
                  </a:lnTo>
                  <a:close/>
                  <a:moveTo>
                    <a:pt x="1099" y="3"/>
                  </a:moveTo>
                  <a:lnTo>
                    <a:pt x="1103" y="0"/>
                  </a:lnTo>
                  <a:lnTo>
                    <a:pt x="1107" y="8"/>
                  </a:lnTo>
                  <a:lnTo>
                    <a:pt x="1103" y="11"/>
                  </a:lnTo>
                  <a:lnTo>
                    <a:pt x="1099" y="3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802560" y="2895480"/>
              <a:ext cx="760320" cy="320760"/>
            </a:xfrm>
            <a:custGeom>
              <a:avLst/>
              <a:gdLst/>
              <a:ahLst/>
              <a:rect l="l" t="t" r="r" b="b"/>
              <a:pathLst>
                <a:path w="479" h="202">
                  <a:moveTo>
                    <a:pt x="0" y="202"/>
                  </a:moveTo>
                  <a:cubicBezTo>
                    <a:pt x="143" y="174"/>
                    <a:pt x="287" y="145"/>
                    <a:pt x="366" y="111"/>
                  </a:cubicBezTo>
                  <a:cubicBezTo>
                    <a:pt x="446" y="77"/>
                    <a:pt x="462" y="39"/>
                    <a:pt x="47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448240" y="1574640"/>
              <a:ext cx="10782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ingle stag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interi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40400" y="197496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242040" y="1825560"/>
              <a:ext cx="1039680" cy="57240"/>
            </a:xfrm>
            <a:custGeom>
              <a:avLst/>
              <a:gdLst/>
              <a:ahLst/>
              <a:rect l="l" t="t" r="r" b="b"/>
              <a:pathLst>
                <a:path w="3648" h="200">
                  <a:moveTo>
                    <a:pt x="16" y="84"/>
                  </a:moveTo>
                  <a:lnTo>
                    <a:pt x="3482" y="84"/>
                  </a:lnTo>
                  <a:cubicBezTo>
                    <a:pt x="3491" y="84"/>
                    <a:pt x="3498" y="91"/>
                    <a:pt x="3498" y="100"/>
                  </a:cubicBezTo>
                  <a:cubicBezTo>
                    <a:pt x="3498" y="110"/>
                    <a:pt x="3491" y="117"/>
                    <a:pt x="3482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3448" y="0"/>
                  </a:moveTo>
                  <a:lnTo>
                    <a:pt x="3648" y="100"/>
                  </a:lnTo>
                  <a:lnTo>
                    <a:pt x="3448" y="200"/>
                  </a:lnTo>
                  <a:lnTo>
                    <a:pt x="344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42040" y="1852560"/>
              <a:ext cx="604800" cy="473040"/>
            </a:xfrm>
            <a:custGeom>
              <a:avLst/>
              <a:gdLst/>
              <a:ahLst/>
              <a:rect l="l" t="t" r="r" b="b"/>
              <a:pathLst>
                <a:path w="2122" h="1658">
                  <a:moveTo>
                    <a:pt x="29" y="5"/>
                  </a:moveTo>
                  <a:lnTo>
                    <a:pt x="2001" y="1543"/>
                  </a:lnTo>
                  <a:cubicBezTo>
                    <a:pt x="2009" y="1549"/>
                    <a:pt x="2010" y="1559"/>
                    <a:pt x="2004" y="1566"/>
                  </a:cubicBezTo>
                  <a:cubicBezTo>
                    <a:pt x="1999" y="1574"/>
                    <a:pt x="1988" y="1575"/>
                    <a:pt x="1981" y="1569"/>
                  </a:cubicBezTo>
                  <a:lnTo>
                    <a:pt x="8" y="32"/>
                  </a:lnTo>
                  <a:cubicBezTo>
                    <a:pt x="1" y="26"/>
                    <a:pt x="0" y="15"/>
                    <a:pt x="5" y="8"/>
                  </a:cubicBezTo>
                  <a:cubicBezTo>
                    <a:pt x="11" y="1"/>
                    <a:pt x="21" y="0"/>
                    <a:pt x="29" y="5"/>
                  </a:cubicBezTo>
                  <a:close/>
                  <a:moveTo>
                    <a:pt x="2026" y="1457"/>
                  </a:moveTo>
                  <a:lnTo>
                    <a:pt x="2122" y="1658"/>
                  </a:lnTo>
                  <a:lnTo>
                    <a:pt x="1903" y="1614"/>
                  </a:lnTo>
                  <a:lnTo>
                    <a:pt x="2026" y="145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360320" y="2098800"/>
              <a:ext cx="8208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wo stag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intering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502160" y="249876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127480" y="2325600"/>
              <a:ext cx="1586160" cy="349200"/>
            </a:xfrm>
            <a:custGeom>
              <a:avLst/>
              <a:gdLst/>
              <a:ahLst/>
              <a:rect l="l" t="t" r="r" b="b"/>
              <a:pathLst>
                <a:path w="5566" h="1224">
                  <a:moveTo>
                    <a:pt x="22" y="2"/>
                  </a:moveTo>
                  <a:lnTo>
                    <a:pt x="5407" y="1116"/>
                  </a:lnTo>
                  <a:cubicBezTo>
                    <a:pt x="5416" y="1118"/>
                    <a:pt x="5421" y="1127"/>
                    <a:pt x="5420" y="1136"/>
                  </a:cubicBezTo>
                  <a:cubicBezTo>
                    <a:pt x="5418" y="1145"/>
                    <a:pt x="5409" y="1151"/>
                    <a:pt x="5400" y="1149"/>
                  </a:cubicBezTo>
                  <a:lnTo>
                    <a:pt x="15" y="35"/>
                  </a:lnTo>
                  <a:cubicBezTo>
                    <a:pt x="6" y="33"/>
                    <a:pt x="0" y="24"/>
                    <a:pt x="2" y="15"/>
                  </a:cubicBezTo>
                  <a:cubicBezTo>
                    <a:pt x="4" y="6"/>
                    <a:pt x="13" y="0"/>
                    <a:pt x="22" y="2"/>
                  </a:cubicBezTo>
                  <a:close/>
                  <a:moveTo>
                    <a:pt x="5391" y="1028"/>
                  </a:moveTo>
                  <a:lnTo>
                    <a:pt x="5566" y="1166"/>
                  </a:lnTo>
                  <a:lnTo>
                    <a:pt x="5350" y="1224"/>
                  </a:lnTo>
                  <a:lnTo>
                    <a:pt x="5391" y="102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127480" y="2325600"/>
              <a:ext cx="2006640" cy="746280"/>
            </a:xfrm>
            <a:custGeom>
              <a:avLst/>
              <a:gdLst/>
              <a:ahLst/>
              <a:rect l="l" t="t" r="r" b="b"/>
              <a:pathLst>
                <a:path w="7042" h="2612">
                  <a:moveTo>
                    <a:pt x="24" y="3"/>
                  </a:moveTo>
                  <a:lnTo>
                    <a:pt x="6892" y="2514"/>
                  </a:lnTo>
                  <a:cubicBezTo>
                    <a:pt x="6900" y="2517"/>
                    <a:pt x="6905" y="2526"/>
                    <a:pt x="6902" y="2535"/>
                  </a:cubicBezTo>
                  <a:cubicBezTo>
                    <a:pt x="6898" y="2544"/>
                    <a:pt x="6889" y="2548"/>
                    <a:pt x="6880" y="2545"/>
                  </a:cubicBezTo>
                  <a:lnTo>
                    <a:pt x="13" y="34"/>
                  </a:lnTo>
                  <a:cubicBezTo>
                    <a:pt x="4" y="31"/>
                    <a:pt x="0" y="21"/>
                    <a:pt x="3" y="13"/>
                  </a:cubicBezTo>
                  <a:cubicBezTo>
                    <a:pt x="6" y="4"/>
                    <a:pt x="16" y="0"/>
                    <a:pt x="24" y="3"/>
                  </a:cubicBezTo>
                  <a:close/>
                  <a:moveTo>
                    <a:pt x="6889" y="2424"/>
                  </a:moveTo>
                  <a:lnTo>
                    <a:pt x="7042" y="2586"/>
                  </a:lnTo>
                  <a:lnTo>
                    <a:pt x="6820" y="2612"/>
                  </a:lnTo>
                  <a:lnTo>
                    <a:pt x="6889" y="242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305160" y="2727360"/>
              <a:ext cx="12700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adiant heati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306600" y="305748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29000" y="3429000"/>
              <a:ext cx="12063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hybrid heati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544840" y="368928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2054160" y="1052640"/>
              <a:ext cx="6052680" cy="3046320"/>
              <a:chOff x="2054160" y="1052640"/>
              <a:chExt cx="6052680" cy="304632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7705440" y="1052640"/>
                <a:ext cx="401400" cy="322200"/>
                <a:chOff x="7705440" y="1052640"/>
                <a:chExt cx="401400" cy="3222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7803720" y="1052640"/>
                  <a:ext cx="303120" cy="27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H="1">
                  <a:off x="7705440" y="1254240"/>
                  <a:ext cx="166680" cy="12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7633800" y="2533680"/>
                <a:ext cx="402120" cy="322200"/>
                <a:chOff x="7633800" y="2533680"/>
                <a:chExt cx="402120" cy="32220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7732440" y="2533680"/>
                  <a:ext cx="303480" cy="27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flipH="1">
                  <a:off x="7633800" y="2735280"/>
                  <a:ext cx="166680" cy="12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2054160" y="3795840"/>
                <a:ext cx="393840" cy="303120"/>
                <a:chOff x="2054160" y="3795840"/>
                <a:chExt cx="393840" cy="30312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2054160" y="3825360"/>
                  <a:ext cx="303480" cy="27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>
                  <a:off x="2280960" y="3795840"/>
                  <a:ext cx="167040" cy="12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5" name=""/>
          <p:cNvSpPr/>
          <p:nvPr/>
        </p:nvSpPr>
        <p:spPr>
          <a:xfrm>
            <a:off x="854640" y="579600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"/>
          <p:cNvGrpSpPr/>
          <p:nvPr/>
        </p:nvGrpSpPr>
        <p:grpSpPr>
          <a:xfrm>
            <a:off x="1035000" y="1112760"/>
            <a:ext cx="7070040" cy="4630680"/>
            <a:chOff x="1035000" y="1112760"/>
            <a:chExt cx="7070040" cy="4630680"/>
          </a:xfrm>
        </p:grpSpPr>
        <p:grpSp>
          <p:nvGrpSpPr>
            <p:cNvPr id="617" name=""/>
            <p:cNvGrpSpPr/>
            <p:nvPr/>
          </p:nvGrpSpPr>
          <p:grpSpPr>
            <a:xfrm>
              <a:off x="1035000" y="1112760"/>
              <a:ext cx="6713280" cy="4630680"/>
              <a:chOff x="1035000" y="1112760"/>
              <a:chExt cx="6713280" cy="4630680"/>
            </a:xfrm>
          </p:grpSpPr>
          <p:grpSp>
            <p:nvGrpSpPr>
              <p:cNvPr id="618" name=""/>
              <p:cNvGrpSpPr/>
              <p:nvPr/>
            </p:nvGrpSpPr>
            <p:grpSpPr>
              <a:xfrm>
                <a:off x="1035000" y="1112760"/>
                <a:ext cx="6713280" cy="2263320"/>
                <a:chOff x="1035000" y="1112760"/>
                <a:chExt cx="6713280" cy="2263320"/>
              </a:xfrm>
            </p:grpSpPr>
            <p:pic>
              <p:nvPicPr>
                <p:cNvPr id="619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035000" y="1112760"/>
                  <a:ext cx="2958120" cy="2263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00600" y="1112760"/>
                  <a:ext cx="2947680" cy="2263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2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901600" y="3480120"/>
                <a:ext cx="2979000" cy="226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22" name=""/>
            <p:cNvSpPr/>
            <p:nvPr/>
          </p:nvSpPr>
          <p:spPr>
            <a:xfrm>
              <a:off x="3991680" y="2741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768800" y="27417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890320" y="5130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854640" y="579600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"/>
          <p:cNvGrpSpPr/>
          <p:nvPr/>
        </p:nvGrpSpPr>
        <p:grpSpPr>
          <a:xfrm>
            <a:off x="247680" y="988920"/>
            <a:ext cx="8648640" cy="3403800"/>
            <a:chOff x="247680" y="988920"/>
            <a:chExt cx="8648640" cy="3403800"/>
          </a:xfrm>
        </p:grpSpPr>
        <p:pic>
          <p:nvPicPr>
            <p:cNvPr id="627" name="" descr=""/>
            <p:cNvPicPr/>
            <p:nvPr/>
          </p:nvPicPr>
          <p:blipFill>
            <a:blip r:embed="rId1"/>
            <a:stretch/>
          </p:blipFill>
          <p:spPr>
            <a:xfrm>
              <a:off x="247680" y="1735200"/>
              <a:ext cx="8648640" cy="265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8" name=""/>
            <p:cNvGrpSpPr/>
            <p:nvPr/>
          </p:nvGrpSpPr>
          <p:grpSpPr>
            <a:xfrm>
              <a:off x="1676520" y="988920"/>
              <a:ext cx="6538680" cy="2006640"/>
              <a:chOff x="1676520" y="988920"/>
              <a:chExt cx="6538680" cy="200664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6515280" y="988920"/>
                <a:ext cx="1699920" cy="620640"/>
                <a:chOff x="6515280" y="988920"/>
                <a:chExt cx="1699920" cy="62064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6515280" y="988920"/>
                  <a:ext cx="1699920" cy="620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7369560" y="1232280"/>
                  <a:ext cx="132480" cy="1324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673400" y="1232280"/>
                  <a:ext cx="132480" cy="1324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7990560" y="1232280"/>
                  <a:ext cx="132480" cy="1324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" name=""/>
              <p:cNvSpPr/>
              <p:nvPr/>
            </p:nvSpPr>
            <p:spPr>
              <a:xfrm flipH="1">
                <a:off x="1676520" y="1293840"/>
                <a:ext cx="5765760" cy="167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4457880" y="1305000"/>
                <a:ext cx="3279600" cy="168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7513560" y="1295280"/>
                <a:ext cx="540000" cy="170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45160" y="1011240"/>
                <a:ext cx="81612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amp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8" name=""/>
          <p:cNvSpPr/>
          <p:nvPr/>
        </p:nvSpPr>
        <p:spPr>
          <a:xfrm>
            <a:off x="854640" y="579600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817640" y="996840"/>
            <a:ext cx="5506920" cy="48643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854640" y="579600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g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10:46:58Z</dcterms:created>
  <dc:creator>Jon Binner</dc:creator>
  <dc:description/>
  <dc:language>en-US</dc:language>
  <cp:lastModifiedBy>lbke</cp:lastModifiedBy>
  <dcterms:modified xsi:type="dcterms:W3CDTF">2008-02-06T09:03:58Z</dcterms:modified>
  <cp:revision>19</cp:revision>
  <dc:subject/>
  <dc:title>Slide 1</dc:title>
</cp:coreProperties>
</file>